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gif" ContentType="image/gif"/>
  <Override PartName="/ppt/media/image5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50.jpeg" ContentType="image/jpeg"/>
  <Override PartName="/ppt/media/image44.jpeg" ContentType="image/jpeg"/>
  <Override PartName="/ppt/media/image31.jpeg" ContentType="image/jpeg"/>
  <Override PartName="/ppt/media/image48.jpeg" ContentType="image/jpeg"/>
  <Override PartName="/ppt/media/image45.jpeg" ContentType="image/jpeg"/>
  <Override PartName="/ppt/media/image46.jpeg" ContentType="image/jpeg"/>
  <Override PartName="/ppt/media/image53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0DC-03ED-4418-A43D-6070238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F97-8114-4082-B9CE-AF0C178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666-DD60-419B-9598-98E2417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C97-A24D-49B9-A6E6-DFF04851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555-2D71-4312-BFB1-9695BED7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C71-630B-4ABC-B6DB-EF6AC15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CD38-C8B0-4AA7-8E04-BC4EB1A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C8BA-E6AB-4728-9B17-09C43A0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9791-79EE-4DC2-8F92-99A87554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3379-7B67-44AE-A4CA-384F69B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CB2-07EA-471F-9D2C-4737910C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22A-EC10-4BAD-BEE1-5F0F9E4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7E7-3855-4387-BFCF-D8360AE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ABA-A3E0-4BCB-92D2-A5AEF5A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5DF-10FD-4555-9C3E-5B1868E3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59C-DADD-4839-9465-956B2382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F08-4528-4E05-8760-C89D1ACF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9E4-0C0A-4A6F-B6B4-D64C024A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54B-6331-4635-9608-7BE233E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F29-C9C0-491B-A4E9-AC11F08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BF5-0A9E-4ECA-B06A-4C77BD9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FDB-E59B-447C-A8BE-7D93F44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EA3-CB30-406E-AA75-D55E48B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894-B7BB-40E3-B0E2-70DE5EB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0B0-D301-4449-B050-90878A0800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7506-B11A-4AFA-B05D-85CB77B2B0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1197000"/>
            <a:ext cx="79200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为理想插上翅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716280"/>
            <a:ext cx="799308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860640"/>
            <a:ext cx="748800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4025880"/>
            <a:ext cx="640872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221000"/>
            <a:ext cx="460836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437000"/>
            <a:ext cx="280800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5920" y="4653000"/>
            <a:ext cx="1944720" cy="0"/>
          </a:xfrm>
          <a:prstGeom prst="line">
            <a:avLst/>
          </a:prstGeom>
          <a:ln w="381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4941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高一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0.0)">
                                      <p:cBhvr>
                                        <p:cTn id="13" dur="30307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41520" y="1706400"/>
            <a:ext cx="2592360" cy="280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0280" y="333360"/>
            <a:ext cx="359568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275904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3359160" cy="4551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92520" y="123840"/>
            <a:ext cx="5329080" cy="6453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95640" y="836640"/>
            <a:ext cx="6599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插上翅膀，我就是雄鹰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71640" y="371628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I believe I can fly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92360" y="2084400"/>
            <a:ext cx="65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impossible is nothing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in my lif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1239840" cy="1368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916360" y="4800600"/>
            <a:ext cx="55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万事皆可能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71640" y="907920"/>
            <a:ext cx="5827680" cy="217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未来不是梦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87640" y="4292640"/>
            <a:ext cx="554508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梦想改变人生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1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0.0)">
                                      <p:cBhvr>
                                        <p:cTn id="4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514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647800" y="25092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08720" y="40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西安科技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424720" cy="597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3197160" cy="29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2050920" cy="237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258920" y="476280"/>
            <a:ext cx="2378160" cy="231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283440" y="3645000"/>
            <a:ext cx="2860560" cy="2663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56000" y="333360"/>
            <a:ext cx="2232000" cy="199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564000" y="3789360"/>
            <a:ext cx="2879640" cy="2585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95640" y="476280"/>
            <a:ext cx="676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信自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52720" y="4005360"/>
            <a:ext cx="4249800" cy="253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5640" y="596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0.0)">
                                      <p:cBhvr>
                                        <p:cTn id="228" dur="17376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84360" y="836640"/>
            <a:ext cx="640080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板凳要坐十年冷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在这个喧嚣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时代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谁最耐得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寂寞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谁就最有可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笑到最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25960" y="123840"/>
            <a:ext cx="4124520" cy="6381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730" t="2532" r="3570" b="2608"/>
          <a:stretch/>
        </p:blipFill>
        <p:spPr>
          <a:xfrm>
            <a:off x="2340000" y="1628640"/>
            <a:ext cx="29527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4:49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42:39Z</dcterms:modified>
  <cp:revision>42</cp:revision>
  <dc:subject>主题班会课件(分28大类): http://shop62905894.taobao.com</dc:subject>
  <dc:title>主题班会课件(分28大类): http://shop62905894.taobao.com</dc:title>
</cp:coreProperties>
</file>