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1B40-564E-4BB8-98A8-3CB44CEA5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A99B-7216-4044-A44B-83FD3C7B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60C3-8C24-4465-8FB4-7EA80AE2D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D119-1EE9-4B5F-B70D-588E06220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2EC4-691F-4FD5-9629-57A9CB3B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E1B6-3FA7-4315-BC2E-5E8629A1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F956-E96B-4ED5-B40C-CD1B7C1A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A350-4E24-4836-A590-146288F2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680A-12AA-4034-A700-C7C50211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181D-295B-4B9D-94C1-F139C678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C58D-FCD8-4FD9-8F5C-28024CE8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E56F-F095-4135-B80B-FE13609E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C473-9AF0-4E5E-AD8C-C5886E5336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29040" y="1066680"/>
            <a:ext cx="5291280" cy="5581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5400000">
            <a:off x="-762480" y="1599840"/>
            <a:ext cx="5715000" cy="2514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49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为了未来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     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做好现在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新魏"/>
              </a:rPr>
              <a:t>徐丹青同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600200"/>
            <a:ext cx="84582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期中            </a:t>
            </a:r>
            <a:r>
              <a:rPr b="1" lang="zh-CN" sz="4000" spc="-1" strike="noStrike">
                <a:solidFill>
                  <a:srgbClr val="6600cc"/>
                </a:solidFill>
                <a:latin typeface="华文中宋"/>
                <a:ea typeface="华文中宋"/>
              </a:rPr>
              <a:t>期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三科总分排名      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508            </a:t>
            </a:r>
            <a:r>
              <a:rPr b="1" lang="zh-CN" sz="4000" spc="-1" strike="noStrike">
                <a:solidFill>
                  <a:srgbClr val="6600cc"/>
                </a:solidFill>
                <a:latin typeface="华文中宋"/>
                <a:ea typeface="华文中宋"/>
              </a:rPr>
              <a:t>38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                  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（进步了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125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名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01920" y="4095720"/>
            <a:ext cx="681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华文行楷"/>
                <a:ea typeface="华文行楷"/>
              </a:rPr>
              <a:t>1</a:t>
            </a:r>
            <a:r>
              <a:rPr b="1" lang="zh-CN" sz="3600" spc="-1" strike="noStrike">
                <a:solidFill>
                  <a:srgbClr val="6600cc"/>
                </a:solidFill>
                <a:latin typeface="华文行楷"/>
                <a:ea typeface="华文行楷"/>
              </a:rPr>
              <a:t>、上课时，认真地听，边听边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华文行楷"/>
                <a:ea typeface="华文行楷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华文行楷"/>
                <a:ea typeface="华文行楷"/>
              </a:rPr>
              <a:t>、下课后，再用</a:t>
            </a:r>
            <a:r>
              <a:rPr b="1" lang="zh-CN" sz="3600" spc="-1" strike="noStrike">
                <a:solidFill>
                  <a:srgbClr val="6600cc"/>
                </a:solidFill>
                <a:latin typeface="华文行楷"/>
                <a:ea typeface="华文行楷"/>
              </a:rPr>
              <a:t>3~4</a:t>
            </a:r>
            <a:r>
              <a:rPr b="1" lang="zh-CN" sz="3600" spc="-1" strike="noStrike">
                <a:solidFill>
                  <a:srgbClr val="6600cc"/>
                </a:solidFill>
                <a:latin typeface="华文行楷"/>
                <a:ea typeface="华文行楷"/>
              </a:rPr>
              <a:t>分钟回顾上一节课的内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33520" y="4572000"/>
            <a:ext cx="14396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6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3124080" y="1066680"/>
            <a:ext cx="38102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希望之星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260160"/>
            <a:ext cx="5943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0066"/>
                </a:solidFill>
                <a:latin typeface="隶书"/>
                <a:ea typeface="隶书"/>
              </a:rPr>
              <a:t>—“</a:t>
            </a:r>
            <a:r>
              <a:rPr b="1" lang="zh-CN" sz="8000" spc="-1" strike="noStrike">
                <a:solidFill>
                  <a:srgbClr val="cc0066"/>
                </a:solidFill>
                <a:latin typeface="隶书"/>
                <a:ea typeface="隶书"/>
              </a:rPr>
              <a:t>X”</a:t>
            </a:r>
            <a:r>
              <a:rPr b="1" lang="zh-CN" sz="8000" spc="-1" strike="noStrike">
                <a:solidFill>
                  <a:srgbClr val="cc0066"/>
                </a:solidFill>
                <a:latin typeface="隶书"/>
                <a:ea typeface="隶书"/>
              </a:rPr>
              <a:t>科动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77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" dur="770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7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048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411280" y="1447920"/>
            <a:ext cx="4370400" cy="49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6600cc"/>
                </a:solidFill>
                <a:latin typeface="Times New Roman"/>
              </a:rPr>
              <a:t>            </a:t>
            </a:r>
            <a:r>
              <a:rPr b="1" i="1" lang="zh-CN" sz="36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想 过成功，想过失败，但从未想过放弃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5796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一、析往昔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做总结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371600" y="5072040"/>
            <a:ext cx="2286000" cy="1569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324320" y="5384880"/>
            <a:ext cx="1035000" cy="1320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695920" y="5613480"/>
            <a:ext cx="857160" cy="1092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6915240" y="5816520"/>
            <a:ext cx="677880" cy="863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7824960" y="5994360"/>
            <a:ext cx="537840" cy="685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9480" y="4114800"/>
            <a:ext cx="1741680" cy="2117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新魏"/>
              </a:rPr>
              <a:t>何伟欢同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期末考试成绩排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班里的第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级里的第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00720" y="4191120"/>
            <a:ext cx="4082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学习的感觉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: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累、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学习是人生。学习为我们创造了一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大舞台，让你在这个多姿多彩的舞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体味各种酸、甜、苦、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705720" y="4724280"/>
            <a:ext cx="1439640" cy="1657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新魏"/>
              </a:rPr>
              <a:t>廖冰同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期末考试成绩排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班里的第 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级里的第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11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56320" y="4191120"/>
            <a:ext cx="5154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不要逼得自己太紧，累的时候去感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一下大自然，感受生活多么美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心情愉快，学习自然不觉得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在学中乐！把学习当作一种快乐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4114800"/>
            <a:ext cx="1741320" cy="2117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新魏"/>
              </a:rPr>
              <a:t>唐锦鹏同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期末考试成绩排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班里的第 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级里的第 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34 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13400" y="4191120"/>
            <a:ext cx="4082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、不要预习，但要多复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、多做练习、多休息、多锻炼身体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多笑一点、多做总结、多想为什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、把握好学习时间，别想走捷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4114800"/>
            <a:ext cx="1741320" cy="21178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新魏"/>
              </a:rPr>
              <a:t>黄伟同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600200"/>
            <a:ext cx="84582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期中            </a:t>
            </a:r>
            <a:r>
              <a:rPr b="1" lang="zh-CN" sz="4000" spc="-1" strike="noStrike">
                <a:solidFill>
                  <a:srgbClr val="6600cc"/>
                </a:solidFill>
                <a:latin typeface="华文中宋"/>
                <a:ea typeface="华文中宋"/>
              </a:rPr>
              <a:t>期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八科总分排名      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517            </a:t>
            </a:r>
            <a:r>
              <a:rPr b="1" lang="zh-CN" sz="4000" spc="-1" strike="noStrike">
                <a:solidFill>
                  <a:srgbClr val="6600cc"/>
                </a:solidFill>
                <a:latin typeface="华文中宋"/>
                <a:ea typeface="华文中宋"/>
              </a:rPr>
              <a:t>37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                  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（进步了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140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名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48360" y="4114800"/>
            <a:ext cx="983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华文行楷"/>
                <a:ea typeface="华文行楷"/>
              </a:rPr>
              <a:t>1</a:t>
            </a:r>
            <a:r>
              <a:rPr b="1" lang="zh-CN" sz="3600" spc="-1" strike="noStrike">
                <a:solidFill>
                  <a:srgbClr val="6600cc"/>
                </a:solidFill>
                <a:latin typeface="华文行楷"/>
                <a:ea typeface="华文行楷"/>
              </a:rPr>
              <a:t>、把握好时间，善于安排时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华文行楷"/>
                <a:ea typeface="华文行楷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华文行楷"/>
                <a:ea typeface="华文行楷"/>
              </a:rPr>
              <a:t>、注重学科的基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华文行楷"/>
                <a:ea typeface="华文行楷"/>
              </a:rPr>
              <a:t>3</a:t>
            </a:r>
            <a:r>
              <a:rPr b="1" lang="zh-CN" sz="3600" spc="-1" strike="noStrike">
                <a:solidFill>
                  <a:srgbClr val="6600cc"/>
                </a:solidFill>
                <a:latin typeface="华文行楷"/>
                <a:ea typeface="华文行楷"/>
              </a:rPr>
              <a:t>、分好学科之间的调节过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华文行楷"/>
                <a:ea typeface="华文行楷"/>
              </a:rPr>
              <a:t>4</a:t>
            </a:r>
            <a:r>
              <a:rPr b="1" lang="zh-CN" sz="3600" spc="-1" strike="noStrike">
                <a:solidFill>
                  <a:srgbClr val="6600cc"/>
                </a:solidFill>
                <a:latin typeface="华文行楷"/>
                <a:ea typeface="华文行楷"/>
              </a:rPr>
              <a:t>、劳逸结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312840"/>
            <a:ext cx="1905120" cy="1668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720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新魏"/>
              </a:rPr>
              <a:t>梁艳羽同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2057400"/>
            <a:ext cx="84582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期中            </a:t>
            </a:r>
            <a:r>
              <a:rPr b="1" lang="zh-CN" sz="4000" spc="-1" strike="noStrike">
                <a:solidFill>
                  <a:srgbClr val="6600cc"/>
                </a:solidFill>
                <a:latin typeface="华文中宋"/>
                <a:ea typeface="华文中宋"/>
              </a:rPr>
              <a:t>期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三科总分排名      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500            </a:t>
            </a:r>
            <a:r>
              <a:rPr b="1" lang="zh-CN" sz="4000" spc="-1" strike="noStrike">
                <a:solidFill>
                  <a:srgbClr val="6600cc"/>
                </a:solidFill>
                <a:latin typeface="华文中宋"/>
                <a:ea typeface="华文中宋"/>
              </a:rPr>
              <a:t>38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                  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（进步了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113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名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69240" y="4340160"/>
            <a:ext cx="76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华文行楷"/>
                <a:ea typeface="华文行楷"/>
              </a:rPr>
              <a:t>1</a:t>
            </a:r>
            <a:r>
              <a:rPr b="1" lang="zh-CN" sz="3600" spc="-1" strike="noStrike">
                <a:solidFill>
                  <a:srgbClr val="6600cc"/>
                </a:solidFill>
                <a:latin typeface="华文行楷"/>
                <a:ea typeface="华文行楷"/>
              </a:rPr>
              <a:t>、欲要进步，须懂得复习，须懂得扎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华文行楷"/>
                <a:ea typeface="华文行楷"/>
              </a:rPr>
              <a:t>好自己的基础知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华文行楷"/>
                <a:ea typeface="华文行楷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华文行楷"/>
                <a:ea typeface="华文行楷"/>
              </a:rPr>
              <a:t>、选择在自己的手上，想要进步的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华文行楷"/>
                <a:ea typeface="华文行楷"/>
              </a:rPr>
              <a:t>方是学习进步最重要的原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09480" y="4114800"/>
            <a:ext cx="1741680" cy="2117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新魏"/>
              </a:rPr>
              <a:t>黄国彬同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1600200"/>
            <a:ext cx="84582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期中            </a:t>
            </a:r>
            <a:r>
              <a:rPr b="1" lang="zh-CN" sz="4000" spc="-1" strike="noStrike">
                <a:solidFill>
                  <a:srgbClr val="6600cc"/>
                </a:solidFill>
                <a:latin typeface="华文中宋"/>
                <a:ea typeface="华文中宋"/>
              </a:rPr>
              <a:t>期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三科总分排名      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508            </a:t>
            </a:r>
            <a:r>
              <a:rPr b="1" lang="zh-CN" sz="4000" spc="-1" strike="noStrike">
                <a:solidFill>
                  <a:srgbClr val="6600cc"/>
                </a:solidFill>
                <a:latin typeface="华文中宋"/>
                <a:ea typeface="华文中宋"/>
              </a:rPr>
              <a:t>2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                  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（进步了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268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名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048120" y="4191120"/>
            <a:ext cx="53337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宋体"/>
              </a:rPr>
              <a:t>对学习感兴趣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新魏"/>
              </a:rPr>
              <a:t>黄浮云同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4920" y="4114800"/>
            <a:ext cx="1741320" cy="2117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209680" y="4095720"/>
            <a:ext cx="6818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华文行楷"/>
                <a:ea typeface="华文行楷"/>
              </a:rPr>
              <a:t>1</a:t>
            </a:r>
            <a:r>
              <a:rPr b="1" lang="zh-CN" sz="3600" spc="-1" strike="noStrike">
                <a:solidFill>
                  <a:srgbClr val="6600cc"/>
                </a:solidFill>
                <a:latin typeface="华文行楷"/>
                <a:ea typeface="华文行楷"/>
              </a:rPr>
              <a:t>、听好课，仔细体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华文行楷"/>
                <a:ea typeface="华文行楷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华文行楷"/>
                <a:ea typeface="华文行楷"/>
              </a:rPr>
              <a:t>、及时做练习巩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华文行楷"/>
                <a:ea typeface="华文行楷"/>
              </a:rPr>
              <a:t>3</a:t>
            </a:r>
            <a:r>
              <a:rPr b="1" lang="zh-CN" sz="3600" spc="-1" strike="noStrike">
                <a:solidFill>
                  <a:srgbClr val="6600cc"/>
                </a:solidFill>
                <a:latin typeface="华文行楷"/>
                <a:ea typeface="华文行楷"/>
              </a:rPr>
              <a:t>、在适当的时间做适当的练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华文行楷"/>
                <a:ea typeface="华文行楷"/>
              </a:rPr>
              <a:t>4</a:t>
            </a:r>
            <a:r>
              <a:rPr b="1" lang="zh-CN" sz="3600" spc="-1" strike="noStrike">
                <a:solidFill>
                  <a:srgbClr val="6600cc"/>
                </a:solidFill>
                <a:latin typeface="华文行楷"/>
                <a:ea typeface="华文行楷"/>
              </a:rPr>
              <a:t>、坚持劳逸结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990720"/>
            <a:ext cx="89154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期中            </a:t>
            </a:r>
            <a:r>
              <a:rPr b="1" lang="zh-CN" sz="3200" spc="-1" strike="noStrike">
                <a:solidFill>
                  <a:srgbClr val="6600cc"/>
                </a:solidFill>
                <a:latin typeface="华文中宋"/>
                <a:ea typeface="华文中宋"/>
              </a:rPr>
              <a:t>期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八科总分排名    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432           </a:t>
            </a:r>
            <a:r>
              <a:rPr b="1" lang="zh-CN" sz="3200" spc="-1" strike="noStrike">
                <a:solidFill>
                  <a:srgbClr val="6600cc"/>
                </a:solidFill>
                <a:latin typeface="华文中宋"/>
                <a:ea typeface="华文中宋"/>
              </a:rPr>
              <a:t>3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（进步了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124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三科总分排名    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343            </a:t>
            </a:r>
            <a:r>
              <a:rPr b="1" lang="zh-CN" sz="3200" spc="-1" strike="noStrike">
                <a:solidFill>
                  <a:srgbClr val="6600cc"/>
                </a:solidFill>
                <a:latin typeface="华文中宋"/>
                <a:ea typeface="华文中宋"/>
              </a:rPr>
              <a:t>2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（进步了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137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3:24:17Z</dcterms:modified>
  <cp:revision>18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