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2CF8-3ABA-476B-85C1-1AAA4D212E7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ABE2-5804-44CB-982D-DE9527DFB68E}" type="slidenum">
              <a:rPr b="0" lang="zh-CN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2953-1291-4593-8CAE-995FE522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C23-08C0-46AB-916D-49B1639D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8F0-2A52-47B2-BA58-BF7F21A0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1801-FD86-456B-A6D0-DF69D19C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3002-B1C5-4FC8-8895-46ECDE7E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C57A-CE3B-4F97-917A-47463A15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CD55-6685-49BF-8B37-109A43A3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99F7-E1C4-4825-9798-9EDA7C83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2740-14F0-4AAA-A22E-14AC4003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42D8-6A5F-4730-B520-B487F2CA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DB07-3847-4CE2-9830-24B5791E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2234-5447-4910-9C8C-1AB91DCD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7524-29BE-4233-AD97-4575AD49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BD3D-892D-406D-A2EF-9B8DFE14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51BE-2FD9-4107-BBE2-532D3C41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6C12-8823-4140-932E-17AD9B7E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8B4A-276B-444A-9B05-5B797697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784-7B6C-439F-B602-3AE2F1D3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26A-83DE-4D46-BBC9-CAF5A608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E87-6EFB-4D20-A4B8-E817EF6A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FF4-156C-42CA-B026-1570F98C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DEC-5C13-4FA7-8C5E-91E6E482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CFC-F328-4B82-AE42-610465C2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895-BA5F-4866-B415-7AD8C56D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D:\FRONTPAGE THEMES\ARTSY\ARTHSEPA.PNG"/>
            <p:cNvPicPr/>
            <p:nvPr/>
          </p:nvPicPr>
          <p:blipFill>
            <a:blip r:embed="rId2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P:\!Themes\Artsy\Arthsepa.gif"/>
            <p:cNvPicPr/>
            <p:nvPr/>
          </p:nvPicPr>
          <p:blipFill>
            <a:blip r:embed="rId3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981C-822B-499B-87D5-ED72B710891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A10C-EAD0-4494-8518-24F7912A985D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D:\FRONTPAGE THEMES\ARTSY\ARTBANNA.PNG"/>
            <p:cNvPicPr/>
            <p:nvPr/>
          </p:nvPicPr>
          <p:blipFill>
            <a:blip r:embed="rId2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P:\!Themes\Artsy\Arthsepa.gif"/>
            <p:cNvPicPr/>
            <p:nvPr/>
          </p:nvPicPr>
          <p:blipFill>
            <a:blip r:embed="rId3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1D9C-4B12-43C7-8093-826105D9A556}" type="datetime">
              <a:rPr b="0" lang="zh-CN" sz="1400" spc="-1" strike="noStrike">
                <a:solidFill>
                  <a:srgbClr val="ffffcc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C50C-0A11-492C-B1E6-98448E23FEE9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&#26700;&#38754;/&#25104;&#21151;&#26631;&#20934;&#30340;&#22810;&#26679;&#24615;.doc" TargetMode="External"/><Relationship Id="rId2" Type="http://schemas.openxmlformats.org/officeDocument/2006/relationships/hyperlink" Target="file:///C:/Documents%20and%20Settings/Administrator/&#26700;&#38754;/&#25104;&#21151;&#26631;&#20934;&#30340;&#22810;&#26679;&#24615;.doc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&#26700;&#38754;/&#20851;&#20110;&#32844;&#19994;&#29983;&#28079;&#35268;&#21010;&#30340;&#23567;&#35843;&#26597;.doc" TargetMode="External"/><Relationship Id="rId2" Type="http://schemas.openxmlformats.org/officeDocument/2006/relationships/hyperlink" Target="file:///C:/Documents%20and%20Settings/Administrator/&#26700;&#38754;/&#20851;&#20110;&#32844;&#19994;&#29983;&#28079;&#35268;&#21010;&#30340;&#23567;&#35843;&#26597;.doc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&#26700;&#38754;/&#39532;&#26031;&#27931;&#30340;&#38656;&#27714;&#23618;&#27425;&#29702;&#35770;&#21450;&#20854;&#25299;&#23637;.doc" TargetMode="External"/><Relationship Id="rId2" Type="http://schemas.openxmlformats.org/officeDocument/2006/relationships/hyperlink" Target="file:///C:/Documents%20and%20Settings/Administrator/&#26700;&#38754;/&#39532;&#26031;&#27931;&#30340;&#38656;&#27714;&#23618;&#27425;&#29702;&#35770;&#21450;&#20854;&#25299;&#23637;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solidFill>
            <a:srgbClr val="fbcbf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职业生涯规划与管理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solidFill>
            <a:srgbClr val="bfede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华文行楷"/>
                <a:ea typeface="华文行楷"/>
              </a:rPr>
              <a:t>2.</a:t>
            </a:r>
            <a:r>
              <a:rPr b="1" lang="zh-CN" sz="4400" spc="-1" strike="noStrike">
                <a:solidFill>
                  <a:srgbClr val="ff33cc"/>
                </a:solidFill>
                <a:latin typeface="华文行楷"/>
                <a:ea typeface="华文行楷"/>
              </a:rPr>
              <a:t>人生价值的实现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941480"/>
            <a:ext cx="7162560" cy="4114800"/>
          </a:xfrm>
          <a:prstGeom prst="rect">
            <a:avLst/>
          </a:prstGeom>
          <a:solidFill>
            <a:srgbClr val="bfeded"/>
          </a:solidFill>
          <a:ln w="9360">
            <a:solidFill>
              <a:srgbClr val="c6fcfb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的价值组成：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社会价值；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我价值；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格价值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112680"/>
            <a:ext cx="8637480" cy="1371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华文行楷"/>
                <a:ea typeface="华文行楷"/>
              </a:rPr>
              <a:t>三、职业生涯与人生需求的满足</a:t>
            </a:r>
            <a:br>
              <a:rPr sz="4000"/>
            </a:br>
            <a:r>
              <a:rPr b="1" lang="zh-CN" sz="4000" spc="-1" strike="noStrike">
                <a:solidFill>
                  <a:srgbClr val="ff33cc"/>
                </a:solidFill>
                <a:latin typeface="华文行楷"/>
                <a:ea typeface="华文行楷"/>
              </a:rPr>
              <a:t>    和人生成功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职业生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职业生涯是以人的潜能开发为基础，以工作内容的确定和变化，工作业绩的评价，工资待遇、职称、职务的变动为标志，以满足需求为目标的工作经历和内心体验的经历。职业生涯是人一生中最重要的历程，是追求自我实现的重要人生阶段，对人生价值起着决定性作用。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方正舒体"/>
                <a:ea typeface="方正舒体"/>
              </a:rPr>
              <a:t>（二）职业生涯在人生中的作用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职业生涯在人生中占有重要的时间比例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职业生涯是人生需求满足的重要途径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职业生涯成功是人生成功的核心内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637480" cy="762120"/>
          </a:xfrm>
          <a:prstGeom prst="rect">
            <a:avLst/>
          </a:prstGeom>
          <a:solidFill>
            <a:srgbClr val="fbcbf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职业生涯成功方向和成功标准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915400" cy="4647960"/>
          </a:xfrm>
          <a:prstGeom prst="rect">
            <a:avLst/>
          </a:prstGeom>
          <a:solidFill>
            <a:srgbClr val="fbcbfa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6600"/>
                </a:solidFill>
                <a:uFillTx/>
                <a:latin typeface="Times New Roman"/>
                <a:hlinkClick r:id="rId1"/>
              </a:rPr>
              <a:t>成功标准的多样性.</a:t>
            </a:r>
            <a:r>
              <a:rPr b="0" lang="en-US" sz="3200" spc="-1" strike="noStrike" u="sng">
                <a:solidFill>
                  <a:srgbClr val="cc6600"/>
                </a:solidFill>
                <a:uFillTx/>
                <a:latin typeface="Times New Roman"/>
                <a:hlinkClick r:id="rId2"/>
              </a:rPr>
              <a:t>do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职业生涯成功的评价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职业生涯成功的评价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o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三）职业生涯不是人生的全部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生角色是多样化的，除了职业角色，还有家庭角色、朋友角色等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同角色不能互相替代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同角色需要不同的知识体系、能力体系、价值体系等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社会角色及其需求比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o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案例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拍卖你的生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solidFill>
            <a:srgbClr val="c6fcfb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四、制定职业生涯规划的必要性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952880"/>
          </a:xfrm>
          <a:prstGeom prst="rect">
            <a:avLst/>
          </a:prstGeom>
          <a:solidFill>
            <a:srgbClr val="fbcb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对个人的作用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人应对职业生涯危机的需要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危机是多方面的（以企业为例）：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企业外部：竞争失利；行业萎缩；职业萎缩；等等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企业内部：企业裁员；企业破产；企业并购；上级权力斗争；上级不公正；同级竞争；下级竞争；下级突然辞职；等等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身：知识、能力、观念落伍；重大疾病；人际关系处理不良；情绪智力薄弱；怀孕、生育；意外事故；等等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家庭：亲人病重；亲人去世；结婚；感情危机；婚变；家庭财产重大变化；等等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solidFill>
            <a:srgbClr val="c6fcf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我国教育中存在缺陷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solidFill>
            <a:srgbClr val="c6fcf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强调技术性教育，而轻视生活教育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功的人往往是两种教育共塑而成的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案例：蚯蚓的目标阶梯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o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评：蚯蚓在职业生涯方面缺乏的知识和能力：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不清美好愿望与目标的区别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没有处理好自己与企业的关系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总是抱怨，不懂得适应、利用和改变环境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议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蚯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们要学习规划和发展自己职业生涯的理论和方法。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40" dur="2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方正姚体"/>
                <a:ea typeface="方正姚体"/>
              </a:rPr>
              <a:t>比尔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方正姚体"/>
              </a:rPr>
              <a:t>·</a:t>
            </a:r>
            <a:r>
              <a:rPr b="1" lang="zh-CN" sz="4400" spc="-1" strike="noStrike">
                <a:solidFill>
                  <a:srgbClr val="ff0066"/>
                </a:solidFill>
                <a:latin typeface="方正姚体"/>
                <a:ea typeface="方正姚体"/>
              </a:rPr>
              <a:t>盖茨的</a:t>
            </a:r>
            <a:r>
              <a:rPr b="1" lang="zh-CN" sz="4400" spc="-1" strike="noStrike">
                <a:solidFill>
                  <a:srgbClr val="ff0066"/>
                </a:solidFill>
                <a:latin typeface="方正姚体"/>
                <a:ea typeface="方正姚体"/>
              </a:rPr>
              <a:t>11</a:t>
            </a:r>
            <a:r>
              <a:rPr b="1" lang="zh-CN" sz="4400" spc="-1" strike="noStrike">
                <a:solidFill>
                  <a:srgbClr val="ff0066"/>
                </a:solidFill>
                <a:latin typeface="方正姚体"/>
                <a:ea typeface="方正姚体"/>
              </a:rPr>
              <a:t>条准则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生活是不公平的，要去适应它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这世界并不会在意你的自尊。这世界指望在自我感觉良好之前先要有所成就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高中刚毕业你不会一年挣到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00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美元，你不会成为一个公司的副总裁，并拥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部装有电话的汽车，直到你将此职位和汽车电话都挣到手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如果你认为你的老师严厉，等你当了老板再这样想。老板可是没有任何任期限制的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烙牛肉饼并不有失你的尊严。你的祖父母对烙牛肉饼可有不同的定义，他们称它为机遇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solidFill>
            <a:srgbClr val="c6fcf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课程主要内容和目的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4027320" cy="4151160"/>
          </a:xfrm>
          <a:prstGeom prst="rect">
            <a:avLst/>
          </a:prstGeom>
          <a:solidFill>
            <a:srgbClr val="fbcbf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主要内容：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生发展与职业生涯规划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职业知识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职业指导与服务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职业生涯基本理论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职业生涯规划的步骤与方法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08280" y="1904760"/>
            <a:ext cx="4028760" cy="4151160"/>
          </a:xfrm>
          <a:prstGeom prst="rect">
            <a:avLst/>
          </a:prstGeom>
          <a:solidFill>
            <a:srgbClr val="fbcb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职方法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职业适应与发展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职业生涯规划与管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工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庭平衡计划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08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如果你陷入困境那不是你父母的过错，所以不要抱怨他们的错误，要从中汲取教训，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在你出生之前，你的父母并非像他们现在这样乏味。他们变成今天这个样子是因为这些年来一直在为你付账单，给你洗衣服，听你大谈如何地酷。所以如果你想消灭你父母那一辈子中的“寄生虫”来拯救雨林的话，还是先去清除你房间衣柜里的虫子吧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你的学校也许已经不再分优等生和劣等生，但生活中却仍在作出类似区分。在某些学校已经废除不及格分，只要你想找到正确答案，学校会给你无数次机会。这和现实生活中的任何事情没有一点相似之处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8680" y="1676520"/>
            <a:ext cx="820872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生活不分学期。你并没有暑假可以休息，也没有几位雇主乐于帮助你发现自我。自己找时间做吧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电视不是真实的生活。在现实生活中，人们实际上得离开咖啡屋去干自己的工作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善待乏味的人。有可能到头来你会为一个乏味的人工作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2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8680" y="1600200"/>
            <a:ext cx="8208720" cy="4456080"/>
          </a:xfrm>
          <a:prstGeom prst="rect">
            <a:avLst/>
          </a:prstGeom>
          <a:solidFill>
            <a:srgbClr val="fbcb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涯规划有助于个人充分了解自己和环境，进而确立正确的职业方向和发展目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制定有效的行动计划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涯规划有助于个人抓住工作重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增加成功的可能性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规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利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导个人集中精力在自己的优势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更好地发挥潜能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涯规划能够监督、提醒个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省并修正职业生涯目标，以适应环境的改变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4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4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1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8680" y="1676520"/>
            <a:ext cx="8208720" cy="4379760"/>
          </a:xfrm>
          <a:prstGeom prst="rect">
            <a:avLst/>
          </a:prstGeom>
          <a:solidFill>
            <a:srgbClr val="fbcb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对组织的作用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规划能保证组织未来人才的需要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规划能使组织留住优秀人才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规划能使组织的人力资源得到有效开发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609120"/>
            <a:ext cx="8637480" cy="762120"/>
          </a:xfrm>
          <a:prstGeom prst="rect">
            <a:avLst/>
          </a:prstGeom>
          <a:solidFill>
            <a:srgbClr val="fbcbfa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课程主要目的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solidFill>
            <a:srgbClr val="fbcbfa"/>
          </a:solidFill>
          <a:ln w="9360">
            <a:solidFill>
              <a:srgbClr val="cc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希望通过课程学习，各位同学不仅能够知晓职业生涯规划有关的理论知识，而且能够科学有效地为自己规划出清晰的职业生涯，并初步掌握职业生涯管理的方法和技能，为将来的职业成功奠定基础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华文行楷"/>
                <a:ea typeface="华文行楷"/>
              </a:rPr>
              <a:t>序 言     人生发展与职业生涯规划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4593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学习中我们对自己职业生涯发展前景的认识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楚？ 迷惑？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 u="sng">
                <a:solidFill>
                  <a:srgbClr val="cc6600"/>
                </a:solidFill>
                <a:uFillTx/>
                <a:latin typeface="Arial"/>
                <a:hlinkClick r:id="rId1"/>
              </a:rPr>
              <a:t>关于职业生涯规划的小调查.</a:t>
            </a: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do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职业生涯认识所经历的阶段：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知道自己是迷惑还是清醒；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迷迷糊糊地觉得自己很迷惑；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三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迷迷糊糊地以为自己很清楚；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四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常清楚地知道自己很迷惑；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五）非常清醒地知道自己很清楚。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华文行楷"/>
                <a:ea typeface="华文行楷"/>
              </a:rPr>
              <a:t>二、人生发展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生命周期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生生物生命周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向性、不可逆性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生社会生命周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向性、可重复性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人生发展阶段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年期、少年期、青年期、壮年期、老年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4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solidFill>
            <a:srgbClr val="fbcbfa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孔子的人生阶段划分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新魏"/>
              </a:rPr>
              <a:t>孔子语：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新魏"/>
              </a:rPr>
              <a:t>吾十有五而志于学，三十而立，四十而不惑，五十而知天命，六十而耳顺，七十从心所欲不逾矩。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从学前期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出生－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岁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立志学习时期（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岁－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岁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自立时期（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岁－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岁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不惑时期（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岁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-50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岁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）知天命时期（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岁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-60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岁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耳顺时期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岁－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岁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从心所欲、不逾矩时期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岁以上）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2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solidFill>
            <a:srgbClr val="fbcbfa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沃特恩的人生阶段划分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343400"/>
          </a:xfrm>
          <a:prstGeom prst="rect">
            <a:avLst/>
          </a:prstGeom>
          <a:solidFill>
            <a:srgbClr val="fbcb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宋体-18030"/>
                <a:ea typeface="宋体-18030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第一个七年（出生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-7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岁）：充满幻想，最敢表达心中的愿望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第二个七年（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7-14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岁）：想象时代，开始谋划未来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第三个七年（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14-21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岁）： 青春期，形成自己的价值观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第四个七年（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21-28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岁）：在社会实践中，开始发现人生的意义，把握人生的机会。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第五个七年（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28-35</a:t>
            </a:r>
            <a:r>
              <a:rPr b="1" lang="zh-CN" sz="2800" spc="-1" strike="noStrike">
                <a:solidFill>
                  <a:srgbClr val="0033cc"/>
                </a:solidFill>
                <a:latin typeface="宋体-18030"/>
                <a:ea typeface="宋体-18030"/>
              </a:rPr>
              <a:t>岁）：积累社会经验，证实和强化已发现的人生真谛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6400800"/>
          </a:xfrm>
          <a:prstGeom prst="rect">
            <a:avLst/>
          </a:prstGeom>
          <a:solidFill>
            <a:srgbClr val="fbcb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六个七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第二青春期，按照内心召唤重新调整人生方向。许多人在这一时期会重新思考职业定位，争取找到后半生的事业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七个七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许多人进入狂躁抑郁期。人生过半，青春不再，上有老，下有小，如果事业仍没有成就，甚至还在为基本生活问题操心，则更加表现得忧心如焚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八个七年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）：身体方面出现衰老征兆，进入更年期，开始与自己的衰老搏斗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九个七年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）：思想成熟、做事稳妥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十个七年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）：第二童年期。心理上可能出现“返老还童”现象，如能有意识地接受这一转变，它将把人生引向新的起点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685440"/>
            <a:ext cx="8637480" cy="762120"/>
          </a:xfrm>
          <a:prstGeom prst="rect">
            <a:avLst/>
          </a:prstGeom>
          <a:solidFill>
            <a:srgbClr val="bfede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（三）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人生需求与人生价值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209080" cy="4114800"/>
          </a:xfrm>
          <a:prstGeom prst="rect">
            <a:avLst/>
          </a:prstGeom>
          <a:solidFill>
            <a:srgbClr val="bfede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渐进的人生需求层次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6600"/>
                </a:solidFill>
                <a:uFillTx/>
                <a:latin typeface="Arial"/>
                <a:hlinkClick r:id="rId1"/>
              </a:rPr>
              <a:t>马斯洛的需求层次理论及其拓展.</a:t>
            </a:r>
            <a:r>
              <a:rPr b="0" lang="en-US" sz="32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do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所欲，乃施之于人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784080" y="243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06:41:4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21:06Z</dcterms:modified>
  <cp:revision>57</cp:revision>
  <dc:subject>主题班会课件(分28大类): http://shop62905894.taobao.com</dc:subject>
  <dc:title>主题班会课件(分28大类): http://shop62905894.taobao.com</dc:title>
</cp:coreProperties>
</file>