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1D2-B98F-4F02-9B78-ADB56618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883-B7BB-4E0E-BCEA-C4888DEA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446-823C-40B0-A0EB-5C4F37F1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9EE-3091-44AE-8597-B6A023BB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FA46-D012-4342-ADAD-E2883365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4866-CA43-4171-8E53-0D28C4FB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A5E9-3806-413B-8DF8-6723AAB6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A76D-03F0-420C-AE35-0C957EAC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035C-EC8D-44BA-BCC7-F90EDA05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5D0B-186B-4126-ABBB-BC41385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D976-03CC-4D59-A53F-3F82D45E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903-5549-4B77-A017-31F782F9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5559-971F-45CB-A80C-2EA2E28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A485-3DB0-4C5C-A691-B32BEAAE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59CE-C815-4A60-A255-321F5475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7725-A55B-4FB6-A4B5-08A8D40C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B205-F0F6-4608-BEAE-C61AEDAE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0FC-E89B-4C88-BCE3-4CEEF385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45D-27A6-4BF0-AC83-F939425D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AA9-4A52-487F-9AC6-BB07A561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E77-EF9E-493A-A6C0-55AC16EB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41D-AF24-4895-A82D-21607D53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094-AFDE-4682-A9DF-29CC6EA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DB6-04E3-4501-AD7B-F2141ED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0EF9-8B89-4BAA-A0A4-04A2C34C5C9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E613-13E0-45D7-B2D9-5FD455EF050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11280" y="1916280"/>
            <a:ext cx="7770600" cy="27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不要忘记开出梦想的花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776240" cy="182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059280" y="476280"/>
            <a:ext cx="1495080" cy="150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508720" y="549360"/>
            <a:ext cx="1511280" cy="1428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843280" y="4724280"/>
            <a:ext cx="1809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1341360"/>
            <a:ext cx="691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选择</a:t>
            </a: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A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有头脑，较有智慧，但容易自以为是，不听别人意见。（承压指数</a:t>
            </a: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8</a:t>
            </a: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分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5805360"/>
            <a:ext cx="115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26920" y="2060640"/>
            <a:ext cx="6985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选择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B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不自信，容易多愁善感。    （承压指数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8</a:t>
            </a: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805360"/>
            <a:ext cx="115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1268280"/>
            <a:ext cx="72723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选择</a:t>
            </a: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C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活泼可爱，好动，但缺乏定性。</a:t>
            </a: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(</a:t>
            </a: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承压指数</a:t>
            </a: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7</a:t>
            </a: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分</a:t>
            </a: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4360" y="5805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26920" y="1557360"/>
            <a:ext cx="66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选择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D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太在意别人的看法，对自己要求太高，使自己太累。（承压指数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4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分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5805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2286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我们要认识到压力对人并非只是一件坏事。很多时候，我们需要一种力量来推动我们。人很多时候都还是有点惰性的。假如凡是会让我们产生压力的事我们都回避去做，我们有从何得到关于我们能力和潜质的证明呢？如果不是自然界的灾难和艰难，人类的智慧不会发展到今天这种网络和纳米技术的时代。正是生存的压力让人在改变自然的同时也在改变自身。但是反过来说，如果压力过大，那它对人会产生毁灭性的破坏。多少人因为承受不住某些压力，他们要么对他人造成伤害，要么自毁自己。压力其实是一把双刃剑，关键是我们如何利用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380360" y="5589720"/>
            <a:ext cx="107928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596360" y="5805360"/>
            <a:ext cx="936360" cy="74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82640" y="304920"/>
            <a:ext cx="67057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六月的迷雾中的白色城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有许多年轻的战士们正无声地攻略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城堡里藏着什么 似乎没有人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挤进去就对了”人们都这么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那一年 我也在人群中苦战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你也是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不管你活在哪里 这是我们 在人生中都曾经经历过的一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我们的生命里竟然有同一场战役 留下同一道伤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我想 与其说加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不如也展示给你看我也有这光荣的伤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城堡里不见得完全是你想要的 需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但是只要你面带微笑地打完这一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Comic Sans MS"/>
              </a:rPr>
              <a:t>在城堡的后面       一定会有你想要的天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828800"/>
            <a:ext cx="9145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6600"/>
                </a:solidFill>
                <a:latin typeface="Comic Sans MS"/>
                <a:ea typeface="华文行楷"/>
              </a:rPr>
              <a:t>祝大家学习进步！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549360"/>
          <a:ext cx="9144000" cy="8643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考前一笑——幽默一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611280" y="126828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最容易的考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   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某国空军院校的一次考试中，试卷上出了一道这样的考题：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"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请写出我国空军部队任何一年的空军人数和飞机数。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   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一位考生在试卷上飞快地写道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-- "1898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年空军人数和飞机数皆为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0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。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   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面对这样的答题，批卷老师犹豫了好一会，最后还是无可奈何地挥笔打了勾，因为世界上第一架飞机问世上天还是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1903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年的事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26920" y="620640"/>
            <a:ext cx="7058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最后一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老师说：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快要考试了，试卷已经交到印刷工人手里。你们要好好复习功课。还有什么问题要问的？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学生：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请问那位印刷工人住在哪里？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476280"/>
            <a:ext cx="81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找答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彼得：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刚才考历史你为什么老是盯着监考老师的眼睛？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汤姆：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因为我有一道题不会回答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彼得：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可老师的眼睛上也没有答案呀！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汤姆：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只要他的眼睛朝窗外看一看，我立即就能找到答案。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11280" y="47628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也不知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老师：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克劳德，昨天考试时你抄莫德的答案了是不是？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克老德：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是的，可你是怎么发现的呢？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老师：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莫德第十题答案是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'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我不知道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'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，而你的答案是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'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我也不知道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'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。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26920" y="907920"/>
            <a:ext cx="69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名字不是抄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老师问一名学生：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你的试卷是抄了别人的吧？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是的。是抄了些，但不全是。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学生答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那么，哪些地方不是抄的呢？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嗯……我的名字就不是抄的嘛。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197000"/>
            <a:ext cx="719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上帝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100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老师把考试卷发下来后，迈克一题也不会做，便在试卷背后写道：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只有上帝知道怎么做，我不知道。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试卷发下来，迈克一看，上面写着：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上帝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100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分，你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0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分！</a:t>
            </a: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588960"/>
            <a:ext cx="698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历史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大学历史考试是口试。教授提了三个问题，这个学历史的大学生都答不出来。为了给他一个及格的机会，教授最后问他： 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美洲大陆是谁发现的？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"……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教授气急败坏地喊道： 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克里斯朵夫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·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哥伦布！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这个学生拔腿就往外走，教授惊奇地把他叫住： 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喂，你为什么要走啊？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对不起，您不是叫下一个考生了吗？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380360" y="5734080"/>
            <a:ext cx="10936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404640"/>
            <a:ext cx="87487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看到猕猴桃你会想到什么？        </a:t>
            </a: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 </a:t>
            </a:r>
            <a:br>
              <a:rPr sz="3600"/>
            </a:b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A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．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清涩香甜 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                       </a:t>
            </a:r>
            <a:br>
              <a:rPr sz="3600"/>
            </a:b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B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．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点缀甜点时非常漂亮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 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              </a:t>
            </a:r>
            <a:br>
              <a:rPr sz="3600"/>
            </a:b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C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．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毛茸茸的外皮很可爱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               </a:t>
            </a:r>
            <a:br>
              <a:rPr sz="3600"/>
            </a:b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11" action="ppaction://hlinksldjump"/>
              </a:rPr>
              <a:t>D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12" action="ppaction://hlinksldjump"/>
              </a:rPr>
              <a:t>．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Comic Sans MS"/>
                <a:hlinkClick r:id="rId13" action="ppaction://hlinksldjump"/>
              </a:rPr>
              <a:t>喜欢它因为它是营养丰富的水果 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    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4"/>
          <a:stretch/>
        </p:blipFill>
        <p:spPr>
          <a:xfrm>
            <a:off x="6588000" y="5084640"/>
            <a:ext cx="1495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7:11:1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3:08Z</dcterms:modified>
  <cp:revision>14</cp:revision>
  <dc:subject>主题班会课件(分28大类): http://shop62905894.taobao.com</dc:subject>
  <dc:title>主题班会课件(分28大类): http://shop62905894.taobao.com</dc:title>
</cp:coreProperties>
</file>