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25.gif" ContentType="image/gif"/>
  <Override PartName="/ppt/media/image17.png" ContentType="image/png"/>
  <Override PartName="/ppt/media/image24.gif" ContentType="image/gif"/>
  <Override PartName="/ppt/media/image16.jpeg" ContentType="image/jpeg"/>
  <Override PartName="/ppt/media/image23.gif" ContentType="image/gif"/>
  <Override PartName="/ppt/media/image3.jpeg" ContentType="image/jpeg"/>
  <Override PartName="/ppt/media/image15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15F-3E29-4A70-9F42-5CDBEB94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8F3-032D-4A59-9E42-E79AAAB1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0A5-700A-4671-8E5A-55433406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845-30A6-4A68-BC10-78E9F20E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6343-2902-442C-B1F4-D38FB2B0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31DD-4422-47B8-B02D-FDE8FF4C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32BB-7BFE-468F-8197-7D86F47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C707-E8AD-45AA-A45D-12C7972D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6957-278A-438F-8EAD-55890B3E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DEDA-481B-44D7-A3FD-559F6AE4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2FC7-7DC2-401B-B2CD-89A5677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586-17C0-4D70-AFB8-95E7C4FC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0361-6FD4-4773-AB50-4E20F594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9D34-A1A7-4A72-A5B9-CE766143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AF45-30B3-4535-B5EA-CFA7A596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3F10-3C78-4E56-94C3-F5360DA1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1F28-7256-4FCD-B0D5-1F841A9A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8E2-EAB9-40A9-A192-B833D062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689-69BF-4011-89D7-C926F29A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1F4-3827-40B0-BF67-2DC16C33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4A7-BFCB-41CC-A5DF-456BB53C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8C1-96B9-43E3-AEAD-98046D0A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DB3-48E9-4C55-8571-D6C14C9A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6DD-7941-4486-8C26-2EE0540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F46A-9D5C-4657-AD0F-5C8E2CCC87F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1303-11CF-4C94-9B69-5C92224574B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hyperlink" Target="../Local%20Settings/Temp/Rar$DI00.235/&#20799;&#31461;_&#20889;&#30495;&#31995;&#21015;-&#37240;&#37240;&#29980;&#29980;&#23601;&#26159;&#25105;%5BTudou.com%5D.3gp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../Local%20Settings/Temp/Rar$DI00.235/&#25104;&#38271;&#30340;&#36275;&#36857;%5BTudou.com%5D.3gp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../Local%20Settings/Temp/Rar$DI00.235/&#32473;&#25105;&#19968;&#21452;&#32709;&#33152;%20&#27700;&#26408;&#24180;&#21326;%5BTudou.com%5D.3gp" TargetMode="External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../Local%20Settings/Temp/Rar$DI00.235/&#29702;&#24819;&#24773;&#20154;.wma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../Local%20Settings/Temp/Rar$DI00.235/&#38544;&#24418;&#30340;&#32709;&#33152;.mp3" TargetMode="External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00200" y="2133720"/>
            <a:ext cx="57913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我的成长目标</a:t>
            </a:r>
            <a:endParaRPr b="1" i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510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Arial"/>
                <a:ea typeface="方正姚体"/>
              </a:rPr>
              <a:t>挫折伴我成长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不要因为摔过跤而不敢奔跑，不要因为风雨而诅咒生活，不要因为迷了路而忽视了自然风光。只有一步步克服挫折、挑战挫折，才能找到生活的闪光点，享受成长中每一面的精彩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挫折伴我成长，我会以乐观当航标，这样才不会迷失方向。没有了乐观的态度，就会迷失奋斗的方向，任理想的帆船在汹涌的波涛里随波逐流、上下颠簸。而挫折并不是到了一败涂地的境地，而是俨然警示你不要懒散，要坚持信念，随时以乐观、沉着去乘风破浪。如此我的成长之路哪能离开挫折这个善良严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047080" y="0"/>
            <a:ext cx="1096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75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Arial"/>
                <a:ea typeface="方正姚体"/>
              </a:rPr>
              <a:t>挫折伴我成长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挫折伴我成长，我会以坚强当后盾，这样才不会被轻易打倒。任何生命不坚强，必不能安然存在。若树不坚强，干不挺拔，如何能收获一片阳光雨露；若竹不坚强，如何能咬定青山不放松；若梅不坚强，如何能有凌寒独自开的铮铮傲骨；若人不坚强，如何能有打败挫折，战胜自己的力量？如此我的成长之路哪能离开挫折这个勉励好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挫折，让我懂得乐观、学会坚强、保持谦逊，让我的生活更精彩，我要挫折伴我成长</a:t>
            </a:r>
            <a:r>
              <a:rPr b="0" lang="zh-CN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047080" y="0"/>
            <a:ext cx="1096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75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38880" y="58669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播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我们的风采之歌唱表演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14400" y="2971800"/>
            <a:ext cx="685800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《酸酸甜甜就是我》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0033"/>
              </a:solidFill>
              <a:latin typeface="Arial"/>
              <a:ea typeface="方正姚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纵然有狂风暴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在坎坷的人生旅途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我决不退缩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为着自己的人生目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我将会努力奋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为明天的自己喝彩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52280"/>
            <a:ext cx="3257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我的人生宣言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75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75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75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" y="228600"/>
            <a:ext cx="3048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放飞梦想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828800" y="2590920"/>
            <a:ext cx="4876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《幸福的花儿在这里开放》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438280" y="5486400"/>
            <a:ext cx="40006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班会主题歌演唱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04920" y="304920"/>
            <a:ext cx="2286000" cy="3429000"/>
            <a:chOff x="304920" y="304920"/>
            <a:chExt cx="2286000" cy="342900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304920" y="304920"/>
              <a:ext cx="154944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523880" y="1752480"/>
              <a:ext cx="1067040" cy="1981440"/>
            </a:xfrm>
            <a:prstGeom prst="wedgeRectCallout">
              <a:avLst>
                <a:gd name="adj1" fmla="val -23662"/>
                <a:gd name="adj2" fmla="val 453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9966ff"/>
                  </a:solidFill>
                  <a:latin typeface="Times New Roman"/>
                  <a:ea typeface="方正舒体"/>
                </a:rPr>
                <a:t>舞者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48320" y="457200"/>
            <a:ext cx="4170240" cy="3240000"/>
            <a:chOff x="4648320" y="457200"/>
            <a:chExt cx="4170240" cy="324000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6324480" y="457200"/>
              <a:ext cx="249408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48320" y="2590920"/>
              <a:ext cx="2590560" cy="609480"/>
            </a:xfrm>
            <a:prstGeom prst="wedgeRectCallout">
              <a:avLst>
                <a:gd name="adj1" fmla="val -153861"/>
                <a:gd name="adj2" fmla="val 147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66"/>
                  </a:solidFill>
                  <a:latin typeface="Times New Roman"/>
                  <a:ea typeface="方正姚体"/>
                </a:rPr>
                <a:t>科学家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0" y="3809880"/>
            <a:ext cx="2895120" cy="2438640"/>
            <a:chOff x="0" y="3809880"/>
            <a:chExt cx="2895120" cy="2438640"/>
          </a:xfrm>
        </p:grpSpPr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84600" y="3809880"/>
              <a:ext cx="14781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0" y="5638680"/>
              <a:ext cx="2895120" cy="609840"/>
            </a:xfrm>
            <a:prstGeom prst="wedgeRectCallout">
              <a:avLst>
                <a:gd name="adj1" fmla="val 12254"/>
                <a:gd name="adj2" fmla="val -2395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cc66"/>
                  </a:solidFill>
                  <a:latin typeface="Times New Roman"/>
                  <a:ea typeface="隶书"/>
                </a:rPr>
                <a:t>护士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19920" y="4038480"/>
            <a:ext cx="2787480" cy="2362320"/>
            <a:chOff x="6019920" y="4038480"/>
            <a:chExt cx="2787480" cy="2362320"/>
          </a:xfrm>
        </p:grpSpPr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6934320" y="4495680"/>
              <a:ext cx="187308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019920" y="4038480"/>
              <a:ext cx="914400" cy="2362320"/>
            </a:xfrm>
            <a:prstGeom prst="wedgeRectCallout">
              <a:avLst>
                <a:gd name="adj1" fmla="val -494273"/>
                <a:gd name="adj2" fmla="val -60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66ff33"/>
                  </a:solidFill>
                  <a:latin typeface="Times New Roman"/>
                  <a:ea typeface="黑体"/>
                </a:rPr>
                <a:t>教师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514600" y="3124080"/>
            <a:ext cx="3429000" cy="3504960"/>
            <a:chOff x="2514600" y="3124080"/>
            <a:chExt cx="3429000" cy="3504960"/>
          </a:xfrm>
        </p:grpSpPr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3184560" cy="34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53040" y="5790960"/>
              <a:ext cx="2590560" cy="838080"/>
            </a:xfrm>
            <a:prstGeom prst="wedgeRectCallout">
              <a:avLst>
                <a:gd name="adj1" fmla="val -100921"/>
                <a:gd name="adj2" fmla="val -2791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6600"/>
                  </a:solidFill>
                  <a:latin typeface="Times New Roman"/>
                  <a:ea typeface="方正舒体"/>
                </a:rPr>
                <a:t>运动员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819520" y="380880"/>
            <a:ext cx="3504960" cy="1922400"/>
          </a:xfrm>
          <a:prstGeom prst="rect">
            <a:avLst/>
          </a:prstGeom>
          <a:noFill/>
          <a:ln cap="rnd" w="7632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33"/>
                </a:solidFill>
                <a:latin typeface="Times New Roman"/>
                <a:ea typeface="隶书"/>
              </a:rPr>
              <a:t>     </a:t>
            </a:r>
            <a:r>
              <a:rPr b="0" lang="zh-CN" sz="4000" spc="-1" strike="noStrike">
                <a:solidFill>
                  <a:srgbClr val="99ff33"/>
                </a:solidFill>
                <a:latin typeface="Times New Roman"/>
                <a:ea typeface="隶书"/>
              </a:rPr>
              <a:t>我们生活在由职业编织成的大千世界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66"/>
                </a:solidFill>
                <a:latin typeface="方正姚体"/>
                <a:ea typeface="方正姚体"/>
              </a:rPr>
              <a:t>我的成长目标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一、主题班会背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时间像流水一样，悄无声息的从我们的身边经过，逝去的光阴却再也不能重新回来，而我们还要在人生的旅途上向着自己既定的目标不断的攀登、不断的成长。在我们心中，成长目标是一个很崇高的词眼。它像一座灯塔，指引着人生前进的方向，照亮着人生前进的路程，中专阶段正是树立理想，明确人生目标的重要时期，如今在人生的第一个十字路口，如何把握好这段人生中的重要时光，对于每个同学都是至关重要的。但是，许多同学认识不到这一问题，有些同学荒废时间，碌碌无为；有些同学不会利用时间，学习效率低下；有些同学消极怠慢，茫然、苦闷，动力不足。在又一个新的学期开学之际，在我们又长大了一岁的人生道路上，我们怎么样去确立自己新的目标，开始新的生活，为此召这次主题班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133720"/>
          <a:ext cx="6095880" cy="40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1337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主题班会的目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运用并通过朗诵、小品、舞蹈、讨论、歌声等方式对同学们进行理想教育，使学生树立正确的成长目标，认识到前进的道路上充满艰辛，需要靠同学们脚踏实地，不懈地努力，才能实现美好的理想，使美梦成真。成为一名合格的中专生，为今后能够顺利走上社会或进入大学深造做好准备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14840" y="59436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进入 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457200"/>
            <a:ext cx="280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视频里的故事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981080" y="2438280"/>
            <a:ext cx="54104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《成长的足迹》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86600" y="617184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播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0"/>
            <a:ext cx="2895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主持人访谈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 rot="20958600">
            <a:off x="914400" y="1980720"/>
            <a:ext cx="70102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的成长目标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00"/>
              </a:solidFill>
              <a:latin typeface="华文彩云"/>
              <a:ea typeface="华文彩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67480" y="6019560"/>
            <a:ext cx="99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ea typeface="华文行楷"/>
                <a:hlinkClick r:id="rId2"/>
              </a:rPr>
              <a:t>播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我们的风采之歌唱表演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05120" y="2133720"/>
            <a:ext cx="5181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《成长目标》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362320" y="5257800"/>
            <a:ext cx="3733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歌词创作：赵晓纯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打开窗户  呼吸阳光  新的一天又已经来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们要努力充实新的一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金色的阳光撒满人行道  换了新校服  把头发扎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骑着单车来学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烦恼着如何树立自信    烦恼如何确定成长目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十七号的班会已经来临了       我知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爸爸妈妈都在担心着我   成长目标是否已经确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是否也会美梦成真    我会努力请你们放一百二十颗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亲爱的你们不要再莫名增加我的烦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想说爸爸妈妈我会对自己行为负责到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人生道路我会自己走     闯荡出一片天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971800" y="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《成长的目标》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75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75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75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75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75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75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75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75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75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62560" y="60958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1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3733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我们的风采之配乐诗朗诵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05120" y="1447920"/>
            <a:ext cx="5029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《挫折伴我成长》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3:42:2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7:32Z</dcterms:modified>
  <cp:revision>1</cp:revision>
  <dc:subject>主题班会课件(分28大类): http://shop62905894.taobao.com</dc:subject>
  <dc:title>主题班会课件(分28大类): http://shop62905894.taobao.com</dc:title>
</cp:coreProperties>
</file>