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B1F-09C5-492A-8639-FC533964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5C2-B352-4687-B776-EF94F277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8DAC8-E1BA-4E5E-B196-051ADF0E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C291D-1674-4C0A-AEA9-36C8668B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20A86-A424-4825-8D32-4F37A523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9A71A-907C-4CDB-B1CB-CF83742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71AB3-D3BB-425D-8AE8-49A2770E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163A3-AC91-4DBE-89D5-EBD5BCD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08ED7-C1E2-45E0-8082-89DC7AF9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F05D5-2950-4F9A-A960-F39FAD59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5D8D3-EF1E-4E2F-B4DA-11DAF6AC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3F437-37DD-468E-B3C8-8963A2D6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F2A-C681-43DD-9A2B-F098A709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CB09D-4D41-4224-A853-4647673D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C03A2-605F-4B9D-B163-85B5D81D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BE1DD-78D8-4372-B7AC-C28CBA3F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FE7C7-B7C7-4A3E-9F13-BDE593F6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BADB4-DE4C-48F7-8692-7BCE37F5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F4F22-A18A-4670-A74F-5AAF5AD8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72E60-EAC1-4EDF-BC5D-8454D79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48CD5-C871-404F-902D-BA2E6F8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D1F0A-504E-4D74-B439-D0B6A0D0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94514-C755-4527-80A9-25ED9915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869-7DC1-4262-9C47-050FE8B7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DBBA9-A21E-4C8A-BEE6-360FB351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D747E-D3BF-4440-B628-B122C17C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1DF0F-6F13-47A9-9A3F-A7795AD6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20370-8B30-48C6-8212-AADE02FF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0FEAC-F337-4834-9490-3C7CA121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DE9D9-F0A9-44B9-9A46-59BEA1EB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D3781-895A-4319-B93A-9C28F427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82982-B338-4C4E-AA24-9219682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54154-8860-488B-9C38-BA811C9B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37F9F-DC9F-4A71-AB20-B11E95A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9ADA-B0B1-4376-A005-A58A0B93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88463-6617-4BBF-83D6-0C8E8AE2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2479D-710A-4B84-888C-55BE9CEB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7A4F7-C458-454A-9553-04549D4E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4E539-6BDC-41A1-91C9-1DCD4438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FEFD9-EE3B-4566-B64B-5B5269C1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C21EB-FD2F-4B34-A2DB-8CDACB4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46A97-CD72-426B-ACD0-2EF7BB5D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F5BF4-3059-4650-82E2-740E8CE7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86142-AE2C-4B3C-8E76-9C558962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C0B12-7F60-4A02-9A6E-C9C58106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2C01-2A41-4A02-BF1D-66E9C880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A6B9D-231D-48E7-BAA5-A025FB3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A8465-EE56-43D1-A73B-560FB62A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09C3-0E2D-4CDC-934A-EBEA3A39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0457A-76C7-4F64-92C2-94CA3403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5BFD5-49FA-4392-8171-1882281B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8414-428C-4333-B404-FF790B4F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D942-7646-45E2-9458-3EEE71D9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9D7A-8DA2-412C-AF7C-CACAED5A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BF2C-84CE-4A4D-B111-FFBCD563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A40D-AF16-4B5C-96FE-1A6AAED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3DD-D59C-4627-94AF-0F725787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B8A9-8F12-456E-8B98-D83BC36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0586-5882-4AE2-8382-8917A1F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8ED0-140C-42B9-BA47-81087ADE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12DE-56E2-4808-BB89-F7B18257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7236-BCEC-4D3B-A2A7-19B5AC4B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753B4-06CD-4C55-B5E3-5FDDFA16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2E8A-AA45-4B58-956B-C51CF58A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C2ED1-2F20-4CE4-8D1C-989C0441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E1BB-6D0B-4015-B5EC-AC01914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793F-B58A-4851-A61F-4A553DD5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D28-5E84-4C64-9D61-E90BE024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24E1-A978-4B73-A6BC-66CA9EC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71A7-DD8E-4802-BC37-E3929806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8282-00EB-41BF-B0D8-0AA987D8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7D50-5E60-4354-9DD2-ECD99132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8209-6AAA-48F1-B315-8D39FDC1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7D3D7-8C7F-45C9-854C-C1B1124A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C6A1-5B35-4FDF-998F-B3994BC4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BD4A-F6F1-4170-8C77-0EF848F4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38277-763C-4CA7-A4DB-173F82D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51330-19D3-4CF2-857B-51982A81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FE9-79E1-4634-BCB1-DF028DEB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78E9-C3CF-41B5-95AA-BB390F26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6FA8-E0EA-49C4-95B0-6FDE77EA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1A3B-5265-4D30-BBE5-5DE11630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8C5E-B879-44C7-9A78-1F95D4A0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E9D2-A9B8-4F5A-A311-1C6830C0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348BB-58CC-4EC3-AC4E-57861036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BFA9-79F6-4F28-A04B-B8AF3DC2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0B87-00FB-4CC7-97DA-06B80A92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C5E7B-AC6C-4E66-B6EB-BD93F86B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C9DE-1715-445A-8033-29A9AA11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A7D-A8D5-4054-A357-2F11B974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FDBEC-F6D0-4890-84CB-8AB1B613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7699-3336-4F5C-B076-0D129AA2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2667A-7253-479B-B2DA-A474FF5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1B295-7734-4B08-A520-0221F514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DB3F-125E-4090-9B4B-D6A35299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643BC-0AFE-4ABA-865E-3579226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5A94-AEB2-4CBF-A426-65008B82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3FF8E-2707-4941-B573-1D5CB019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54DD-4BA4-4F55-989D-764C4D45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A5B16-D059-4C69-BAFE-1714B599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7AD-F83B-4E1A-801D-8257D570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4D34-CC23-4A0D-9A10-8DCFF844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DA45-0BE9-4F49-AE20-3AE587F0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9877A-EBED-42E6-9D35-5A407CC4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EB100-F062-4B4A-89C5-48922AA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589A1-08D6-47BD-BD9C-831EE60D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324D9-DDE2-4088-B130-68C45309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83D06-EF7A-4058-A9A3-B9D38BAC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4A3CE-CD52-4C5F-849E-AA6165A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E66CE-C0A4-40EA-9219-3E090896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796D8-E27E-4672-904F-64E32DA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141-4364-4A77-9C71-FBD1689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6A2B6-563E-4B66-B639-C4E446EA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AC74-A74B-4BA1-ACA4-7A6E4CCE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C6E8-F39B-4B33-BE63-77D791E9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73448-F12E-4B68-AF36-F3EC1C29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285E7-749C-4925-85C2-AD317884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93685-6C5D-4B37-9E74-132E7E63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6163-7DE8-487C-A1AF-2BA110E8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64C18-8E27-416F-A41C-9860D93A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A685D-2A4C-408C-A2FD-9BDC5CD6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BCD6D-7DA2-42F2-B1C3-85B9E29B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C73-9A27-412E-AF5D-FE7CFCF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8944B-C50E-4A3A-A884-FA8D65F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B878B-0B98-4676-9C04-7183D883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3627A-CDE1-4611-82B0-E365590E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7BDC2-E9B9-4ED5-B59C-B4868AF4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1E61E-860F-4AD7-B863-90A91A3B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3603D-872B-4463-ABCD-BF367B4C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56698D-B59F-41D6-A1B7-3BF8B237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8E2E1-5BF9-40C4-BD54-BF943A78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7E807-941A-4173-ADB7-A3E86B8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7285E-6E8E-4129-B1F9-F7BC989C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666-DA93-4009-BD60-CE30C07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BBF93-49E3-48B6-A44B-829AA3E7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278F02-AC35-4D0F-ABE8-A15B8E2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DB5B7-CBF3-46D6-97D8-468BC45B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A613C6-0DFB-4E0B-BDC0-D3FA6F4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196BEB-8030-4543-B351-C07EB852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18145-8248-441E-B9C6-8C2FF64C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3D8ECA-20F7-4C15-BB08-D9A8E133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523C4-1679-4163-890C-8D8A4809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DB249-DE22-4E40-8023-6615F25C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45F1C-9278-4C7C-8303-51E04F84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adc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766C-4BC5-41AF-A19C-66903E68EC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34E-2E9C-4082-92D5-401DFD7D3F0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华文彩云"/>
              </a:rPr>
              <a:t>Click to edit the title text format</a:t>
            </a: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1B8-1024-4956-8545-B273E608372C}" type="slidenum">
              <a:rPr b="1" lang="zh-CN" sz="12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19160" y="12193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彩云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34"/>
          </p:nvPr>
        </p:nvSpPr>
        <p:spPr>
          <a:xfrm>
            <a:off x="228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35"/>
          </p:nvPr>
        </p:nvSpPr>
        <p:spPr>
          <a:xfrm>
            <a:off x="236196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6"/>
          </p:nvPr>
        </p:nvSpPr>
        <p:spPr>
          <a:xfrm>
            <a:off x="7010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B058-CE9E-48C5-AC3C-14BB90206A74}" type="slidenum">
              <a:rPr b="1" lang="zh-CN" sz="12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F2E8-D4B3-4B61-BF3C-57E3D12770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adc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adc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462c"/>
                </a:solidFill>
                <a:latin typeface="华文彩云"/>
              </a:rPr>
              <a:t>Click to edit the title text format</a:t>
            </a:r>
            <a:endParaRPr b="1" lang="en-US" sz="4000" spc="-1" strike="noStrike">
              <a:solidFill>
                <a:srgbClr val="98462c"/>
              </a:solidFill>
              <a:latin typeface="华文彩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3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幼圆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lvl="1" marL="683280" indent="-262800">
              <a:spcBef>
                <a:spcPts val="799"/>
              </a:spcBef>
              <a:buClr>
                <a:srgbClr val="333333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幼圆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lvl="2" marL="1051560" indent="-210240">
              <a:spcBef>
                <a:spcPts val="799"/>
              </a:spcBef>
              <a:buClr>
                <a:srgbClr val="33333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幼圆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lvl="3" marL="1472040" indent="-210240">
              <a:spcBef>
                <a:spcPts val="799"/>
              </a:spcBef>
              <a:buClr>
                <a:srgbClr val="333333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幼圆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lvl="4" marL="1892520" indent="-210240">
              <a:spcBef>
                <a:spcPts val="799"/>
              </a:spcBef>
              <a:buClr>
                <a:srgbClr val="333333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幼圆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lvl="5" marL="1892520" indent="-210240">
              <a:spcBef>
                <a:spcPts val="799"/>
              </a:spcBef>
              <a:buClr>
                <a:srgbClr val="333333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幼圆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lvl="6" marL="1892520" indent="-210240">
              <a:spcBef>
                <a:spcPts val="799"/>
              </a:spcBef>
              <a:buClr>
                <a:srgbClr val="333333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幼圆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752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8462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846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846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8462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846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EEF8-5BB1-42E1-8ACC-3DB430EEAFFD}" type="slidenum">
              <a:rPr b="1" lang="zh-CN" sz="1200" spc="-1" strike="noStrike">
                <a:solidFill>
                  <a:srgbClr val="9846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5640" y="1730520"/>
            <a:ext cx="533412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62c"/>
                </a:solidFill>
                <a:latin typeface="华文彩云"/>
              </a:rPr>
              <a:t>Click to edit the title text format</a:t>
            </a:r>
            <a:endParaRPr b="0" lang="en-US" sz="4800" spc="-1" strike="noStrike">
              <a:solidFill>
                <a:srgbClr val="98462c"/>
              </a:solidFill>
              <a:latin typeface="华文彩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22093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8462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846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65724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846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8462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846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F457-CC2F-4624-AC6E-07185D493428}" type="slidenum">
              <a:rPr b="1" lang="zh-CN" sz="1200" spc="-1" strike="noStrike">
                <a:solidFill>
                  <a:srgbClr val="9846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4a1d"/>
                </a:solidFill>
                <a:latin typeface="幼圆"/>
              </a:rPr>
              <a:t>Click to edit the title text format</a:t>
            </a: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2d2015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7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  <a:ea typeface="隶书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  <a:ea typeface="隶书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  <a:ea typeface="隶书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8F8A-3C11-4EF8-A9E4-A9C72CB776BC}" type="slidenum">
              <a:rPr b="0" lang="zh-CN" sz="1200" spc="-1" strike="noStrike">
                <a:solidFill>
                  <a:srgbClr val="000000"/>
                </a:solidFill>
                <a:latin typeface="Comic Sans MS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54a1d"/>
                </a:solidFill>
                <a:latin typeface="幼圆"/>
              </a:rPr>
              <a:t>Click to edit the title text format</a:t>
            </a:r>
            <a:endParaRPr b="1" lang="en-US" sz="4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omic Sans MS"/>
                <a:ea typeface="隶书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omic Sans MS"/>
                <a:ea typeface="隶书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omic Sans MS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omic Sans MS"/>
                <a:ea typeface="隶书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omic Sans MS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53D7-BD7B-4EA4-8885-8C0078D27684}" type="slidenum">
              <a:rPr b="0" lang="zh-CN" sz="1000" spc="-1" strike="noStrike">
                <a:solidFill>
                  <a:srgbClr val="000000"/>
                </a:solidFill>
                <a:latin typeface="Comic Sans MS"/>
                <a:ea typeface="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4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53EA-3DB4-4F8F-98C5-1A567DAB005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1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1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6019-7853-4AE2-A868-E86BA38B52F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D893-E688-4051-9D61-01E2EB37BF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4292640"/>
            <a:ext cx="8172360" cy="1727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500" spc="-1" strike="noStrike">
                <a:solidFill>
                  <a:srgbClr val="ffffff"/>
                </a:solidFill>
                <a:latin typeface="Times New Roman"/>
                <a:ea typeface="迷你简启体"/>
              </a:rPr>
              <a:t>让理想飞得更高</a:t>
            </a:r>
            <a:endParaRPr b="1" lang="en-US" sz="8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203640" y="907920"/>
            <a:ext cx="5688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华康简标题宋"/>
              </a:rPr>
              <a:t>“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华康简标题宋"/>
              </a:rPr>
              <a:t>真情暖百姓爱心助学班”</a:t>
            </a:r>
            <a:endParaRPr b="0" lang="en-US" sz="3600" spc="-1" strike="noStrike">
              <a:solidFill>
                <a:srgbClr val="9adcf6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Arial"/>
                <a:ea typeface="文鼎琥珀繁"/>
              </a:rPr>
              <a:t>主题班会</a:t>
            </a:r>
            <a:endParaRPr b="0" lang="en-US" sz="4800" spc="-1" strike="noStrike">
              <a:solidFill>
                <a:srgbClr val="9adcf6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8317080" y="1916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113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dcf6"/>
                </a:solidFill>
                <a:latin typeface="Times New Roman"/>
                <a:ea typeface="宋体"/>
              </a:rPr>
              <a:t>◎</a:t>
            </a:r>
            <a:r>
              <a:rPr b="0" lang="zh-CN" sz="6000" spc="-1" strike="noStrike">
                <a:solidFill>
                  <a:srgbClr val="9adcf6"/>
                </a:solidFill>
                <a:latin typeface="Times New Roman"/>
                <a:ea typeface="文鼎特粗圆简"/>
              </a:rPr>
              <a:t>梦想皆有神助</a:t>
            </a:r>
            <a:endParaRPr b="1" lang="en-US" sz="6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Arial"/>
                <a:ea typeface="华康简标题宋"/>
              </a:rPr>
              <a:t>驰骋你的人生梦想，实现你的人生理想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梦想是对人生的憧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理想是对人生的规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没有理想就失去人生的目标、动力和激情，就将一事无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6360" y="5445000"/>
            <a:ext cx="62658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三个故事：</a:t>
            </a:r>
            <a:r>
              <a:rPr b="0" lang="zh-CN" sz="3600" spc="-1" strike="noStrike" u="sng">
                <a:solidFill>
                  <a:srgbClr val="70b040"/>
                </a:solidFill>
                <a:uFillTx/>
                <a:latin typeface="Arial"/>
                <a:hlinkClick r:id="rId2" action="ppaction://hlinksldjump"/>
              </a:rPr>
              <a:t>梦想皆有神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189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汉鼎繁颜体"/>
              </a:rPr>
              <a:t>七、向你的梦想进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6264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文鼎广告体繁"/>
                <a:ea typeface="文鼎广告体繁"/>
              </a:rPr>
              <a:t>八、做一个真心英雄</a:t>
            </a:r>
            <a:endParaRPr b="1" lang="en-US" sz="48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640" y="202680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94c1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c1d"/>
                </a:solidFill>
                <a:latin typeface="Comic Sans MS"/>
                <a:ea typeface="楷体_GB2312"/>
              </a:rPr>
              <a:t>在我心中， 曾经有一个梦，要用歌声让你忘了所有的痛。灿烂星空 ，谁是真的英雄？平凡的人们，给我最多感动，再没有恨， 也没有了痛，但愿人间处处都有爱的影踪。用我们的歌， 换你真心笑容，祝福你的人生，从此与众不同。把握生命里的每一分钟，全力以赴我们心中的梦。不经历风雨 ，怎么见彩虹，没有人能随随便便成功。把握生命里每一次感动，和心爱的朋友热情相拥，让真心的话和开心的泪在你我的心里流动 。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9737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dcf6"/>
                </a:solidFill>
                <a:latin typeface="Times New Roman"/>
                <a:ea typeface="宋体"/>
              </a:rPr>
              <a:t>怎样使火箭飞得更高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196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年盛夏，又一枚中国火箭准备发射升空。关键时刻 ，火箭出现故障，被迫推迟点火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这时，年轻的中尉军官王永志找到设计师，提出：“泄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60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公斤推进剂，也许就行了。”设计师想，这想法太幼稚，哪有动力越小，火箭飞得越高的道理？于是，他断然拒绝了王永志的建议。后来，王永志向著名科学家钱学森反映，箭体重量直接影响到射程，卸出一些推进剂，不就等于减轻了火箭的自重么，这样一来，火箭不就飞得更高了吗？钱学森认真听取了他的建议，果断拍板：我看这个办法行。不久，大漠一声巨响，中国火箭又一次成功发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多年以后，王永志成为中国载人航天系统的总设计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什么方法能使火箭飞得更高，卸下负担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!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什么方法能让人走得更远，丢掉包袱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765000"/>
            <a:ext cx="10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0b040"/>
                </a:solidFill>
                <a:uFillTx/>
                <a:latin typeface="Arial"/>
                <a:hlinkClick r:id="rId2" action="ppaction://hlinksldjump"/>
              </a:rPr>
              <a:t>故事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  <a:ea typeface="宋体"/>
              </a:rPr>
              <a:t>天使的吻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有一个年轻人，他脸上有一块巨大而丑陋的胎记。紫红色的胎记从左侧的眼角一直延伸到嘴唇，好象有人在他脸上故意划了一刀，英俊的脸由于胎记显得狰狞可怕，但是外表的缺陷掩盖不了这个年轻人的友善、幽默、积极向上的性格，没有一点自卑的影子，凡是和他打过交道的人，都会不由自主地喜欢上他。不了解他的人，以为他肯定会非常自卑，有人就问他，你是怎样应付那块胎记呢，他的回答让人一辈子也难以忘记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应付？我向来以它为荣呢，小时候，我父亲告诉我：“儿子，你出生以前，我向上帝祈祷，请他赐我一个与众不同的孩子，于是，上帝给了你特殊的才能，还让天使给你做了一个记号，这脸上的标记就是天使吻过的痕迹，他这样做，是为了让我在人群中一下了找到你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时候，一有机会，父亲就给他讲这个故事，所以他对自己的好运深信不疑，甚至会为那些脸上没有红色“吻痕”的孩子难过。当时以为，陌生人的惊讶不过是出于羡慕。于是他更加努力，生怕浪费了他的特殊才能。长大以后，他仍然觉得父亲没有骗他：每个人都从上帝哪儿得到特殊才能，而他正因为有了这块胎记，才会不断奋斗，取得今天的成绩 ，它何尝不是天使的吻痕，幸运的标记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19280" y="333360"/>
            <a:ext cx="108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故事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10920" y="0"/>
            <a:ext cx="5040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  <a:ea typeface="华文行楷"/>
              </a:rPr>
              <a:t>梦想皆有神助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5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他是一位匈牙利木材商的儿子，由于从小生得呆笨，人们都喊他“木头”。他也确实名副其实，九岁之前，除了因遵守秩序在学校里获得过一枚玩具螺丝钉外，再也没有获得过什么奖励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十二岁时，他做了一个梦，梦到有位国王给他颁奖，因为他的作品被诺贝尔看上了。当时 他很想把这个梦告诉谁，但又怕被人嘲笑，最后只告诉了妈妈。妈妈说，假如这真是你的梦，你就有出息了，我曾听说，当上帝把一个可能的梦放在谁心中时，就是真心想让他成功。男孩从来还没有听说过梦想和上帝还有这层关系，妈妈说完他就信以为真了，世界那么大，上帝一下子选中了他，他觉得太幸福了。为了不辜负上帝的期望，从此他真的喜欢上了写作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倘若我经得起考验 ，上帝会来帮我的。他怀着这种心情，开始了他的写作生涯。三年过去了，上帝没有来，又三年过去了，上帝还是没有来，就在他期盼上帝来帮助他的时候，德国人却来了，他作为犹太人被关进了集中营，在哪里，数百万人失去了生命，而他却靠着“生存就是顺从”的信念活了下来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我又可以从事梦想中的职业了。从集中营出来，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1965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年写出了他的第一部小说，《无法选择的命运》，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1975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年又写出了《退稿》。接着又写出了一系列的作品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就在他不再关心上帝是否会帮助他的时候，瑞典皇家文学院宣布，把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年的诺贝尔文学奖授予他，他就是凯尔泰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·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伊姆雷，他听到后，大吃一惊，因为这正是他的名字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当记者采访他的时，他说，我没有什么感受，我只知道，当你说我喜欢做这件事，多困难我都不在乎时，上帝就会抽出身来帮助你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梦想皆有神助，新世纪伊姆雷成为第一位证明人，预言家说，还会有第二位，就藏在有梦想的人中间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50920" y="333360"/>
            <a:ext cx="107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故事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6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华文彩云"/>
                <a:ea typeface="华文行楷"/>
              </a:rPr>
              <a:t>一、爱心助学班成立的背景</a:t>
            </a:r>
            <a:endParaRPr b="1" lang="en-US" sz="4400" spc="-1" strike="noStrike">
              <a:solidFill>
                <a:srgbClr val="98462c"/>
              </a:solidFill>
              <a:latin typeface="华文彩云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59040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社会发展的要求，孩子们的渴望</a:t>
            </a:r>
            <a:endParaRPr b="0" lang="en-US" sz="24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我们学校快速发展，实力大大增强，为开展救助工作奠定了良好的基础</a:t>
            </a:r>
            <a:endParaRPr b="0" lang="en-US" sz="24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全社会救助事业的发展和对救助工作的</a:t>
            </a:r>
            <a:endParaRPr b="0" lang="en-US" sz="2400" spc="-1" strike="noStrike">
              <a:solidFill>
                <a:srgbClr val="333333"/>
              </a:solidFill>
              <a:latin typeface="幼圆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高度重视，促进了慈善事业的迅速发展</a:t>
            </a:r>
            <a:endParaRPr b="0" lang="en-US" sz="24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学校具有开展爱心助学的优良传统</a:t>
            </a:r>
            <a:endParaRPr b="0" lang="en-US" sz="24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全校开展保持共产党员先进性教育活动</a:t>
            </a:r>
            <a:endParaRPr b="0" lang="en-US" sz="2400" spc="-1" strike="noStrike">
              <a:solidFill>
                <a:srgbClr val="333333"/>
              </a:solidFill>
              <a:latin typeface="幼圆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的重要组成部分</a:t>
            </a:r>
            <a:endParaRPr b="0" lang="en-US" sz="24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幼圆"/>
                <a:ea typeface="迷你简启体"/>
              </a:rPr>
              <a:t>市委市政府的大力倡导</a:t>
            </a:r>
            <a:endParaRPr b="0" lang="en-US" sz="2400" spc="-1" strike="noStrike">
              <a:solidFill>
                <a:srgbClr val="333333"/>
              </a:solidFill>
              <a:latin typeface="幼圆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1911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宋体"/>
              </a:rPr>
              <a:t>你们是多么地幸运</a:t>
            </a:r>
            <a:r>
              <a:rPr b="1" lang="zh-CN" sz="4000" spc="-1" strike="noStrike">
                <a:solidFill>
                  <a:srgbClr val="ff0000"/>
                </a:solidFill>
                <a:latin typeface="汉鼎简长美黑"/>
                <a:ea typeface="汉鼎简长美黑"/>
              </a:rPr>
              <a:t>？</a:t>
            </a:r>
            <a:endParaRPr b="1" lang="en-US" sz="4000" spc="-1" strike="noStrike">
              <a:solidFill>
                <a:srgbClr val="98462c"/>
              </a:solidFill>
              <a:latin typeface="华文彩云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幼圆"/>
                <a:ea typeface="宋体"/>
              </a:rPr>
              <a:t>◆ 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每人免收学费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5000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元，杂费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630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元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(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住宿费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300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元、书籍费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150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元、公寓用品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180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元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)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，共免除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309650</a:t>
            </a:r>
            <a:r>
              <a:rPr b="0" lang="zh-CN" sz="2400" spc="-1" strike="noStrike">
                <a:solidFill>
                  <a:srgbClr val="333333"/>
                </a:solidFill>
                <a:latin typeface="幼圆"/>
                <a:ea typeface="宋体"/>
              </a:rPr>
              <a:t>元</a:t>
            </a:r>
            <a:endParaRPr b="0" lang="en-US" sz="2400" spc="-1" strike="noStrike">
              <a:solidFill>
                <a:srgbClr val="333333"/>
              </a:solidFill>
              <a:latin typeface="幼圆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2077920" cy="21225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63640" y="3213000"/>
            <a:ext cx="4681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市慈善总会每生每月补助生活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元，全班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人二年共需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6600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项合计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7565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元，每个学生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683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元，约相当于你们一个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的家庭平均收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这还不算学校在两年教学期间所投入的所有其他费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华文彩云"/>
                <a:ea typeface="宋体"/>
              </a:rPr>
              <a:t>          </a:t>
            </a:r>
            <a:r>
              <a:rPr b="1" lang="zh-CN" sz="6000" spc="-1" strike="noStrike">
                <a:solidFill>
                  <a:srgbClr val="ffffcc"/>
                </a:solidFill>
                <a:latin typeface="华文彩云"/>
                <a:ea typeface="宋体"/>
              </a:rPr>
              <a:t>幸运的比率</a:t>
            </a:r>
            <a:r>
              <a:rPr b="1" lang="zh-CN" sz="4000" spc="-1" strike="noStrike">
                <a:solidFill>
                  <a:srgbClr val="ffffcc"/>
                </a:solidFill>
                <a:latin typeface="华文彩云"/>
                <a:ea typeface="宋体"/>
              </a:rPr>
              <a:t>  ？</a:t>
            </a:r>
            <a:endParaRPr b="1" lang="en-US" sz="4000" spc="-1" strike="noStrike">
              <a:solidFill>
                <a:srgbClr val="98462c"/>
              </a:solidFill>
              <a:latin typeface="华文彩云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359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全市</a:t>
            </a: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个县区、</a:t>
            </a: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158</a:t>
            </a: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个乡镇，</a:t>
            </a: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870</a:t>
            </a: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万人</a:t>
            </a:r>
            <a:endParaRPr b="0" lang="en-US" sz="2800" spc="-1" strike="noStrike">
              <a:solidFill>
                <a:srgbClr val="333333"/>
              </a:solidFill>
              <a:latin typeface="幼圆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才</a:t>
            </a: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55</a:t>
            </a: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个孩子能到这里免费读书，</a:t>
            </a:r>
            <a:endParaRPr b="0" lang="en-US" sz="2800" spc="-1" strike="noStrike">
              <a:solidFill>
                <a:srgbClr val="333333"/>
              </a:solidFill>
              <a:latin typeface="幼圆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你就是一个啊</a:t>
            </a:r>
            <a:r>
              <a:rPr b="0" lang="zh-CN" sz="28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!</a:t>
            </a:r>
            <a:endParaRPr b="0" lang="en-US" sz="2800" spc="-1" strike="noStrike">
              <a:solidFill>
                <a:srgbClr val="333333"/>
              </a:solidFill>
              <a:latin typeface="幼圆"/>
            </a:endParaRPr>
          </a:p>
          <a:p>
            <a:pPr lvl="4" marL="20574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你们是多么地幸运</a:t>
            </a:r>
            <a:r>
              <a:rPr b="0" lang="zh-CN" sz="8000" spc="-1" strike="noStrike">
                <a:solidFill>
                  <a:srgbClr val="ff0000"/>
                </a:solidFill>
                <a:latin typeface="文鼎特粗圆简"/>
                <a:ea typeface="文鼎特粗圆简"/>
              </a:rPr>
              <a:t>!</a:t>
            </a:r>
            <a:endParaRPr b="0" lang="en-US" sz="8000" spc="-1" strike="noStrike">
              <a:solidFill>
                <a:srgbClr val="333333"/>
              </a:solidFill>
              <a:latin typeface="幼圆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5508720" y="5805360"/>
            <a:ext cx="2881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新魏"/>
              </a:rPr>
              <a:t>二、始终要有一颗感恩的心：</a:t>
            </a:r>
            <a:endParaRPr b="1" lang="en-US" sz="4000" spc="-1" strike="noStrike">
              <a:solidFill>
                <a:srgbClr val="98462c"/>
              </a:solidFill>
              <a:latin typeface="华文彩云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7067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幼圆"/>
                <a:ea typeface="宋体"/>
              </a:rPr>
              <a:t>学校和社会为我们付出这么多，我们应该怎么办？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幼圆"/>
                <a:ea typeface="文鼎粗圆简"/>
              </a:rPr>
              <a:t>我们到底意识没意识到我们的责任和使命？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幼圆"/>
                <a:ea typeface="文鼎粗圆简"/>
              </a:rPr>
              <a:t>我们究竟怎样回报社会、回报学校对我们的关心爱护？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幼圆"/>
                <a:ea typeface="文鼎粗圆简"/>
              </a:rPr>
              <a:t>我们究竟应该树立怎样的人生目标？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华文彩云"/>
                <a:ea typeface="宋体"/>
              </a:rPr>
              <a:t>三、树立：我们的目标</a:t>
            </a:r>
            <a:endParaRPr b="1" lang="en-US" sz="4800" spc="-1" strike="noStrike">
              <a:solidFill>
                <a:srgbClr val="98462c"/>
              </a:solidFill>
              <a:latin typeface="华文彩云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52120" y="1752480"/>
            <a:ext cx="7140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4c1d"/>
              </a:buClr>
              <a:buFont typeface="文鼎特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c1d"/>
                </a:solidFill>
                <a:latin typeface="文鼎特粗圆简"/>
                <a:ea typeface="文鼎特粗圆简"/>
              </a:rPr>
              <a:t>建一流的班级，不管是学习、生活、卫生各个方面，事事争一流，事事争先进，能争第一，不争第二</a:t>
            </a:r>
            <a:r>
              <a:rPr b="0" lang="zh-CN" sz="3200" spc="-1" strike="noStrike">
                <a:solidFill>
                  <a:srgbClr val="f94c1d"/>
                </a:solidFill>
                <a:latin typeface="文鼎特粗圆简"/>
                <a:ea typeface="文鼎特粗圆简"/>
              </a:rPr>
              <a:t>!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4c1d"/>
              </a:buClr>
              <a:buFont typeface="文鼎特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c1d"/>
                </a:solidFill>
                <a:latin typeface="文鼎特粗圆简"/>
                <a:ea typeface="文鼎特粗圆简"/>
              </a:rPr>
              <a:t>带头学知识、学技能，全面提高个人素质，成为对国家、对社会、对家庭有用的人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4c1d"/>
              </a:buClr>
              <a:buFont typeface="文鼎特粗圆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c1d"/>
                </a:solidFill>
                <a:latin typeface="文鼎特粗圆简"/>
                <a:ea typeface="文鼎特粗圆简"/>
              </a:rPr>
              <a:t>努力修炼自己的性格，做一个坚强快乐的青年</a:t>
            </a:r>
            <a:endParaRPr b="0" lang="en-US" sz="3200" spc="-1" strike="noStrike">
              <a:solidFill>
                <a:srgbClr val="333333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07640" y="189000"/>
            <a:ext cx="65502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四、明白：我们的优势和不足</a:t>
            </a: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穷人的孩子早当家，能吃苦，有毅力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社会的关心，学校的关爱，优越的学习生活环境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学校领导的结对帮扶…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老师对这个班倾注了极大的热情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e3e5c"/>
                </a:solidFill>
                <a:latin typeface="Arial"/>
                <a:ea typeface="宋体"/>
              </a:rPr>
              <a:t>唯一不足：家庭经济基础不好，没有优越的物质生活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5805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阳光总在风雨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3708360" y="573408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4544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61824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彩云"/>
                <a:ea typeface="宋体"/>
              </a:rPr>
              <a:t>五、坚定信念：人穷志不短，艰难更成才</a:t>
            </a:r>
            <a:endParaRPr b="1" lang="en-US" sz="28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所以我们每个同学都要立宏图大志，真正抓住在校二年的宝贵时光，充实知识，提高能力，全面发展</a:t>
            </a: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!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要把学校当作人生道路上的加油站，加满油向人生的目标冲刺</a:t>
            </a: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!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在校期间，不仅要学习知识，更重要的锻炼意志，磨炼精神，成为在市场经济的风浪里敢闯敢拼的优秀人才。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94c1d"/>
                </a:solidFill>
                <a:latin typeface="Times New Roman"/>
                <a:ea typeface="华康简标题宋"/>
              </a:rPr>
              <a:t>六、最重要的：</a:t>
            </a:r>
            <a:br>
              <a:rPr sz="4400"/>
            </a:br>
            <a:r>
              <a:rPr b="1" lang="zh-CN" sz="4400" spc="-1" strike="noStrike">
                <a:solidFill>
                  <a:srgbClr val="9adcf6"/>
                </a:solidFill>
                <a:latin typeface="Times New Roman"/>
                <a:ea typeface="华康简标题宋"/>
              </a:rPr>
              <a:t>                   </a:t>
            </a:r>
            <a:r>
              <a:rPr b="1" lang="zh-CN" sz="3600" spc="-1" strike="noStrike">
                <a:solidFill>
                  <a:srgbClr val="9adcf6"/>
                </a:solidFill>
                <a:latin typeface="Times New Roman"/>
                <a:ea typeface="华文新魏"/>
              </a:rPr>
              <a:t>培养坚强自信的性格</a:t>
            </a:r>
            <a:br>
              <a:rPr sz="3600"/>
            </a:br>
            <a:r>
              <a:rPr b="1" lang="zh-CN" sz="3600" spc="-1" strike="noStrike">
                <a:solidFill>
                  <a:srgbClr val="9adcf6"/>
                </a:solidFill>
                <a:latin typeface="Times New Roman"/>
                <a:ea typeface="华文新魏"/>
              </a:rPr>
              <a:t>                       乐观向上的人生态度</a:t>
            </a:r>
            <a:endParaRPr b="1" lang="en-US" sz="36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9280" y="2565000"/>
            <a:ext cx="821844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康简标题宋"/>
              </a:rPr>
              <a:t>选择决定命运，性格决定成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康简标题宋"/>
              </a:rPr>
              <a:t>自信是成功的重要前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康简标题宋"/>
              </a:rPr>
              <a:t>对自己的好运要深信不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康简标题宋"/>
              </a:rPr>
              <a:t>我们和其他孩子一样沐浴着阳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32000" y="5589720"/>
            <a:ext cx="705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一个故事：</a:t>
            </a:r>
            <a:r>
              <a:rPr b="0" lang="zh-CN" sz="3200" spc="-1" strike="noStrike" u="sng">
                <a:solidFill>
                  <a:srgbClr val="70b040"/>
                </a:solidFill>
                <a:uFillTx/>
                <a:latin typeface="Arial"/>
                <a:hlinkClick r:id="rId2" action="ppaction://hlinksldjump"/>
              </a:rPr>
              <a:t>让火箭飞得更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32000" y="6093000"/>
            <a:ext cx="6048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二个故事：</a:t>
            </a:r>
            <a:r>
              <a:rPr b="0" lang="zh-CN" sz="3200" spc="-1" strike="noStrike" u="sng">
                <a:solidFill>
                  <a:srgbClr val="70b040"/>
                </a:solidFill>
                <a:uFillTx/>
                <a:latin typeface="Arial"/>
                <a:hlinkClick r:id="rId3" action="ppaction://hlinksldjump"/>
              </a:rPr>
              <a:t>天使的吻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0:59:5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3:32:00Z</dcterms:modified>
  <cp:revision>95</cp:revision>
  <dc:subject>主题班会课件(分28大类): http://shop62905894.taobao.com</dc:subject>
  <dc:title>主题班会课件(分28大类): http://shop62905894.taobao.com</dc:title>
</cp:coreProperties>
</file>