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9.gif" ContentType="image/gif"/>
  <Override PartName="/ppt/media/image18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6D43-867D-4348-B148-4800FA08D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8A9D-76E9-4497-8615-300392E15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B174-030D-443C-9549-D442564DB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0CA7-4A49-444C-816E-B0100075B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2B42-3B33-46BC-BE2F-7B03BB3AF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E041-BDD5-4CC4-A309-D73421089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5995-8DED-4065-9FA4-F8C587ABD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32EF-0FDB-4A5B-804B-2D99F1745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C5B2-FBAB-4AB0-9AF2-8FE9B9097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D9D4-F55C-48FA-8126-BBBFE40A0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57F4-5820-4DB5-9070-52A33D778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F809-98A7-41DE-A752-C3F512C05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574D0-E067-44BE-9010-F2435869EF9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user.ooopic.com/pic_652691/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user.ooopic.com/pic_653665/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user.ooopic.com/pic_650389/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0" b="20657"/>
          <a:stretch/>
        </p:blipFill>
        <p:spPr>
          <a:xfrm>
            <a:off x="0" y="4552920"/>
            <a:ext cx="9144000" cy="2305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4920" y="542880"/>
            <a:ext cx="835344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高考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            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只有坚持才能成功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           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七步增强你的自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142920" y="5497560"/>
            <a:ext cx="8858160" cy="1360440"/>
            <a:chOff x="142920" y="5497560"/>
            <a:chExt cx="8858160" cy="1360440"/>
          </a:xfrm>
        </p:grpSpPr>
        <p:grpSp>
          <p:nvGrpSpPr>
            <p:cNvPr id="82" name=""/>
            <p:cNvGrpSpPr/>
            <p:nvPr/>
          </p:nvGrpSpPr>
          <p:grpSpPr>
            <a:xfrm>
              <a:off x="142920" y="5497560"/>
              <a:ext cx="2700360" cy="1360440"/>
              <a:chOff x="142920" y="5497560"/>
              <a:chExt cx="2700360" cy="1360440"/>
            </a:xfrm>
          </p:grpSpPr>
          <p:pic>
            <p:nvPicPr>
              <p:cNvPr id="8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42920" y="5516640"/>
                <a:ext cx="1308240" cy="134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474920" y="5497560"/>
                <a:ext cx="1368360" cy="1360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5" name=""/>
            <p:cNvGrpSpPr/>
            <p:nvPr/>
          </p:nvGrpSpPr>
          <p:grpSpPr>
            <a:xfrm>
              <a:off x="3132000" y="5497560"/>
              <a:ext cx="2700360" cy="1360440"/>
              <a:chOff x="3132000" y="5497560"/>
              <a:chExt cx="2700360" cy="1360440"/>
            </a:xfrm>
          </p:grpSpPr>
          <p:pic>
            <p:nvPicPr>
              <p:cNvPr id="8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132000" y="5516640"/>
                <a:ext cx="1308240" cy="134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464000" y="5497560"/>
                <a:ext cx="1368360" cy="1360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8" name=""/>
            <p:cNvGrpSpPr/>
            <p:nvPr/>
          </p:nvGrpSpPr>
          <p:grpSpPr>
            <a:xfrm>
              <a:off x="6300720" y="5497560"/>
              <a:ext cx="2700360" cy="1360440"/>
              <a:chOff x="6300720" y="5497560"/>
              <a:chExt cx="2700360" cy="1360440"/>
            </a:xfrm>
          </p:grpSpPr>
          <p:pic>
            <p:nvPicPr>
              <p:cNvPr id="8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300720" y="5516640"/>
                <a:ext cx="1308240" cy="134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632720" y="5497560"/>
                <a:ext cx="1368360" cy="1360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91" name=""/>
          <p:cNvSpPr/>
          <p:nvPr/>
        </p:nvSpPr>
        <p:spPr>
          <a:xfrm>
            <a:off x="539640" y="549360"/>
            <a:ext cx="8064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第六步：改错题，做到考后一百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面对一套套模拟题，你发现不论怎么仔细，都会做错题。这让你很气馁，甚至感到绝望：“我怎么总是做错？”其实仔细分析你会发现，这些错的都是老问题。如果你能够花时间改正过去的错题，将错题改对，做到考后一百分。既可以达到有效复习的目的，也可以随着问题的解决而产生自信。因此，改错题比做新题更能增强自信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巨幅风景"/>
          <p:cNvPicPr/>
          <p:nvPr/>
        </p:nvPicPr>
        <p:blipFill>
          <a:blip r:embed="rId1"/>
          <a:srcRect l="0" t="34691" r="0" b="0"/>
          <a:stretch/>
        </p:blipFill>
        <p:spPr>
          <a:xfrm>
            <a:off x="0" y="5632560"/>
            <a:ext cx="9144000" cy="12254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12720" y="730080"/>
            <a:ext cx="7991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第七步：欺软怕硬，多做容易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难题是没有止境的，不论你多么聪明和努力，总有能难住你的考题。在难题面前，你会变得渺小，不自信。而在容易题面前，你会觉得自己比较厉害，有信心。在没有信心的时候，不妨多尝试基础题型。胜在高三快乐高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黄玫瑰"/>
          <p:cNvPicPr/>
          <p:nvPr/>
        </p:nvPicPr>
        <p:blipFill>
          <a:blip r:embed="rId1"/>
          <a:srcRect l="0" t="15498" r="0" b="0"/>
          <a:stretch/>
        </p:blipFill>
        <p:spPr>
          <a:xfrm>
            <a:off x="0" y="5589720"/>
            <a:ext cx="9144000" cy="12682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611280" y="1773360"/>
            <a:ext cx="801828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99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成功的花</a:t>
            </a:r>
            <a:endParaRPr b="1" lang="en-US" sz="44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ff99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99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只为自信者开放！</a:t>
            </a:r>
            <a:endParaRPr b="1" lang="en-US" sz="44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ff99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5524560"/>
            <a:ext cx="914400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5157720"/>
            <a:ext cx="914400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长城"/>
          <p:cNvPicPr/>
          <p:nvPr/>
        </p:nvPicPr>
        <p:blipFill>
          <a:blip r:embed="rId1"/>
          <a:srcRect l="0" t="31040" r="0" b="0"/>
          <a:stretch/>
        </p:blipFill>
        <p:spPr>
          <a:xfrm>
            <a:off x="0" y="5288040"/>
            <a:ext cx="9144000" cy="15699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11280" y="40464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990033"/>
                </a:solidFill>
                <a:latin typeface="Arial"/>
              </a:rPr>
              <a:t>我们知道实现高考梦想的征途不会一帆风顺，所以几乎每位同学都对即将遇到的困难和挫折做了心理准备。因为坚信“一分汗水，一份收获”，我们为实现梦想而辛勤耕耘着。可是后来发现，自己流了很多很多汗水，却没有见到收获，学习成绩进步不明显，有时成绩甚至越来越差。当我们失败的时候，总是告诉自己要努力，可接下来又是新的失败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30353" r="0" b="0"/>
          <a:stretch/>
        </p:blipFill>
        <p:spPr>
          <a:xfrm>
            <a:off x="0" y="5610240"/>
            <a:ext cx="9144000" cy="12747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84360" y="549360"/>
            <a:ext cx="784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990033"/>
                </a:solidFill>
                <a:latin typeface="Arial"/>
              </a:rPr>
              <a:t>你能够承受多少次失败的打击？很多同学都在多次失败的打击下，令人惋惜的放弃了努力。甚至有的同学在一次不理想的考试之后就开始灰心、绝望了。其实，成功就在你绝望、准备放弃的背后。如果你能咬牙再坚持一下，再努力一把，克服这种深深的绝望感，成功就会奇迹般的出现在你面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Arial"/>
              </a:rPr>
              <a:t>　　你们应该记住，最浪费时间的一件事就是太早放弃。人们经常在做了</a:t>
            </a:r>
            <a:r>
              <a:rPr b="1" lang="zh-CN" sz="2800" spc="-1" strike="noStrike">
                <a:solidFill>
                  <a:srgbClr val="990033"/>
                </a:solidFill>
                <a:latin typeface="Arial"/>
              </a:rPr>
              <a:t>90%</a:t>
            </a:r>
            <a:r>
              <a:rPr b="1" lang="zh-CN" sz="2800" spc="-1" strike="noStrike">
                <a:solidFill>
                  <a:srgbClr val="990033"/>
                </a:solidFill>
                <a:latin typeface="Arial"/>
              </a:rPr>
              <a:t>的工作后，放弃了最后可以让他们成功的</a:t>
            </a:r>
            <a:r>
              <a:rPr b="1" lang="zh-CN" sz="2800" spc="-1" strike="noStrike">
                <a:solidFill>
                  <a:srgbClr val="990033"/>
                </a:solidFill>
                <a:latin typeface="Arial"/>
              </a:rPr>
              <a:t>10%</a:t>
            </a:r>
            <a:r>
              <a:rPr b="1" lang="zh-CN" sz="2800" spc="-1" strike="noStrike">
                <a:solidFill>
                  <a:srgbClr val="990033"/>
                </a:solidFill>
                <a:latin typeface="Arial"/>
              </a:rPr>
              <a:t>。这不但让他们输掉了开始的投资，更失去了发现宝藏的可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947000" y="5373720"/>
            <a:ext cx="1197000" cy="1484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843280" y="5661000"/>
            <a:ext cx="1484280" cy="1197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258920" y="5661000"/>
            <a:ext cx="1484280" cy="1197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0" y="5373720"/>
            <a:ext cx="1197000" cy="1484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4500720" y="5661000"/>
            <a:ext cx="1484280" cy="1197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6227640" y="5661000"/>
            <a:ext cx="1484280" cy="1197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770200" y="189000"/>
            <a:ext cx="36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成功者的秘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26920" y="112536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某校曾经对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500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多名高三毕业生进行过一项成功心态调查，比较成功者和失败者之间的差异。结果发现，只有对“考试成功的信心”能够将他们区分开来。成功者坚信自己能够成功，哪怕他们正遭遇有史以来的最惨烈的失败；失败者不相信自己最终能获胜，哪怕自己的考试成绩比其他同学都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26920" y="436572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Arial"/>
              </a:rPr>
              <a:t>这个结果告诉我们：要想取得成功首先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要坚信自己能够成功</a:t>
            </a:r>
            <a:r>
              <a:rPr b="1" lang="zh-CN" sz="2800" spc="-1" strike="noStrike">
                <a:solidFill>
                  <a:srgbClr val="008080"/>
                </a:solidFill>
                <a:latin typeface="Arial"/>
              </a:rPr>
              <a:t>，它是通往成功大门的钥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蓝天绿地">
            <a:hlinkClick r:id="rId1"/>
          </p:cNvPr>
          <p:cNvPicPr/>
          <p:nvPr/>
        </p:nvPicPr>
        <p:blipFill>
          <a:blip r:embed="rId2"/>
          <a:srcRect l="0" t="30024" r="0" b="0"/>
          <a:stretch/>
        </p:blipFill>
        <p:spPr>
          <a:xfrm>
            <a:off x="0" y="5518080"/>
            <a:ext cx="9144000" cy="13399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835280" y="44280"/>
            <a:ext cx="55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七步增强你的自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682560"/>
            <a:ext cx="84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339933"/>
                </a:solidFill>
                <a:latin typeface="Arial"/>
              </a:rPr>
              <a:t>同学们如果坚持按照下面方法练习，就能满怀信心，并迎来胜利的那一天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9280" y="1557360"/>
            <a:ext cx="878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第一步：成功阶梯步步高。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信心的丧失往往是因为不能保证自己能考上理想的大学，如果我们引入概率观念就可以增强信心。我们可以根据自己的实力评估考上各层次大学的可能性，比如某同学考上各层次大学的概率依次为：专科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95%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、一般本科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80%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、重点本科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50%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、北大清华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10%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。这个同学努力的目标应该是拿下一般本科，争取考上重点本科，对北大清华抱有美好的希望。有了清醒的认识和明确的目标，并通过努力一步步提高概率，信心也会随之而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原野红霓">
            <a:hlinkClick r:id="rId1"/>
          </p:cNvPr>
          <p:cNvPicPr/>
          <p:nvPr/>
        </p:nvPicPr>
        <p:blipFill>
          <a:blip r:embed="rId2"/>
          <a:srcRect l="0" t="31651" r="0" b="0"/>
          <a:stretch/>
        </p:blipFill>
        <p:spPr>
          <a:xfrm>
            <a:off x="0" y="5516640"/>
            <a:ext cx="9144000" cy="13413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826920" y="907920"/>
            <a:ext cx="7848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第二步：每天都说“我能行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心理学研究发现，自我暗示能量巨大。如果我们暗示自己“我能行”，我们就会逐渐变得更有能力，如果总是告诉自己 “我不行”，就会变得越来越无能。增强自信的办法之一就是采用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积极暗示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的方法，在心里反复告诉自己“我能行”，“我能成功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风景">
            <a:hlinkClick r:id="rId1"/>
          </p:cNvPr>
          <p:cNvPicPr/>
          <p:nvPr/>
        </p:nvPicPr>
        <p:blipFill>
          <a:blip r:embed="rId2"/>
          <a:srcRect l="0" t="35810" r="0" b="0"/>
          <a:stretch/>
        </p:blipFill>
        <p:spPr>
          <a:xfrm>
            <a:off x="0" y="5688000"/>
            <a:ext cx="9144000" cy="1197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755640" y="907920"/>
            <a:ext cx="7777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Arial"/>
              </a:rPr>
              <a:t>第三步：回忆成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经常回顾曾经的成功经历，可以从中找到信心。同学们可以有意识地回忆自己成功的学习和考试经验，它可以是大型考试，也可以是小测试，只要能给你带来成功的感觉就行，回忆越多越好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0" t="14737" r="0" b="0"/>
          <a:stretch/>
        </p:blipFill>
        <p:spPr>
          <a:xfrm>
            <a:off x="0" y="5300640"/>
            <a:ext cx="9144000" cy="15573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39640" y="476280"/>
            <a:ext cx="8137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Arial"/>
              </a:rPr>
              <a:t>第四步：想象成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对未来的美好憧憬最能激发豪情和斗志。我们可以经常想象自己在高考考场上自由驰骋的情形；想象自己得知理想考试分数的情景；想象自己收到录取通知书时的情景；想象自己在秋季开学时，进入大学的情景……想象内容最好固定不要任意更换，还可以为自己的想象增加一些细节，情节越丰富，效果越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77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" dur="770" fill="hold"/>
                                        <p:tgtEl>
                                          <p:spTgt spid="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" dur="77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" dur="77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0" y="5661000"/>
            <a:ext cx="9144000" cy="1197000"/>
            <a:chOff x="0" y="5661000"/>
            <a:chExt cx="9144000" cy="1197000"/>
          </a:xfrm>
        </p:grpSpPr>
        <p:grpSp>
          <p:nvGrpSpPr>
            <p:cNvPr id="71" name=""/>
            <p:cNvGrpSpPr/>
            <p:nvPr/>
          </p:nvGrpSpPr>
          <p:grpSpPr>
            <a:xfrm>
              <a:off x="0" y="5661000"/>
              <a:ext cx="2590920" cy="1197000"/>
              <a:chOff x="0" y="5661000"/>
              <a:chExt cx="2590920" cy="1197000"/>
            </a:xfrm>
          </p:grpSpPr>
          <p:pic>
            <p:nvPicPr>
              <p:cNvPr id="7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5661000"/>
                <a:ext cx="1165320" cy="1197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332000" y="5661000"/>
                <a:ext cx="1258920" cy="1197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4" name=""/>
            <p:cNvGrpSpPr/>
            <p:nvPr/>
          </p:nvGrpSpPr>
          <p:grpSpPr>
            <a:xfrm>
              <a:off x="2627280" y="5661000"/>
              <a:ext cx="2590920" cy="1197000"/>
              <a:chOff x="2627280" y="5661000"/>
              <a:chExt cx="2590920" cy="1197000"/>
            </a:xfrm>
          </p:grpSpPr>
          <p:pic>
            <p:nvPicPr>
              <p:cNvPr id="7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627280" y="5661000"/>
                <a:ext cx="1165320" cy="1197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959280" y="5661000"/>
                <a:ext cx="1258920" cy="1197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77" name="" descr=""/>
            <p:cNvPicPr/>
            <p:nvPr/>
          </p:nvPicPr>
          <p:blipFill>
            <a:blip r:embed="rId5"/>
            <a:stretch/>
          </p:blipFill>
          <p:spPr>
            <a:xfrm>
              <a:off x="6626160" y="5661000"/>
              <a:ext cx="1258920" cy="119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" descr=""/>
            <p:cNvPicPr/>
            <p:nvPr/>
          </p:nvPicPr>
          <p:blipFill>
            <a:blip r:embed="rId6"/>
            <a:stretch/>
          </p:blipFill>
          <p:spPr>
            <a:xfrm>
              <a:off x="7978680" y="5661000"/>
              <a:ext cx="1165320" cy="119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" descr=""/>
            <p:cNvPicPr/>
            <p:nvPr/>
          </p:nvPicPr>
          <p:blipFill>
            <a:blip r:embed="rId7"/>
            <a:stretch/>
          </p:blipFill>
          <p:spPr>
            <a:xfrm>
              <a:off x="5364000" y="5661000"/>
              <a:ext cx="1165320" cy="1197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" name=""/>
          <p:cNvSpPr/>
          <p:nvPr/>
        </p:nvSpPr>
        <p:spPr>
          <a:xfrm>
            <a:off x="468360" y="260280"/>
            <a:ext cx="8280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Arial"/>
              </a:rPr>
              <a:t>第五步：回顾复习历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越是临近高考，我们越是担心自己能否考好，这个时候容易焦虑、急躁。我们可以回顾自己的学习过程和复习经历，回顾自己从进入高三以来，对各科已经复习了多少遍，看了多少书，做了多少题。你会发现原来自己已经有了很大的进步和很多的收获，心中自然感到充实，对考试的信心就增强了。要你能将自己做过的题和看过的书摞起来放在桌子旁边的话，效果会更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4T14:51:26Z</dcterms:created>
  <dc:creator>a</dc:creator>
  <dc:description/>
  <cp:keywords>主题班会课件(分28大类): http://shop62905894.taobao.com</cp:keywords>
  <dc:language>en-US</dc:language>
  <cp:lastModifiedBy>User</cp:lastModifiedBy>
  <dcterms:modified xsi:type="dcterms:W3CDTF">2013-04-13T14:36:33Z</dcterms:modified>
  <cp:revision>6</cp:revision>
  <dc:subject>主题班会课件(分28大类): http://shop62905894.taobao.com</dc:subject>
  <dc:title>主题班会课件(分28大类): http://shop62905894.taobao.com</dc:title>
</cp:coreProperties>
</file>