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0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13.png" ContentType="image/pn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6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92.png" ContentType="image/png"/>
  <Override PartName="/ppt/media/image54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DA4-2E04-41DF-9646-B087B881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4AC-836D-434B-BCE1-4E45ADAB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7F2-3F73-4824-B124-83E347DF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E3B-31E8-4295-88F7-0D45614D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30E-3B06-443C-966D-3B1199F2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9A5A-63CC-4145-9DA4-CAE34936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791-B7AE-44E2-A13F-A9CD9791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CEF-558F-483F-A4AA-9373130E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6C6-738D-42F9-A0CE-E69C41E8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9B8-FE21-41BB-900F-632574E5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679-6030-4337-AB90-AFFBBC55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257-DE45-418F-841A-78376FE9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C6DD-5D69-4EC4-9D1A-88A6F8032A2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A2A9-4969-4AA8-BD17-E212911195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paper.jinghua.cn/res/1/20070624/22491182614771750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blog.sina.com.cn/main/html/showpic.html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bbs.qq.com/allphoto.shtml?url=http://photocdn.sohu.com/20070627/Img250788843.jpg" TargetMode="External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edu.sina.com.cn/gaokao/2007-06-24/195990133.shtml" TargetMode="External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edu.sina.com.cn/gaokao/2007-06-24/155890099.shtml" TargetMode="External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90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华文新魏"/>
                <a:ea typeface="华文新魏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437000"/>
            <a:ext cx="5040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校：郑州外国语中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师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2637000"/>
            <a:ext cx="0" cy="1439640"/>
          </a:xfrm>
          <a:prstGeom prst="line">
            <a:avLst/>
          </a:prstGeom>
          <a:ln w="9360">
            <a:solidFill>
              <a:srgbClr val="051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32000" y="1268280"/>
            <a:ext cx="669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2007</a:t>
            </a: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年高考状元荟萃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A4B-04A3-4807-8294-C8CA597126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E3834-5EEE-43B8-9D05-CC5F4DA8C9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第一时间独家连线上海市文科状元魏宏琰(音频)"/>
          <p:cNvPicPr/>
          <p:nvPr/>
        </p:nvPicPr>
        <p:blipFill>
          <a:blip r:embed="rId1"/>
          <a:stretch/>
        </p:blipFill>
        <p:spPr>
          <a:xfrm>
            <a:off x="4714920" y="260280"/>
            <a:ext cx="3868560" cy="5149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64000" y="558972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海市文科总分状元：魏宏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549360"/>
            <a:ext cx="381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姓名：魏宏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自：控江中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总成绩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6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政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综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加学校社团、吉他、打羽毛球、看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10B-7E45-4FBF-A24F-BAAE8588F38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C0BAC-23F0-4FEA-B5B4-07451CE38B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广东选考政治总分状元肖菲：每天跑800米(图)"/>
          <p:cNvPicPr/>
          <p:nvPr/>
        </p:nvPicPr>
        <p:blipFill>
          <a:blip r:embed="rId1"/>
          <a:srcRect l="0" t="0" r="0" b="16000"/>
          <a:stretch/>
        </p:blipFill>
        <p:spPr>
          <a:xfrm>
            <a:off x="324000" y="115920"/>
            <a:ext cx="2857320" cy="3600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348000" y="898560"/>
            <a:ext cx="54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广东选考政治总分状元肖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深圳外国语学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选择学校：保送北京外国语大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8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371628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肖菲说，她每天都要预习功课，平均一门功课要花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钟时间。另外，她还自己在课本目录表上把每一节内容的难点和重点标出来，这样就一目了然，复习时也事半功倍了。肖菲还认为，高三这一年挺累的，每天课间都有同学趴在桌子上，抓紧时间休息，而她的“独门秘诀”则是放学后在校园体育场的跑道上跑两圈，一共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531-C586-4B37-9C4A-95F603380F6F}" type="slidenum">
              <a:t>10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7867D-3C0E-4F67-A31B-CD41367DDA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专访07广东高考生物总分状元胡晓烨(图)"/>
          <p:cNvPicPr/>
          <p:nvPr/>
        </p:nvPicPr>
        <p:blipFill>
          <a:blip r:embed="rId1"/>
          <a:stretch/>
        </p:blipFill>
        <p:spPr>
          <a:xfrm>
            <a:off x="5724360" y="333360"/>
            <a:ext cx="3102120" cy="3887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084720" y="472428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广东选考生物总分状元胡晓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9280" y="171360"/>
            <a:ext cx="55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胡说，最初听到他是状元时，他第一反应是“会不会有人耍我？”他说，的确从来没有想过，只希望自己能够过港大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数线就可以了。说到给学弟学妹们的经验，他说关键是每天要做好计划，做完就打一个勾，同时每个星期、每个学期不同阶段都要定下不同的计划。他不建议题海战术，周末他一般不搞学习，来做些补觉、上网的修整放松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他说：“成为状元的确是一个大大的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urprise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我觉得踏实努力，就不会对这三年高中生活讲后悔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CB7-32FD-42C4-9815-CBC21A6F60F8}" type="slidenum">
              <a:t>10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DAE2F-E559-4CCD-B684-612926D85A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057560" y="333360"/>
            <a:ext cx="4667400" cy="5975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564000" y="63565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00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年广东高考文科总分状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严俏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5280" y="466560"/>
            <a:ext cx="33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状元档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9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明一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提前批志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香港中文大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一志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上海复旦大学经济专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B0A-F15B-42F7-B467-8A73109B8146}" type="slidenum">
              <a:t>10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21C11-6D39-45E5-A36F-51186036BA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07年广东高考文科状元出炉花落高明一中(图)"/>
          <p:cNvPicPr/>
          <p:nvPr/>
        </p:nvPicPr>
        <p:blipFill>
          <a:blip r:embed="rId1"/>
          <a:stretch/>
        </p:blipFill>
        <p:spPr>
          <a:xfrm>
            <a:off x="4859280" y="333360"/>
            <a:ext cx="3960720" cy="2905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16000" y="115920"/>
            <a:ext cx="47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严俏华认为，自己其实是一个“思想上叛逆型，行为上乖乖型”的女生，她的另一个典型性格就是做任何事都会尽最大努力。比如，“很多人认为文科生的数学比较差，但我经过努力，到最后每次数学考试都能考得接近满分。”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年来，严俏华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4000" y="40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课余时间里，她基本上待在家里，有时看名人传记，有时看电视连续剧，有时则用蜡笔临摹小动物，还有时写一写随笔周记。高考结束后，她也是一直待在家里，没有出去逛街或者旅游。“高一时开始喜欢看网球赛，但是到现在我连网球拍都没摸过，更别提打过网球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56000" y="3500280"/>
            <a:ext cx="47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一直过着十分平静的生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74C-0C1E-48AE-A531-DE1A758AE327}" type="slidenum">
              <a:t>10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B8612-FC81-4F9E-8CAC-F71C336644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50920" y="954000"/>
            <a:ext cx="802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黄容生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数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9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学校：惠州一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志愿：清华大学数理基础科学专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理科状元黄容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父母：家中务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学业：一直比较稳定，平时最喜欢物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秘诀：学习要有针对性，要善于寻找自己的弱点，然后攻克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爱好：课余有时会打一会乒乓球，虽然学过电脑，但不上网吧不玩游戏，更不会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聊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好孩子：勤奋能吃苦，内向不张扬。小学初中时帮助父母卖肠粉，每月生活费铁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元，懂得家庭生活的压力，从不需要父母操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857680" cy="2847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95280" y="38880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年广东高考理科总分状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E0A-1AEC-45E6-9781-761CEEE33F67}" type="slidenum">
              <a:t>10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165C9-3D43-48DC-865F-0D9E3AEDA9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826920" y="62064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黄容生说，语数外的时间一定要保证，每天早上起床后会首先读一段英语。另外针对自己的弱点多请教老师，比如语文是自己的弱项，于是平时加大阅读量，经常请教师当面点评作文，每周要写一两篇话题作文。黄容生认为一中的教师经常帮助同学们查找自身的弱点，然后按不同情况施教，这使得自己学习很有目的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黄容生说平时的生活学习都有规律，不会专门加班加点，课余有时会打一会乒乓球，虽然学过电脑，也会利用课室电脑上网查找一下资料，但从来不玩游戏，更不会聊天，“我知道一些同学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但我从来没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号。我家里没有电脑，也从来没有去过网吧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BCB-0D07-4918-8BA4-5C8CF049C1C1}" type="slidenum">
              <a:t>10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02286-C45B-4BB7-A067-B7BB023135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908000" y="3860640"/>
            <a:ext cx="1440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11280" y="3573360"/>
            <a:ext cx="720720" cy="186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271520" y="2349360"/>
            <a:ext cx="639612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189000"/>
            <a:ext cx="5184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频道的电视节目，“考试前不久，纪实频道连续播放了蔡元培、马相 伯等教育界大师的纪录片，我很喜欢看，高考时还把其中的一些片段用作作文素材，感觉发挥得还不错。”在各科成绩里面，小魏的英语成绩最高，她表示英语也是自己最喜爱的学科，而学习经验就是多听、多练，“我很喜欢看原版片，比如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辛德勒的名单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工智能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平时还一直坚持收听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B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VO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些电台的节目，时间一长，语感自然就锻炼出来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0" b="31239"/>
          <a:stretch/>
        </p:blipFill>
        <p:spPr>
          <a:xfrm>
            <a:off x="5580000" y="260280"/>
            <a:ext cx="3368880" cy="2952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14723" t="0" r="-2989" b="38459"/>
          <a:stretch/>
        </p:blipFill>
        <p:spPr>
          <a:xfrm>
            <a:off x="5580000" y="3429000"/>
            <a:ext cx="352764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D463-0616-4AF9-A8F8-D485EF6CC6C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19E2F-0954-4E6B-AE53-AFE34B089E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620640"/>
            <a:ext cx="946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语文和英语这两门学科上，小魏也获得了不少荣誉，比如高一时获得首届全国中学生作文比赛一等奖，高三时获得全国英语比赛高中组二等奖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  高中三年，魏宏琰一直在晚上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前休息，以保证充足的睡眠时间，班主任这么描述她上课时的神态：她总是聚精会神地听课，眼睛片刻也不会离开老师和黑板，笔记记得也最认真！因为学习效率高，小魏从未参加过辅导班，请过家教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  对于学弟学妹，小魏总结了三句话学习经验：一、多整理笔记和作业；二、平时多看书；三、平时一两次考砸了不要紧，偶尔失手是难免的。对于第三点，小魏补 充，每次模拟考，学校都会排出语文、数学和英语三门学科成绩的名次，自己一般在年级前十，但偶尔也曾考过年级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名，但这很正常，并不能说明自己成绩下 降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D38-AC00-4C0C-85F3-B8B509DF2CB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B8B27-4109-4C15-A98C-1A216AFC7C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6165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状元胡文琦同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>
            <a:lum bright="6000"/>
          </a:blip>
          <a:srcRect l="30364" t="0" r="25783" b="0"/>
          <a:stretch/>
        </p:blipFill>
        <p:spPr>
          <a:xfrm>
            <a:off x="395280" y="331920"/>
            <a:ext cx="3753000" cy="5689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00720" y="260280"/>
            <a:ext cx="4319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胡文琦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她是班级里的“笔记女王”，也是“策划大师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海中学高三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班学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班级职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班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志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清华大学工商管理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物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综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25A-0578-4F4D-98B4-3470D5038E6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4963C-D780-4D8B-8290-1538664944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267080" cy="2838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4000" y="344340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她是班级里的“笔记女王”，她做的笔记常常成为同学争相传阅的范本，“出借”频率相当高，以至于借她笔记的人经常要排队；她是老师的“得力助手”，身为班长的她，拥有超强的工作能力，将班级活动组织地有声有色；她是班级活动的“策划大师”、“特派记者”，身兼数职，也能很好地处理学习与工作的关系，争分夺秒，始终保持了优异的成绩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4267080" cy="283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746-E602-4D34-A4C3-50E77D143CB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595B4-E0E8-463D-B3A8-A889597F06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33336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借她笔记的人要排队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说起胡文琦的“学习窍门”，大家的第一反应都出奇地一致，那就是她那响当当的称号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笔记女王”。翻开胡文琦做的笔记，从来都是文字整洁，纲举目张，条理清晰。“她的笔记经常出借，而且非常抢手，借她笔记的人还要排队！”说起“笔记女王”，好友陶栋艳“爆料”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 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我觉得有价值的事情，我就很愿意花时间去做！”对此，胡文琦告诉记者，在高三复习阶段，每学习完一篇文言文，她必定会做有关实词、诗词和文言特殊句式的整理，这个整理可不是一般意义上的“抄抄写写”，“几乎每整理一篇文言文，都要花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小时的时间！”胡文琦整理笔记的功力和花费的心血，令记者颇为惊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233-BE71-4099-854F-56230888B0B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A665A-D2B1-4870-811E-C5F3462BD1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46044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认真记录教师上课所讲的点点滴滴；将自己做错的题目悉心整理成错题集；不补课、不额外做题。胡文琦沿袭了上中学生一贯的学习传统外，还有自己一套方法。高考前一周在家复习，胡文琦按高考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考试科目安排，拿前几年高考试卷模拟高考。循环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次后，原本心情就平和的胡文琦迈高考这道坎时更是轻松了很多。“查分时，我听到语文考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高兴了一下。”胡文琦说，她对自己写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600360" cy="59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A9B-7CEE-4FAB-8BF3-F9A0BD3728D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D0EB9-B994-4125-A8B4-E5650C216D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95640" y="189000"/>
            <a:ext cx="482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作文感觉并不非常得意，没想到她的平常心，使她顺利笑到最后。很多住宿生一到高三就大打疲劳战，双休日在家早上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不到就起床，晚上熬夜过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，比学校住宿规定还严格。但胡文琦在家时，每天早上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起来，背单词、听听力，晚上一到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就自觉熄灯睡觉。高三一开始，胡文琦每天还坚持跑一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，高三紧张后期，胡文琦依然坚持每周至少跑一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，远离感冒等小毛病，健健康康迎接高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582720" cy="59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4B1-8791-48F1-A517-98AD23A1013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5E5E6-6A79-4B35-A65D-60FABDA00A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天津2007年高考文理科第一名揭晓(组图)"/>
          <p:cNvPicPr/>
          <p:nvPr/>
        </p:nvPicPr>
        <p:blipFill>
          <a:blip r:embed="rId1"/>
          <a:stretch/>
        </p:blipFill>
        <p:spPr>
          <a:xfrm>
            <a:off x="468360" y="549360"/>
            <a:ext cx="8209080" cy="5254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49440" y="5734080"/>
            <a:ext cx="676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津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高考理科最高分陆宇衡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津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高考文科最高分於思雨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右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天津2007年高考文理科第一名揭晓(组图)"/>
          <p:cNvPicPr/>
          <p:nvPr/>
        </p:nvPicPr>
        <p:blipFill>
          <a:blip r:embed="rId2"/>
          <a:stretch/>
        </p:blipFill>
        <p:spPr>
          <a:xfrm>
            <a:off x="324000" y="549360"/>
            <a:ext cx="8329320" cy="525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D8D-08E4-4345-945B-3E14EB036C5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66497-2759-4590-B9ED-523C0E38A8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476280"/>
            <a:ext cx="388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於思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小时候就想上北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       新华中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6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＋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市级三好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单科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综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5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报考学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大学光华管理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30760" y="404640"/>
            <a:ext cx="3944880" cy="59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E8B-C863-4FC7-9FD9-139ABA8FEBA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E8440-85E2-4AAC-8435-7C5990E912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8037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16000" y="614988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北京理科状元林茜　文科状元张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028-5DF9-4EEE-BADF-6F26B4D948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B295D-4353-4A43-B5E4-B386D62A12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356000" y="404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她是位文学少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於思雨饱读诗书，文学功底非常深厚，这是很多位老师都津津乐道的。班主任兼语文老师袁卫华介绍，她的文笔非常好，平时所写作文的立意高度，也超过同龄人。她除了写一些应试的作文外，还写一些诗歌和散文。她把自己的文学作品装订成集，送给每一位教给自己的老师。这本文集里的一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精灵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让年级组长冯振利老师赞不绝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00160" cy="568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801960" cy="568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D6D-6029-4024-8844-3C2CF72B1013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F9F54-B095-4344-A9F7-97F568BBF2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189000"/>
            <a:ext cx="532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她最爱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今晚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於思雨酷爱文学，但父母却是理科出身。妈妈是天津工程师范学院的一名力学教师，爸爸是位医生。虽然父母对这些古典文学不太感兴趣，但是家庭气氛比较民主，父母非常尊重思雨的选择，支持她的爱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她的爱好很多，喜欢上网，也喜欢看电视，喜欢中央电视台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百家讲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探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发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节目。她也喜欢音乐频道，因为那里面经常播放一些古典音乐知识。不过她特别指出，自己喜欢读报纸。而且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5906" t="0" r="8819" b="22015"/>
          <a:stretch/>
        </p:blipFill>
        <p:spPr>
          <a:xfrm>
            <a:off x="5580000" y="1197000"/>
            <a:ext cx="3267000" cy="439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13542" t="1785" r="23104" b="35253"/>
          <a:stretch/>
        </p:blipFill>
        <p:spPr>
          <a:xfrm>
            <a:off x="5587920" y="1197000"/>
            <a:ext cx="3262320" cy="439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2FE-EA38-4021-AA7F-1330348DB6B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22F21-1A3A-44D6-8684-63D1E11FCD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2664000"/>
            <a:ext cx="554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於思雨的学习经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语文：重在日常积累，平时多看报纸和杂志，丰富知识，开阔眼界。丰富了知识面之后，才能总结出来一些技巧。当然，语文学习也不能脱离课本。语文高考的文言文虚词和实词考点多出自于课本，所以多读课本上的文言文，注意多多总结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2693880" cy="403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85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这些报纸中，我最爱读的还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今晚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因为家里每年都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今晚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”她说报纸上的文章能开阔自己的思路。平时，她还喜欢看书，虽然所看的书与自己的课程和考试无关，但她觉得还是受益匪浅。因为多读书能学会用另一种角度来审视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B5C-B602-4C53-96DE-1D7D31211CB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D2A6F-FF55-48B1-B8F5-3622025229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33336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：我的英语不是很强，所以复习的时候会跟着老师走。我经常看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周报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平时会做一些高考题。提高英语水平的一个好方法就是多练听力。听力材料可以是高考真题或模拟题。多练听力还会锻炼英语的语感，对做其他题也有帮助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56400" y="2565360"/>
            <a:ext cx="2954160" cy="4003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3141720"/>
            <a:ext cx="5327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：我的经验是多做题。我做的套题至少有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套以上。但我绝对不是死做题。我会经常总结一些错误、一类题的解法和一般规律，还经常思考一些大题的解题思路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FD0-3516-4AEF-991A-EB12A1C7AE15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88B5B-B8BF-44B1-A914-169001B5F8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9280" y="189000"/>
            <a:ext cx="6408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历史：我的经验是多看课本。我至少把教材读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遍以上，内容烂熟于心，也形成了对历史脉络的掌握。此外，可以总结一些历史专题，如中国古代政治史、经济史等。做一些高考模拟题可以明白高考考题的思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地理：最重要的是掌握地图。不仅要会读地图，还应该常默写地图。以图为纲，将知识串起来，这样地理知识也就生动起来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政治：需要多读课本。尤其要熟练掌握和运用政治术语。如果不能掌握，就无法深入浅出。高考那些材料阐释题，需要运用政治术语答题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3542" t="1785" r="23104" b="35253"/>
          <a:stretch/>
        </p:blipFill>
        <p:spPr>
          <a:xfrm>
            <a:off x="6519960" y="189000"/>
            <a:ext cx="2406600" cy="324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51940" t="0" r="0" b="0"/>
          <a:stretch/>
        </p:blipFill>
        <p:spPr>
          <a:xfrm>
            <a:off x="6516720" y="3284640"/>
            <a:ext cx="2448000" cy="340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F24-F854-4BA4-81EB-A9C122A705FE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AD300-000A-4A4D-9F76-9980B4D061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48160" y="262080"/>
            <a:ext cx="4371840" cy="611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-100080"/>
            <a:ext cx="39607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陆宇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耀华中学实验班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8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单科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语文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外语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报考学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北京大学生命科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68A-7C3A-4C3B-A75F-2CAE6CC84400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9D4FB-06E4-4DA2-A2FD-3B05B9D032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9640" y="30160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他觉得对于学习来说，计划是最重要的，而且越细越好。他会每天都安排好自己的学习，到了高考前夕，这个计划甚至会具体到每天几点到几点干什么。在学习的过程中，他也非常会调整自己，虽然经历过很多挫折，但他有着越挫越勇的心态。由于有着良好的理科基础，他形成了缜密的思维习惯，哪怕是一道题的解题速度和步骤，他也是经过了思考来掂量分配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260280"/>
            <a:ext cx="48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虽然陆宇衡年龄较小，但是在学习上，他却显得成熟又老到，有自己的学习秘诀，他说：“我不比别人聪明，也不比别人多用功，只是找到了适合自己的学习方法而已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46762" b="20846"/>
          <a:stretch/>
        </p:blipFill>
        <p:spPr>
          <a:xfrm>
            <a:off x="611280" y="189000"/>
            <a:ext cx="324000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29E-5C1C-46CC-AB01-140E9668C27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25414-E5B7-47F7-89A0-A9C118E09B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0920" y="260280"/>
            <a:ext cx="59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陆宇衡的学习经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高中不像初中时那样，老师不会管得那么死，学习的自主性增大了。所以学习也不要像初中那样，否则会很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高一的课余时间比较多，如果能够静下心来多学点东西，高二就会轻松很多。因为高二一到，马上就像准高三了，课程变难，学习会很紧张。高一学得足，高二就轻松，也就能够顺利过渡高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高一时如果能够列个计划，弥补自己的不足，就更好了。因为到了高二、高三如果还有弱科的话，就会耽误别的学科的学习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7520" t="0" r="9882" b="0"/>
          <a:stretch/>
        </p:blipFill>
        <p:spPr>
          <a:xfrm>
            <a:off x="6156360" y="262080"/>
            <a:ext cx="2736720" cy="61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24D6-4039-4E6D-9160-EC4F70A4B593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D276F-F7DF-462C-9414-D2C7EF87F8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1480" y="371628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上学期就会萎靡不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别把名次看得太重要，因为你越把它看得重要，往往越考不好，成绩也越容易下滑。因为名次已经给了你无形的压力，压力之下的学习往往学不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尽量不要熬夜。我一般会在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一刻睡觉，最晚也从来不过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5540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二的暑假也许会有海量的作业总也写不完，那么就挑出对自己有帮助的进行练习。高二暑假期间的学习很重要，这直接决定了高三开学的摸底考试好坏，也就直接决定高三大半年的心情。如果没有考好，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46762" b="0"/>
          <a:stretch/>
        </p:blipFill>
        <p:spPr>
          <a:xfrm>
            <a:off x="5580000" y="476280"/>
            <a:ext cx="2952720" cy="354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280-9DFB-4AAC-8A74-D5C09C79AA8F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9603D-F650-479C-BD73-E7B8A2229E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790800" cy="5977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0" y="260280"/>
            <a:ext cx="4321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物档案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姓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徐蓓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自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云师附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省级三好生加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书、玩乐器、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体育、听音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4E1-68EB-4445-8AA0-97CB58A9FB6D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27A5E-B9B7-48A8-86D3-3AEC6F59A4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78200" y="115920"/>
            <a:ext cx="4286520" cy="345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61080" y="357336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理科状元林茜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4005360"/>
            <a:ext cx="4321440" cy="272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476280"/>
            <a:ext cx="388944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姓名：林茜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：人大附中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9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2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8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1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8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志愿：作为保送生被北大数学学院录取，另报考香港大学精算专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A95-97C7-4BB1-BD65-4D9D06866F5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265C3-493E-4155-A3B3-C49C306C55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678分云南文科尖子生志愿在北大与港大间徘徊"/>
          <p:cNvPicPr/>
          <p:nvPr/>
        </p:nvPicPr>
        <p:blipFill>
          <a:blip r:embed="rId1"/>
          <a:stretch/>
        </p:blipFill>
        <p:spPr>
          <a:xfrm>
            <a:off x="468360" y="476280"/>
            <a:ext cx="3957480" cy="5689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4000" y="6237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华文中宋"/>
                <a:ea typeface="华文中宋"/>
              </a:rPr>
              <a:t>678</a:t>
            </a:r>
            <a:r>
              <a:rPr b="1" lang="zh-CN" sz="2400" spc="-1" strike="noStrike">
                <a:solidFill>
                  <a:srgbClr val="6600cc"/>
                </a:solidFill>
                <a:latin typeface="华文中宋"/>
                <a:ea typeface="华文中宋"/>
              </a:rPr>
              <a:t>分云南文科尖子生徐蓓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260280"/>
            <a:ext cx="43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前，开朗、乐观、讲义气的纳西族女孩徐蓓思，考上了师大附中。用她自己的话来说就是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一时比较散漫，高二时逐渐进入了状态，高三时较为稳定。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当很多学生在题海中奋战，把成绩提高的希望寄托于补课时，徐蓓思的好成绩却来得很轻松。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从来没补过课，没请过家教，没搞过题海战术。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绩好的秘诀，她想了想说：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课的时候专注，课堂上的知识一定要消化，听不懂的问题及时向老师请教。做题不在于多而在于精，课外题只是一种辅助。学习要讲效率，不断摸索出适合自己的学习方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2A7-1567-424B-BC0B-DE2FFAE7F55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B5936-C39B-4FBB-83BA-91C922980C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189000"/>
            <a:ext cx="532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要方法得当劳逸结合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徐蓓思说，学习是件很容易的事。她说：“只要方法得当，劳逸结合，考高分不是问题。”徐蓓思向即将要升入高三的学弟学妹们传授了一些自己的学习心得。她说，自己学习最注重劳逸结合，学累了也会看看电影，听听音乐休息一下。语文、数学和英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科目，徐蓓思每天都是在学校里进行复习，回家后主要复习文科综合。因为语文复习要注重基础知识，可以利用休息时间抄写六册语文课本中需要背诵的课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678分云南文科尖子生志愿在北大与港大间徘徊"/>
          <p:cNvPicPr/>
          <p:nvPr/>
        </p:nvPicPr>
        <p:blipFill>
          <a:blip r:embed="rId1"/>
          <a:srcRect l="5458" t="0" r="14479" b="16487"/>
          <a:stretch/>
        </p:blipFill>
        <p:spPr>
          <a:xfrm>
            <a:off x="5724360" y="404640"/>
            <a:ext cx="316872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146-2891-41F8-8A5A-2A941452D755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3FF42-2D19-4988-90A2-7710A6C485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2924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学则要注意多做题，特别是进入高三后，抓紧专题模拟试卷和真题的复习。英语则是一门可以在娱乐中学习提高的科目，看外文电影、听英文歌曲等学习方法。对于文综的历史，徐蓓思每天都要进行知识点熟悉，按照时间顺序整理笔记，罗列历史事件，在客厅、卧室到处张贴。而很多考生都认为最难的地理，徐蓓思说，只要会画地图，弄懂地球仪，地理考高分，绝对不是大问题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徐蓓思"/>
          <p:cNvPicPr/>
          <p:nvPr/>
        </p:nvPicPr>
        <p:blipFill>
          <a:blip r:embed="rId1"/>
          <a:stretch/>
        </p:blipFill>
        <p:spPr>
          <a:xfrm>
            <a:off x="324000" y="189000"/>
            <a:ext cx="1871640" cy="2735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678分云南文科尖子生志愿在北大与港大间徘徊"/>
          <p:cNvPicPr/>
          <p:nvPr/>
        </p:nvPicPr>
        <p:blipFill>
          <a:blip r:embed="rId2"/>
          <a:srcRect l="9069" t="4166" r="16327" b="34235"/>
          <a:stretch/>
        </p:blipFill>
        <p:spPr>
          <a:xfrm>
            <a:off x="2411280" y="189000"/>
            <a:ext cx="2952720" cy="273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" descr="678分云南文科尖子生志愿在北大与港大间徘徊"/>
          <p:cNvPicPr/>
          <p:nvPr/>
        </p:nvPicPr>
        <p:blipFill>
          <a:blip r:embed="rId3"/>
          <a:srcRect l="9069" t="4166" r="16327" b="34235"/>
          <a:stretch/>
        </p:blipFill>
        <p:spPr>
          <a:xfrm>
            <a:off x="5651640" y="189000"/>
            <a:ext cx="2952720" cy="273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933-E065-4C79-B8F8-257F5D2DFE16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214E2-7F4B-4C4D-8386-7382EE0C1D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897440" cy="4680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4360" y="580536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宁夏理科状元李小龙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115920"/>
            <a:ext cx="3529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状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李小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银川一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8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6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计划报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清华大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打羽毛球、篮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468-7630-418C-862F-1364750301F2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5B7F0-28E4-43FC-88E5-5D6177F110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24360" y="549360"/>
            <a:ext cx="4968720" cy="137376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李小龙认为，自己并不是很聪明的学生，但是他学习上比较踏实。该学的时候学，该玩的时候玩。他说，无论是平时的学习还是复习，他都是举一反三，在理科学习中并不是一味地搞题海战术。而对于语文、英语等，则是从初中开始，他就注意积累方法，打牢了基础知识。李小龙的估分是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8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到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9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之间。他的估分方式很特别，没有看标准答案，“我心中已经有底了”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333600" cy="575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8A2-7099-4B11-9122-7D3D4E836D6B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BA6AC-F305-4A8B-BFC9-B2C631A9B5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宁夏理科状元李小龙：喜欢玩魔兽世界"/>
          <p:cNvPicPr/>
          <p:nvPr/>
        </p:nvPicPr>
        <p:blipFill>
          <a:blip r:embed="rId1"/>
          <a:stretch/>
        </p:blipFill>
        <p:spPr>
          <a:xfrm>
            <a:off x="3851280" y="476280"/>
            <a:ext cx="4983120" cy="5832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549360"/>
            <a:ext cx="3457440" cy="2226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状元语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★我不聪明但我很踏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★兴趣是最好的老师，只要有兴趣，就一定能学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★该学的时候学，该玩的时候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★无论是平时的学习还是复习，我都是举一反三，在理科学习中并不是一味地搞题海战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B070-7905-4ABE-B569-062FAE95FF68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872BE-C8D9-4847-B580-6BE98ACC56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4032360" cy="6048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788000" y="549360"/>
            <a:ext cx="4356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科状元：邢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银川二中 　　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6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综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7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1D1-7172-4331-99FB-ABA26D796EEA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FAA27-5EE6-4C12-B223-184676C274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0" r="0" b="26192"/>
          <a:stretch/>
        </p:blipFill>
        <p:spPr>
          <a:xfrm>
            <a:off x="1979640" y="3645000"/>
            <a:ext cx="5238720" cy="2903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9640" y="40464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课的时候更专注，课堂上的知识一定要消化，听不懂的问题，课间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钟消化。做题不在于多，在于精，课外题只是一种辅助。学习要讲效率，不断摸索出适合自己的学习方法。今年的高考状元“邢状”就是这样炼成的。她完全颠覆了我们心中好学生的形象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唱着流行歌解题，常常在安静的课堂上情不自禁地爆发出清脆的笑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4DB-1F95-4841-A3C1-646E3604D425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FC08E-498A-47BB-BFF8-E9494FC321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584600" cy="6060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0"/>
            <a:ext cx="388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476280"/>
            <a:ext cx="36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浙江高考文科状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求芝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来自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新昌中学高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4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科分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看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B53-9D77-4910-B338-9E58B517831D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196FE-D07F-45A1-9840-9ADC8E16A9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对话浙江4位高考状元：状元是怎样炼成的"/>
          <p:cNvPicPr/>
          <p:nvPr/>
        </p:nvPicPr>
        <p:blipFill>
          <a:blip r:embed="rId1"/>
          <a:srcRect l="0" t="0" r="40546" b="0"/>
          <a:stretch/>
        </p:blipFill>
        <p:spPr>
          <a:xfrm>
            <a:off x="5292720" y="333360"/>
            <a:ext cx="3490920" cy="619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11280" y="115920"/>
            <a:ext cx="417672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浙江省理科状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并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暨杭州市理科状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李清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9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满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5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杭州学军中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榜感言：我的心态很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E90-1C9D-497C-A7A3-33894E64625C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9735C-2082-4506-A4A1-FD6DE8D3B6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4176720" cy="2822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260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89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德才兼备 才貌双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主管高三的副校长沈献章用“德才兼备，才貌双全”来评价这位优秀生，她稳重而不事张扬的个性给老师们留下了极为深刻的印象。秀气的林茜一直是学校数学、物理竞赛队的成员，多才多艺的她手风琴已考到中央音乐学院八级，音乐基础知识二级。高二时，想检验自己英语水平的她，第一次考托福就考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4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的高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79872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她喜爱写作，初中时就有作文在外发表，林茜认为今年的高考作文很符合自己的风格，她以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闲花细雨品恬淡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题写了一篇散文，自我感觉不错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C42-8B69-4843-B7EB-7B5C1C916FD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4B2AA-DA0D-429D-80B5-C94C173FE6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032360" cy="6264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43280" y="404640"/>
            <a:ext cx="417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李清扬和她的爸爸、老师都不约而同地把原因归结为“心态”。李清扬的语文老师蒋平对这个坐在第一排的小个子女生印象深刻，“她是班上心态最好的女生，从来不会紧张，就算没考好，她也不会在意，直到考前最后几天，她还是会在课堂上跟老师开玩笑，而且，她所有的作业本上，名字旁边都有一个她自己画的笑脸。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8F4-C83B-4324-9E07-88DD14148BC7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42154-25ED-4E42-B0C5-27A59F6D0C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对话浙江4位高考状元：状元是怎样炼成的"/>
          <p:cNvPicPr/>
          <p:nvPr/>
        </p:nvPicPr>
        <p:blipFill>
          <a:blip r:embed="rId1"/>
          <a:stretch/>
        </p:blipFill>
        <p:spPr>
          <a:xfrm>
            <a:off x="395280" y="404640"/>
            <a:ext cx="3529080" cy="5873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4067280" y="44280"/>
            <a:ext cx="48974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浙江省理科状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并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张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7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9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满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7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湖州中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上榜感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感到意外，高中从未拿第一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0CE-C5A0-4361-A228-8B5E6E3E8BB5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E832C-D920-44C3-B560-D823DEB8CA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5280" y="404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甘肃理科状元马泽强：会学习会生活的帅男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484280"/>
            <a:ext cx="3887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全省理科第一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学校：会宁县第二中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7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科分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0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8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甘肃理科状元马泽强：会学习会生活的帅男孩"/>
          <p:cNvPicPr/>
          <p:nvPr/>
        </p:nvPicPr>
        <p:blipFill>
          <a:blip r:embed="rId1"/>
          <a:stretch/>
        </p:blipFill>
        <p:spPr>
          <a:xfrm>
            <a:off x="4500720" y="1197000"/>
            <a:ext cx="4286160" cy="511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3C8-661F-4EF6-A742-B50591BFB30D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E83C8-1192-4BCE-AC8F-53E94927E4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9640" y="3333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谈到父母以及平时的学习时，马泽强说：“我的父母对于我的学习是比较重视的，但他们表现得平淡、坦然。”正是因为父母的这种教育方式，使他的学习氛围宽松而愉悦，也使他学会了主动积极地学习。“我在假期的时候会帮父母干活，但更多的时候还是主动学习。我一直在为自己制定近期目标，以近期目标的不断实现来达到我所追求的理想。对于学习，我的心态其实很平和，也很淡薄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28777"/>
          <a:stretch/>
        </p:blipFill>
        <p:spPr>
          <a:xfrm>
            <a:off x="611280" y="4437000"/>
            <a:ext cx="4762440" cy="2232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甘肃理科状元马泽强：会学习会生活的帅男孩"/>
          <p:cNvPicPr/>
          <p:nvPr/>
        </p:nvPicPr>
        <p:blipFill>
          <a:blip r:embed="rId2"/>
          <a:stretch/>
        </p:blipFill>
        <p:spPr>
          <a:xfrm>
            <a:off x="5580000" y="4437000"/>
            <a:ext cx="3384720" cy="22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E68-E351-4E44-972D-2FEDAD3E8C05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A4C89-8A48-4925-AAE0-CF195E4197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35640" y="393372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甘肃2007年文科状元魏雪：坚持梦想向前飞(图)"/>
          <p:cNvPicPr/>
          <p:nvPr/>
        </p:nvPicPr>
        <p:blipFill>
          <a:blip r:embed="rId1"/>
          <a:stretch/>
        </p:blipFill>
        <p:spPr>
          <a:xfrm>
            <a:off x="1042920" y="1268280"/>
            <a:ext cx="7381800" cy="4937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55640" y="404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甘肃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文科状元魏雪：坚持梦想向前飞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C6F-FA03-4E23-93C5-1C8ADE90675A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25712-7523-44A9-8D12-05C84DEF90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4000" y="40464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谈起学习经验，魏雪很愿意与大家一起分享，“首先上课要认真听讲。我一般都是在课堂上把老师讲的消化了，然后课余做些题巩固一下。通常会把做错的题目多看几遍，找出自己错的原因，反复练习以免下次出错”。魏雪说自己从不熬夜复习，最晚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点，也从来没有“开小灶”补过课，保证学习的高效率和独立思考才是她制胜的“法宝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喜爱学英语的魏雪曾经获得过全国中学生英语能力竞赛一、二等奖，平常也喜欢看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书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类的英语书籍开阔视野、增强英语阅读能力。一直学习很好的她并没有让爸妈多操心，她说：“爸妈对我的学习很放心，所以我自己安排学习时间，自己也很努力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8B2-1B23-4F13-AD55-19EC8459A47D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73F05-BA6E-45B2-9A68-AA2557A780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654分重庆外国语学校黄文帝高考文科夺第一(图)"/>
          <p:cNvPicPr/>
          <p:nvPr/>
        </p:nvPicPr>
        <p:blipFill>
          <a:blip r:embed="rId1"/>
          <a:stretch/>
        </p:blipFill>
        <p:spPr>
          <a:xfrm>
            <a:off x="539640" y="404640"/>
            <a:ext cx="3672000" cy="2656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788000" y="692280"/>
            <a:ext cx="37432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黄文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重庆外国语学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5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数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外语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文科综合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3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3213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重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文科第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012-0B0C-43C4-B846-FAC2ADAB3DCE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A213E-3FEE-461D-B008-F3C23EF600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700分南开中学陈竞成重庆07高考理科明星(图)"/>
          <p:cNvPicPr/>
          <p:nvPr/>
        </p:nvPicPr>
        <p:blipFill>
          <a:blip r:embed="rId1"/>
          <a:stretch/>
        </p:blipFill>
        <p:spPr>
          <a:xfrm>
            <a:off x="4500720" y="189000"/>
            <a:ext cx="4224240" cy="3154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55640" y="260280"/>
            <a:ext cx="345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明星档案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陈竞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南开中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分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综合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27640" y="3284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陈竞成重庆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高考理科明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3716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陈竞的班主任肖军老师说，陈竞的第一名是环境、自觉以及陈竞所有的一种“大气”的性格所造就出的成绩。肖老师回忆高一、高二并非成绩突出，眼看着她的成绩就一步一步上来了。陈竞在他眼里活泼而不失稳重，晚上从不熬夜学习，平时就利用学校时间学习，而在课余活动、体育课，她也从不会落下，做到了真正的劳逸结合。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4DD-3765-4340-B4F3-0B85DE3BFB53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370FF-34D6-4180-A3F9-E10DC71844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专访内蒙古07年高考文理科状元(图)"/>
          <p:cNvPicPr/>
          <p:nvPr/>
        </p:nvPicPr>
        <p:blipFill>
          <a:blip r:embed="rId1"/>
          <a:srcRect l="0" t="9667" r="0" b="0"/>
          <a:stretch/>
        </p:blipFill>
        <p:spPr>
          <a:xfrm>
            <a:off x="4803840" y="333360"/>
            <a:ext cx="3886200" cy="4967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48360" y="5445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内蒙古 文科状元金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025-082A-4ED8-B218-D19BBBC6FA1C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C60E5-1040-42B4-8B29-DF65D2D4EF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11280" y="620640"/>
            <a:ext cx="360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来自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呼和浩特二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70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各科分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5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运动、唱歌、素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专访内蒙古07年高考文理科状元(图)"/>
          <p:cNvPicPr/>
          <p:nvPr/>
        </p:nvPicPr>
        <p:blipFill>
          <a:blip r:embed="rId1"/>
          <a:srcRect l="0" t="13035" r="0" b="0"/>
          <a:stretch/>
        </p:blipFill>
        <p:spPr>
          <a:xfrm>
            <a:off x="4643280" y="406440"/>
            <a:ext cx="394812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861080" y="571824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内蒙古理科状元高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EEA-0274-4DF7-8165-43097B18F65D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C4C6F-A047-4726-9B63-6A0A5007CF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北京高考理科最高分考生：爱拉手风琴的林茜"/>
          <p:cNvPicPr/>
          <p:nvPr/>
        </p:nvPicPr>
        <p:blipFill>
          <a:blip r:embed="rId1"/>
          <a:stretch/>
        </p:blipFill>
        <p:spPr>
          <a:xfrm>
            <a:off x="5435640" y="4508640"/>
            <a:ext cx="3457440" cy="231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8900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父母以朋友相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高中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，林茜一直在学校住校，父母有意培养她独立、自强的个性，她与父母之间也一直以朋友相处。父母会经常来学校与老师交流，了解林茜在校的情况，但碰到做决定的时候，林茜总是自己拿主意，父母从来不加以干涉。林茜说，爸爸妈妈对自己的教育很开明，正因为有了这种平等、和睦的关系，使得自己在性格塑造上显得很平和，遇到问题时她会主动与父母、老师沟通，而不是憋在心里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0" r="0" b="13069"/>
          <a:stretch/>
        </p:blipFill>
        <p:spPr>
          <a:xfrm>
            <a:off x="5437080" y="115920"/>
            <a:ext cx="345600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E14-32A2-4193-9C34-0FD956FC34A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FAF63-5ADE-4878-8C03-A1318A16FB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喜欢看电影的淡定孩子--专访广西理科状元(图)"/>
          <p:cNvPicPr/>
          <p:nvPr/>
        </p:nvPicPr>
        <p:blipFill>
          <a:blip r:embed="rId1"/>
          <a:srcRect l="0" t="0" r="0" b="8778"/>
          <a:stretch/>
        </p:blipFill>
        <p:spPr>
          <a:xfrm>
            <a:off x="468360" y="260280"/>
            <a:ext cx="4394160" cy="5759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076720" y="260280"/>
            <a:ext cx="4067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姓名：张南飞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性别：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籍贯：广西桂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来自：桂林中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总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单科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看电影、打羽毛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6093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广西理科状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7F5-EC09-4B8B-A55D-923164A648A0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A4861-FAA1-4C6C-81D7-52F48AAE17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219640" y="3716280"/>
            <a:ext cx="3672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科状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姓名：林丽渊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7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：浦北中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8363" t="7273" r="7934" b="18428"/>
          <a:stretch/>
        </p:blipFill>
        <p:spPr>
          <a:xfrm>
            <a:off x="4714920" y="476280"/>
            <a:ext cx="4249800" cy="2976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79280" y="11592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首先，我觉得一定要有梦想和信心，高三特别需要自信。当任何人都觉得你不行的时候，你一定要相信自己。 其次，要有个完整的学习计划，分长期和短期 长的可以是整个高三，比如我的长期目标就是高考过６５０分；短的可以是一个月，一个星期，一天。 第三，要专心干好一件事情．我仍然记得去年一位状元的一句话：塌塌实实地干好手边的事，不幻想远方遥远的东西，你的梦想一定能实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06E-C909-4AE0-9DEB-DEE5823F46C3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6DBD2-50AB-4070-B899-D22B4C0D17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安徽理科状元吴羽菲：高中3年从没熬夜苦读(图)"/>
          <p:cNvPicPr/>
          <p:nvPr/>
        </p:nvPicPr>
        <p:blipFill>
          <a:blip r:embed="rId1"/>
          <a:stretch/>
        </p:blipFill>
        <p:spPr>
          <a:xfrm>
            <a:off x="5076720" y="26028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安徽理科状元吴羽菲：高中3年从没熬夜苦读(图)"/>
          <p:cNvPicPr/>
          <p:nvPr/>
        </p:nvPicPr>
        <p:blipFill>
          <a:blip r:embed="rId2"/>
          <a:stretch/>
        </p:blipFill>
        <p:spPr>
          <a:xfrm>
            <a:off x="5076720" y="364500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79280" y="189000"/>
            <a:ext cx="50421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吴羽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休宁中学毕业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9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省级优秀生加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92720" y="3068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安徽理科状元吴羽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6B0-7828-41F0-9FD9-D6E551E2F3A5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E3FD2-ECF0-4560-ABA7-9F8A57453B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2007年安徽省高考理科状元吴羽菲总分709(图)"/>
          <p:cNvPicPr/>
          <p:nvPr/>
        </p:nvPicPr>
        <p:blipFill>
          <a:blip r:embed="rId1"/>
          <a:srcRect l="0" t="0" r="0" b="17638"/>
          <a:stretch/>
        </p:blipFill>
        <p:spPr>
          <a:xfrm>
            <a:off x="4572000" y="333360"/>
            <a:ext cx="4032360" cy="3106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5280" y="404640"/>
            <a:ext cx="3816360" cy="1169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状元心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大家要及时调整自己的心态，找到最适合自己的学习方法并坚持！我想这就是成功的关键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3727440"/>
            <a:ext cx="8640720" cy="1800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学习无常法纠错本收效不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吴羽菲学习的一个小窍门是，在平常的学习中她有一个专门的本子记下自己做错的题，并且不时进行回顾。高中三年，她的数学纠错本已经有厚厚的一本了。这种方法尤其在高考之前的复习中非常有效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587-7EB1-4F3A-833F-52F5BA77725F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316C2-301C-4EF5-ADE0-442E8A705D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476280"/>
            <a:ext cx="41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关于学习方法，吴羽菲认为，其实学习没有固定的方法。她建议学弟、学妹们在学习的初期就要努力找到适合自己的学习方法，然后坚持下去。没有一种学习方法是万能的，盲目模仿别人的学习方法恐怕行不通。在学习的时候，她非常注重课堂上的学习效果，“即使有的东西老师已经讲过很多遍，再听一遍也会有很多启发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安徽理科状元吴羽菲：高中3年从没熬夜苦读(图)"/>
          <p:cNvPicPr/>
          <p:nvPr/>
        </p:nvPicPr>
        <p:blipFill>
          <a:blip r:embed="rId1"/>
          <a:srcRect l="0" t="0" r="49093" b="0"/>
          <a:stretch/>
        </p:blipFill>
        <p:spPr>
          <a:xfrm>
            <a:off x="4932360" y="620640"/>
            <a:ext cx="3813120" cy="561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E49-6E76-4AE1-8907-C1385B5BC9FC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8EC26-C9A2-481F-897E-772D13AA78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2920" y="476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安徽</a:t>
            </a:r>
            <a:r>
              <a:rPr b="1" lang="en-US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07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年文科状元司玉洁：学习最重要是有毅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安徽07年文科状元司玉洁：学习最重要是有毅力"/>
          <p:cNvPicPr/>
          <p:nvPr/>
        </p:nvPicPr>
        <p:blipFill>
          <a:blip r:embed="rId1"/>
          <a:stretch/>
        </p:blipFill>
        <p:spPr>
          <a:xfrm>
            <a:off x="468360" y="1341360"/>
            <a:ext cx="4608360" cy="3311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24000" y="4941720"/>
            <a:ext cx="47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司玉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班主任潘老师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左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及母亲在一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1989000"/>
            <a:ext cx="3095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分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4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0D3-C512-48FF-85CA-23CF9DA8C381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4FCB2-ED48-4E18-A3FB-A64E806D3C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26920" y="549360"/>
            <a:ext cx="36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学习最重要是有毅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作为文科第一，传授自己的学习经验。可爱的司玉洁歪着脑袋想了半天，“最重要的是有毅力要坚持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她表示，文科生一般来说背书的量很大，所以要选择合适的时间。而数学这门学科，还是要有一定的试题练习来保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安徽07年文科状元司玉洁：学习最重要是有毅力"/>
          <p:cNvPicPr/>
          <p:nvPr/>
        </p:nvPicPr>
        <p:blipFill>
          <a:blip r:embed="rId1"/>
          <a:srcRect l="28145" t="0" r="37485" b="0"/>
          <a:stretch/>
        </p:blipFill>
        <p:spPr>
          <a:xfrm>
            <a:off x="5003640" y="476280"/>
            <a:ext cx="352908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3FE-3E0F-4439-9FC1-98501174108A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E93CD-E9EF-42FC-9231-6FBDADF79E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山东07文科状元：考第一不会改变什么(组图)"/>
          <p:cNvPicPr/>
          <p:nvPr/>
        </p:nvPicPr>
        <p:blipFill>
          <a:blip r:embed="rId1"/>
          <a:srcRect l="0" t="0" r="0" b="19780"/>
          <a:stretch/>
        </p:blipFill>
        <p:spPr>
          <a:xfrm>
            <a:off x="395280" y="260280"/>
            <a:ext cx="4286160" cy="3438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68360" y="378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山东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科状元都珊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3640" y="692280"/>
            <a:ext cx="392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状元档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来自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潍坊一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7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各科分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基本能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唱歌、弹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山东07文科状元：考第一不会改变什么(组图)"/>
          <p:cNvPicPr/>
          <p:nvPr/>
        </p:nvPicPr>
        <p:blipFill>
          <a:blip r:embed="rId2"/>
          <a:srcRect l="0" t="0" r="0" b="26952"/>
          <a:stretch/>
        </p:blipFill>
        <p:spPr>
          <a:xfrm>
            <a:off x="395280" y="4365720"/>
            <a:ext cx="4286160" cy="22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9BA-54AE-47BE-8E89-87DED41AED4F}" type="slidenum">
              <a:t>5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CAA7E-FEC7-4A40-BF20-81227DD44A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山东07文科状元：考第一不会改变什么(组图)"/>
          <p:cNvPicPr/>
          <p:nvPr/>
        </p:nvPicPr>
        <p:blipFill>
          <a:blip r:embed="rId1"/>
          <a:srcRect l="0" t="0" r="0" b="19780"/>
          <a:stretch/>
        </p:blipFill>
        <p:spPr>
          <a:xfrm>
            <a:off x="4932360" y="3213000"/>
            <a:ext cx="3772080" cy="3438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8496000" cy="2946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4000" y="3284640"/>
            <a:ext cx="46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34434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我不是特别用功的那种人，我整天无忧无虑，老师常说我是‘玩着学’，我有时候也完不成作业。不过，我喜欢钻研，也比较细心。老师对我的期望值特别高，我不能让他们失望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F5D-DC6E-41A4-9153-7FB1F773B423}" type="slidenum">
              <a:t>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EB559-6F78-40BD-8BE6-D6F4217797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95280" y="836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于“窍门” 　　“最重要的是把握好节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“很多人都问我学习有什么窍门，其实我啥也没有，就是老师安排什么就干什么，该干什么的时候就干什么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都珊珊始终不承认自己有什么独到之处。“要说总结经验，我觉得最重要的一点就是把握好节奏感，什么时间干什么就干什么。即便完成得不好，也不磨蹭，继续下一个环节，免得一拖再拖，越拖越赶不上，失去了节奏。”除了默写诗词名句来放松，都珊珊还喜欢写读书笔记，一边放松一边“练习作文”。总之，她称自己擅长利用干自己喜欢干的又对学习有帮助的事情，进行休息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985-F64D-4E7A-8DC2-45A243A898B2}" type="slidenum">
              <a:t>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00F1D-654C-4145-B0E9-806F26CC3C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549360"/>
            <a:ext cx="3527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综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一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中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分项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校优干（加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报考志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大学中文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10671"/>
          <a:stretch/>
        </p:blipFill>
        <p:spPr>
          <a:xfrm>
            <a:off x="4262400" y="404640"/>
            <a:ext cx="4486320" cy="590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33800" y="6308640"/>
            <a:ext cx="33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文科状元张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18120" y="404640"/>
            <a:ext cx="4530600" cy="59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492-65C6-4C94-BF7F-F1B1F8A8695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5AA60-B82D-45FB-9B89-69FFA3A1F0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河南文理第一名都是女生第一志愿都是北大(图)"/>
          <p:cNvPicPr/>
          <p:nvPr/>
        </p:nvPicPr>
        <p:blipFill>
          <a:blip r:embed="rId1"/>
          <a:stretch/>
        </p:blipFill>
        <p:spPr>
          <a:xfrm>
            <a:off x="539640" y="620640"/>
            <a:ext cx="3502080" cy="5761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211640" y="115920"/>
            <a:ext cx="468144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状元档案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姓名：马冰一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爱好：电子琴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分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６６７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１２７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１５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１４２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２４８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洛阳一高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报考学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北京大学光华管理学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B56-2433-4D19-BF32-A32843ECA378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1EC01-D67E-47E8-9D53-C5627BC090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20000" cy="2857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39640" y="330516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掌握方法，擅于总结，离成功会更近些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我的努力程度在我们班只能算中等，学习更需要掌握技巧和方法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马冰一说自读高一起，老师就指导大家要学会自学能力，要学会自己看书，学数学要擅于归纳，学语文要多接触语言材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……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正确的方法是成功的一半，掌握了这些，就可以不变应万变！”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FBC-DDFF-496C-9E24-12804F19D0E6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DBC3F-9790-451C-A220-07EB995A58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网友贴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189000"/>
            <a:ext cx="5399280" cy="3591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0920" y="404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马冰一学每门课都有一个错题本，与其他同学不同的是，她对自己的错题比对日常作业要求还要严格，将错题分门别类地归纳，对每一道错题都列出正确和错误的思考过程，并写出分析意见。也正是经过这样的锻炼，马冰一奠定了扎实的基本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2360" y="3716280"/>
            <a:ext cx="55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的秘诀就是：把它看成游戏！”马冰一说，数学很枯燥，就像坐那儿下盘棋，如果你被棋局给吓怕了，那准学不好。其实，女孩在数学上是强项，因为有难得的“认真”和“细心”，马冰一笑着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BFB-5424-40B3-BA2E-3F0D27BBDA6C}" type="slidenum">
              <a:t>6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01D11-C243-47D7-8170-9F05E92A42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河南文理第一名都是女生第一志愿都是北大(图)"/>
          <p:cNvPicPr/>
          <p:nvPr/>
        </p:nvPicPr>
        <p:blipFill>
          <a:blip r:embed="rId1"/>
          <a:stretch/>
        </p:blipFill>
        <p:spPr>
          <a:xfrm>
            <a:off x="608040" y="476280"/>
            <a:ext cx="3819600" cy="5761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003640" y="692280"/>
            <a:ext cx="36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姓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范佳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安阳一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成绩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6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44720" y="623736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河南理科第一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481-A92A-4668-81E1-41E1A6480341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2F45B-C063-41EE-A0FA-D5B2678A09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95280" y="26028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：每天做作业，要听老师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佳琳说她的语文其实不是很好，唯一的一个好办法就是“听老师的话”。因为语文老师每天都会布置一定量的作业，有时候数理化作业多了，很多同学就不写语文作业了。其实只要每天保持半个小时写语文作业的时间，就不会对语文感到陌生，考试的时候就会很熟悉。经过长期的积累以后，语文成绩是会大幅度提高的。数学：竞赛题目，让她受益不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3600720" cy="2397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788000" y="4221000"/>
            <a:ext cx="3600360" cy="23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C3E-B104-45F3-B4D4-99B69CA016B5}" type="slidenum">
              <a:t>6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86A30-7E41-47AA-90EB-46D5446FCA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26920" y="907920"/>
            <a:ext cx="770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从高一到高三，数学老师一直为他们补习一些竞赛题目。掌握这些以后，在考场上思路就会更开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英语和生物：“背”，然后做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英语，生物，都是“背”，背完以后做题，做题后再背。化学方面，因为在搞化学竞赛，从一个制高点看高中化学课程，高考肯定没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物理：在这个弱项上多和男生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物理是佳琳的“弱项”。她认为作为女生，要想学好物理，一般是很难的。但是如果一个人心胸开朗，多和男生交谈，肯定会收获很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834-A4D8-48B3-8903-A6A5DDEF2D5B}" type="slidenum">
              <a:t>6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01638-D26F-4BEE-9369-AD800DE6A5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理科第一名709分文科第一名672分"/>
          <p:cNvPicPr/>
          <p:nvPr/>
        </p:nvPicPr>
        <p:blipFill>
          <a:blip r:embed="rId1"/>
          <a:stretch/>
        </p:blipFill>
        <p:spPr>
          <a:xfrm>
            <a:off x="1042920" y="404640"/>
            <a:ext cx="5040360" cy="374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5280" y="4508640"/>
            <a:ext cx="842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语文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理科综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9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57680" y="404640"/>
            <a:ext cx="729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陕西理科第一名　陈光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328-308F-4BDE-8819-79BD49338A40}" type="slidenum">
              <a:t>6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02D04-F455-46B3-A091-0AFF024A1D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理科第一名709分文科第一名672分"/>
          <p:cNvPicPr/>
          <p:nvPr/>
        </p:nvPicPr>
        <p:blipFill>
          <a:blip r:embed="rId1"/>
          <a:stretch/>
        </p:blipFill>
        <p:spPr>
          <a:xfrm>
            <a:off x="4997520" y="476280"/>
            <a:ext cx="3897360" cy="5977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360" y="549360"/>
            <a:ext cx="47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陕西高考文科第一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张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分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西安高新一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报考志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清华大学经济与金融国际班单科成绩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性格：开朗、坦率、踏实、认真、靠谱、理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星座：摩羯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偶像：希拉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77C-52C1-434D-AFC4-EF71FE28D84E}" type="slidenum">
              <a:t>6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F5B14-DE7B-430A-81D5-4CC320FFF8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16360" y="171360"/>
            <a:ext cx="59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秘诀：调整心态 沟通交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在交谈中，张璐说自己是住校生，这一年来，一方面在积极弥补自己在知识储备上的不足，除了数学、英语科目成绩比较突出外，自己注重了历史知识的补习，同时最重要的是，在一年中重视了心态的调整。每当在学习、考试中遇到挫折，心理发生变化的她，学会了与老师交流，她说每当遇到心理问题时，通过与老师们的沟通与交流，甚至是倾诉，自己学会了遇到问题如何调整心态，这也是成功的秘诀之一。她相信通过不懈努力，一定能取得成功，她将此概括为“苦心人天不负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0" r="39029" b="0"/>
          <a:stretch/>
        </p:blipFill>
        <p:spPr>
          <a:xfrm>
            <a:off x="395280" y="3500280"/>
            <a:ext cx="2363760" cy="2951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rcRect l="0" t="0" r="39029" b="0"/>
          <a:stretch/>
        </p:blipFill>
        <p:spPr>
          <a:xfrm>
            <a:off x="395280" y="476280"/>
            <a:ext cx="2363760" cy="28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6E7-D5DF-4A6B-BBD5-39FC94E4A4D7}" type="slidenum">
              <a:t>6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2756D-A964-4CDD-B3AB-69BAE1F116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50920" y="414360"/>
            <a:ext cx="48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经验：学习完全靠自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对于本次高考自己取得了第一，张璐认为只是一次人生旅途一个阶段的暂时性考核取得了成功，不能因此庆幸和自傲，其实自己同学中有许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087880" y="477720"/>
            <a:ext cx="3876840" cy="259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0920" y="31561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都有冲击第一的实力。人生不能总停留在一个阶段性目标上，否则就没有进步。自己的成功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自身的努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+2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父母的教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+2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老师和学校的培养。同时，她认为抓住在校学习的时间十分重要，通过学校作业消化知识是最有效的途径。学校让她感到欣慰的是学习和考试成绩不搞排名，但学生都养成了自觉学习的好习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39C-B3DC-4C79-95E3-0AB119F1434F}" type="slidenum">
              <a:t>6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0BF95-131C-4884-92C7-4675E61E2A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49840" y="333360"/>
            <a:ext cx="4286160" cy="3743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26028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不少高中生至今目标渺茫相比，张玥是一个“早立志，立长志”的高中生。“我的理想就是将来成为一名大学教授，做学问。”张玥的话掷地有声，也正是这股坚定而坚决的信念，使一向主张女儿学理科的母亲最终“妥协”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4292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最喜欢的是语文和历史。”张玥说，这种爱好基本从初中开始就已经植根于她的心中。所以在分科时，她非常自然地选择了文科，尽管理科成绩并不差。北大中文系是张玥从初中以来一直的梦想，“当觉得成绩差不多时，想都没想就填了。”张妈妈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C50-780F-46C8-9368-3B62145D5DC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3872B-FA30-4E28-85A2-DA14850FD6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95280" y="404640"/>
            <a:ext cx="48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张璐的学习心得用一句话概括就是：成功离不开自己、老师和家长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％是自己的努力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％是老师的奉献，另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％是父母的付出。具体说就是“学习要踏实，要实打实地学习，合理规划学习时间，回家自学固然重要，但抓紧时间在学校学习则更为重要；要认真完成老师布置的作业；做到及时巩固知识；参考书不能太多，一定要选择适合自己的参考书，哪里薄弱就攻哪里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0" t="0" r="37144" b="0"/>
          <a:stretch/>
        </p:blipFill>
        <p:spPr>
          <a:xfrm>
            <a:off x="5364000" y="333360"/>
            <a:ext cx="3600720" cy="59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D88-4C85-44E2-936C-BD1918DCC89A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EEC87-BDCF-47F4-8AFE-6EA3B628DA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湖北高考成绩理科略有提高文科整体下降(图)"/>
          <p:cNvPicPr/>
          <p:nvPr/>
        </p:nvPicPr>
        <p:blipFill>
          <a:blip r:embed="rId1"/>
          <a:stretch/>
        </p:blipFill>
        <p:spPr>
          <a:xfrm>
            <a:off x="4716360" y="260280"/>
            <a:ext cx="3888000" cy="5832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306360"/>
            <a:ext cx="41054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姓名：周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性别：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龄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宜昌夷陵中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总分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9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各科分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综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61657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湖北省理科第一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183-5B42-4264-9309-128696F0DE19}" type="slidenum">
              <a:t>7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A587B-6BCD-4A3F-8928-FE7E6A3EC4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湖北高考成绩理科略有提高文科整体下降(图)"/>
          <p:cNvPicPr/>
          <p:nvPr/>
        </p:nvPicPr>
        <p:blipFill>
          <a:blip r:embed="rId1"/>
          <a:stretch/>
        </p:blipFill>
        <p:spPr>
          <a:xfrm>
            <a:off x="466560" y="333360"/>
            <a:ext cx="4537080" cy="568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84360" y="609300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湖北省文科第一名张友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35640" y="476280"/>
            <a:ext cx="345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状元档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姓名：张友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性别：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年龄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毕业学校：大冶市大冶一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高考总分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高考各科分数：语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外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E3A-4DBD-4DB1-AB87-26884863C1F5}" type="slidenum">
              <a:t>7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62C36-A524-458B-9A78-CC5FC3860D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湖北高考成绩理科略有提高文科整体下降(图)"/>
          <p:cNvPicPr/>
          <p:nvPr/>
        </p:nvPicPr>
        <p:blipFill>
          <a:blip r:embed="rId1"/>
          <a:stretch/>
        </p:blipFill>
        <p:spPr>
          <a:xfrm>
            <a:off x="611280" y="549360"/>
            <a:ext cx="3597120" cy="5010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68360" y="57340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武汉文科第一名余霏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6360" y="692280"/>
            <a:ext cx="3959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余霏霏档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姓名：余霏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性别：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年龄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武汉市外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2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各科分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外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17A-CC30-49F2-8043-EA31CCA4851D}" type="slidenum">
              <a:t>7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16766-75A7-4527-8062-2477BB6F5B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50920" y="44280"/>
            <a:ext cx="583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：扩大阅读面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●成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左右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语文成绩很一般”，余霏霏说，作文成绩也是这样的，如果不做命题作文还好一点，如果参加考试写作文，一般发挥得都不是很好。为培养语感，她经常阅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看的。电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散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等杂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51673" t="0" r="0" b="32369"/>
          <a:stretch/>
        </p:blipFill>
        <p:spPr>
          <a:xfrm>
            <a:off x="5965920" y="189000"/>
            <a:ext cx="2921040" cy="3311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50920" y="35733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莫愁和苏童的小说也是她的最爱。她最喜欢的书之一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苏菲的世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学语文，除重视课本之外，还要扩大阅读面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寒暑假，以及周末的课外时间，都花在看书和听音乐上。其中，看的书大多是文学方面的。”余霏霏的梦想是当一名外交官，训练口才增长文学知识是不可或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02C-8012-4011-A8DB-BC6840872C38}" type="slidenum">
              <a:t>7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A8866-5DAB-4723-B2F2-6C060C8A93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湖北高考成绩理科略有提高文科整体下降(图)"/>
          <p:cNvPicPr/>
          <p:nvPr/>
        </p:nvPicPr>
        <p:blipFill>
          <a:blip r:embed="rId1"/>
          <a:stretch/>
        </p:blipFill>
        <p:spPr>
          <a:xfrm>
            <a:off x="4699080" y="333360"/>
            <a:ext cx="3970080" cy="5616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716360" y="602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武汉理科第一名徐懋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171360"/>
            <a:ext cx="4103640" cy="649296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徐懋祺档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姓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徐懋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性别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年龄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武汉三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8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各科分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外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科综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6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C95-DE01-4FE5-88F2-5FA9D5D95DAA}" type="slidenum">
              <a:t>7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3E55B-4CD0-43F3-8D0D-8A62DCBC62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4000" y="11592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学习有三大“法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徐懋祺从小跟爷爷学书法，养成了注意力集中、有定力的好习惯。他从小就会自己安排学习计划，自觉性强，该学习就学习，该看电视就看电视，从来不需要父母督促。上课时他一定会专注地跟随老师的讲解，力求掌握每一个知识点，课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0" t="0" r="42461" b="0"/>
          <a:stretch/>
        </p:blipFill>
        <p:spPr>
          <a:xfrm>
            <a:off x="6156360" y="189000"/>
            <a:ext cx="2733480" cy="3456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24000" y="35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则把每次作业当成考试来做。初中和高中阶段，他从来没有参加过培优班，也没请过家教，有时作业太多做不完，他还会采取“宁缺勿滥”的原则，只挑选自己认为重点的题目精做，不搞题海战术。课余时间他也上网玩游戏、看体育新闻、打球。徐懋祺说，自制力强、合理利用时间、对学习充满兴趣是自己学习优异的三大“法宝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380-C414-4415-9F30-91B7B6F42658}" type="slidenum">
              <a:t>7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EC753-56D3-4C54-990A-15E0B4F7AF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076720" y="4076640"/>
            <a:ext cx="40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理科状元</a:t>
            </a: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姓名：汪天一学校：曲塘中学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总分：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709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分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华文中宋"/>
              </a:rPr>
              <a:t>130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分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分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分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物理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分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化学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华文中宋"/>
              </a:rPr>
              <a:t>149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分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8360" y="6652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对于如何取得好成绩，汪天一总结说，主要是自己的学习意识比较强，科学安排好学习内容，有计划、有目标，对知识面有全面、深刻的理解，在解题中总结方法，活用所学知识。面临考试，心态十分重要。其实每次考砸时，他也会难过，压力也很大。但等睡醒一觉后，汪天一说自己就全都忘了。“心态好是成功的一半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549360"/>
            <a:ext cx="2879640" cy="345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B72-7696-4935-970A-7F9F9FF634CE}" type="slidenum">
              <a:t>7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70C46-E7FE-467E-A659-F39A3D6703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765240" cy="5977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932360" y="189000"/>
            <a:ext cx="338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苏文科状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叶    枝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张亦弛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翁梅梅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43280" y="2847960"/>
            <a:ext cx="4249800" cy="9471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得知自己是全省文科状元，非常高兴。在老师的眼中，叶枝是个非常优秀而独立的学生，有气质有内涵，对自己的人生规划非常清晰。谈到理想，叶枝说只想当老师。能在喜欢的方面走得更远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16C-E5AA-4C3E-9BAE-9BA4FB52A00E}" type="slidenum">
              <a:t>7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17385-727E-46DC-820B-BC6B8A534B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55640" y="657360"/>
            <a:ext cx="266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42160" cy="4686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84360" y="5300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江苏省文科状元叶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与省物生科目组合状元王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握手互贺高考取得好成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943-B6E7-45B9-8AF1-7EFD51354717}" type="slidenum">
              <a:t>7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F31B7-162F-4F7B-A532-04B9D1687B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9280" y="18900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张玥所有的志愿几乎都和中文、历史有关，这是她最大的爱好，而这几乎全是受到父亲和外公的影响。张玥的父亲是一名历史老师，外公是大学教授，同时也是西南联大的老毕业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学习不要突击，要重视学习效率”是张玥的经验之谈。她的学习成绩一直比较平稳，在年级里几乎是长期保持着第一的位置。“她是状元，我一点都不意外”张玥的好友赵成说，学校大考，她都是文科第一名。此外，张玥喜欢参加学校的文体活动，沟通能力很强，性格多样，有很多朋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搜狐教育频道对北京文科状元张玥进行独家专访"/>
          <p:cNvPicPr/>
          <p:nvPr/>
        </p:nvPicPr>
        <p:blipFill>
          <a:blip r:embed="rId1"/>
          <a:srcRect l="43297" t="0" r="0" b="0"/>
          <a:stretch/>
        </p:blipFill>
        <p:spPr>
          <a:xfrm>
            <a:off x="5796000" y="404640"/>
            <a:ext cx="3168720" cy="604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119-8490-45C3-8B2F-AA427500972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F5D2C-7D02-4E12-8619-0CC49F3996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95280" y="189000"/>
            <a:ext cx="46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他经常翻开看看，认真琢磨这些错误产生的根源，举一反三，杜绝在今后的学习中出现相同或相类似的错误。在平时的学习中，禹奇锋还有一个深刻的感受就是“紧跟老师”。“在课堂上和课余时间的复习中，都要紧跟老师的思路，因为老师的指导和经验会让自己少走许多弯路”。正是有了这些正确的学习方法，禹奇锋在高考中取得了骄人的成绩，就连“短腿”的数学只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就得满分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黑龙江高考文理科状元出炉理科最高分718(图)"/>
          <p:cNvPicPr/>
          <p:nvPr/>
        </p:nvPicPr>
        <p:blipFill>
          <a:blip r:embed="rId1"/>
          <a:srcRect l="0" t="0" r="0" b="19780"/>
          <a:stretch/>
        </p:blipFill>
        <p:spPr>
          <a:xfrm>
            <a:off x="5110200" y="333360"/>
            <a:ext cx="3782880" cy="5904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075280" y="622620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黑龙江文科状元禹奇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7A5-1D3C-471F-9954-38306F8FEC16}" type="slidenum">
              <a:t>8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ACBFD-9285-4D65-BE51-6006076EBD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11280" y="7542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结自己的学习方法和经验时，首推了他的学习“秘籍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错题本”。他说，这个记录了他所有学习错误的“错题本”不仅时刻地提醒他，不要再犯这些错误，而且还让他举一反三地思考了许多相类似的问题。良好的学习方法是取得优异成绩的“制胜法宝”，这在禹奇锋的身上得到了验证。禹奇锋说，要取得好成绩很简单，用一句话就可以总结出来：“紧跟老师，勤于回头看看自己过去的失误”。作为理科基础比较薄弱的文科生，禹奇锋与其他同学一样数学成绩不是很理想。为了弥补这一“短腿”，在老师的建议下，禹奇锋制作了一个“错题本”。他将平时学习中出现的错误，在本子上一一记录下来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569-7462-40CF-A7AE-B124C0DE98D4}" type="slidenum">
              <a:t>8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B449E-C7B7-42EB-BC80-FEFDD05EC1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11280" y="4365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2200" y="57340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黑龙江理科状元鄂炎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黑龙江高考文理科状元出炉理科最高分718(图)"/>
          <p:cNvPicPr/>
          <p:nvPr/>
        </p:nvPicPr>
        <p:blipFill>
          <a:blip r:embed="rId1"/>
          <a:srcRect l="31925" t="29355" r="29926" b="0"/>
          <a:stretch/>
        </p:blipFill>
        <p:spPr>
          <a:xfrm>
            <a:off x="431640" y="549360"/>
            <a:ext cx="3708720" cy="5111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500720" y="476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和鄂炎雄聊天的时候，会觉得他很冷静，并没有想象中的喜悦。他说，自己还是有点意外。鄂炎雄报考的也是北京大学，他介绍说，在自己的高三复习生活中，触类旁通是最重要的，要从一个知识点出发，延伸出更多的知识，最后形成有效的知识网络。游泳和电脑游戏是自己最大的爱好，并表示自己是新浪的忠实用户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A7D-F18C-4B52-BC0D-32226B7DA431}" type="slidenum">
              <a:t>8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349A6-6E1C-4B46-A779-91B6F80D55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吉林省07高考文理科状元分别报考北大清华(图)"/>
          <p:cNvPicPr/>
          <p:nvPr/>
        </p:nvPicPr>
        <p:blipFill>
          <a:blip r:embed="rId1"/>
          <a:srcRect l="0" t="0" r="0" b="8238"/>
          <a:stretch/>
        </p:blipFill>
        <p:spPr>
          <a:xfrm>
            <a:off x="324000" y="333360"/>
            <a:ext cx="4506840" cy="5975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435640" y="404640"/>
            <a:ext cx="3311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吉林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科状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胡慕实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绩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综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4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志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大学西班牙语专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31A-52AA-4959-BDD4-F98394E4FF7E}" type="slidenum">
              <a:t>8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6032C-120A-45B4-B536-EFD4A0A25B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吉林省07高考文理科状元分别报考北大清华(图)"/>
          <p:cNvPicPr/>
          <p:nvPr/>
        </p:nvPicPr>
        <p:blipFill>
          <a:blip r:embed="rId1"/>
          <a:srcRect l="0" t="0" r="0" b="14021"/>
          <a:stretch/>
        </p:blipFill>
        <p:spPr>
          <a:xfrm>
            <a:off x="4427640" y="189000"/>
            <a:ext cx="4238640" cy="2735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427640" y="2924280"/>
            <a:ext cx="4176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状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孔令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志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清华大学电子信息专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47628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孔令兵在会上向正在高中就读的学弟学妹们介绍经验时说，保持好身体很重要，她称自己每天课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钟都要坚持跑步。另外，要用平和心态面对包括高考在内的所有考试，她平时常听古典音乐放松心情，把学习当做兴趣和习惯，所以就没有压力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FB7-150E-423E-A2D5-1746C2063CBD}" type="slidenum">
              <a:t>8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16902-8B7D-48F6-B93F-FF3DB8CDA8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4081320"/>
            <a:ext cx="86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福建高考文科状元：罗宏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来自：尤溪一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总成绩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6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科分数：语文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数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英语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文综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特长爱好：硬笔书法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9680" y="115920"/>
            <a:ext cx="1768320" cy="2808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rcRect l="0" t="0" r="0" b="22498"/>
          <a:stretch/>
        </p:blipFill>
        <p:spPr>
          <a:xfrm>
            <a:off x="5076720" y="622440"/>
            <a:ext cx="3900600" cy="4319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2324160" y="333360"/>
            <a:ext cx="2392200" cy="35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675-13E2-4127-B58A-1C151D748B0C}" type="slidenum">
              <a:t>8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716B2-9008-4BA8-B498-75E628A15F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第一是怎样炼成的：福建高考文理状元成才攻略"/>
          <p:cNvPicPr/>
          <p:nvPr/>
        </p:nvPicPr>
        <p:blipFill>
          <a:blip r:embed="rId1"/>
          <a:stretch/>
        </p:blipFill>
        <p:spPr>
          <a:xfrm>
            <a:off x="4643280" y="3639960"/>
            <a:ext cx="4229280" cy="30290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11280" y="1159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一是怎样炼成的：福建高考文理状元成才攻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6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学习贵在坚持，也要懂得劳逸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宠辱不惊，闲看庭前花开花落；去留无意，漫随天外云卷云舒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这是今年我省高考文科状元罗宏晟的座右铭。对于一个十几岁的女孩子来说，她能用如此淡泊的心态去面对成功或者失败，着实让我们颇感意外。这也许就是她成功的关键所在吧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8000" y="2852640"/>
            <a:ext cx="47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高三是高考冲刺十分关键的一年，许多高三学生、家长以及老师们的神经都绷到了“临界点”。不过，在罗宏晟看来，高考其实并没有那么可怕，适当的紧张当然是必需的，但是要学会自我减压和劳逸结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456-AEA8-4012-AA9B-81CA1E885488}" type="slidenum">
              <a:t>8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AE14C-F4AD-4A22-8D1C-92195A3853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24000" y="115920"/>
            <a:ext cx="842472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学好数学没有捷径 关键是坚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　　对于大部分的文科生来说，数学是最令他们头疼的。考试成绩不理想，也往往是数学拉了不少“后腿”。罗宏晟在这次高考的数学成绩是</a:t>
            </a:r>
            <a:r>
              <a:rPr b="1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分，差四分就是满分。作为一个文科生，数学取得了如此高的成绩，一定有什么秘诀。但是，罗宏晟的回答却出乎我们的意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　　“我觉得其实我也没有什么秘诀。学好数学是没有捷径的，关键是要学会坚持。”罗宏晟这样告诉我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　　有的同学一碰到数学题，就有种惧怕心理，觉得自己一定不会做。久而久之，就由惧怕数学变成了讨厌数学，结果形成“恶性循环”，那么数学就更学不好了。其实，我们可以尝试着以一种“喜欢数学”的心态去学习数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542-B27D-455C-A1F6-AEF105351E6B}" type="slidenum">
              <a:t>8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3FCF3-2904-4D1B-B586-45B147653F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5438880" cy="3987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403280" y="549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福建省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07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高考理科状元：陈默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92560" y="3867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00000" y="1628640"/>
            <a:ext cx="29527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漳州一中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70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科分数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96E-0F32-4C1A-86C2-192C3ABA8E3C}" type="slidenum">
              <a:t>8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5D21F-6C4B-463C-92EE-E6044947FF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24360" y="404640"/>
            <a:ext cx="482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保持平常心 把高考当成阶段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有的学生到了高三，变得非常紧张，吃也吃不下，睡也睡不着，生物钟都被打乱了。但是陈默一直保持着一颗平常心，并没有刻意改变生活习惯，该怎么复习就怎么复习，该几点睡就几点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“轻松的心态”是陈默取得好成绩的一个重要因素。高考前夕，父母和老师在周围为她营造了一个轻松、愉快的氛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46536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B5A-D99B-4C04-BCD5-22956E03EEDF}" type="slidenum">
              <a:t>8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0DC61-C74A-4F6E-B1F5-376E804695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761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6237360"/>
            <a:ext cx="88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上海高考文科状元魏宏琰、理科状元胡文琦同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D39-4B82-473A-8A6D-E3EE1D9ABC3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F8524-E016-4578-8900-584B19428A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rcRect l="24063" t="0" r="31843" b="13312"/>
          <a:stretch/>
        </p:blipFill>
        <p:spPr>
          <a:xfrm>
            <a:off x="4716360" y="549360"/>
            <a:ext cx="4172040" cy="568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68360" y="54936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也让她感觉高考就像是一次普通的阶段考试。有句话说得好：“环境造就人才。”陈默能够以平常心应对高考，并且取得如此优异的成绩，和她成长的家庭环境不无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面对紧张的高考，在如此宽松的学习环境中成长起来的陈默笑着说：“她最大的感触是高考不像高考，而像一次阶段考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A47B-9ED4-47E5-A793-ADFC0170CB45}" type="slidenum">
              <a:t>9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4F38D-E29C-4811-8DFE-3DBD233A59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11280" y="620640"/>
            <a:ext cx="79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要埋头做笔记 关键是要听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对于学习，陈默一直坚持一种理念，那就是“在快乐中学习，在学习中寻找快乐”。高三期间，陈默并没有给自己什么特别安排。陈默觉得把学习当成享受，其实是一件非常快乐的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对于陈默来说，读书是一种快乐，她从来都不偏科。她学习的自主性特别强，她在学习的每个阶段，都有自己一套既定的计划来安排自己的学习。每天晚上，陈默都会事先计划好各科的学习时间，一旦有科目或难题超过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钟，她就会先放下，转到下个科目。而且，每天都保证有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时的睡眠时间。有个好计划，那样听课质量就提高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F4A-38BC-4634-B03C-867555DF1F19}" type="slidenum">
              <a:t>9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E1B21-467D-4EBF-BC5F-77B4B69DBE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932360" y="947880"/>
            <a:ext cx="396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江西：张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总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加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各科成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吉安一中高三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班学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江西07年高考理科第一名张蕤：确立目标不放弃"/>
          <p:cNvPicPr/>
          <p:nvPr/>
        </p:nvPicPr>
        <p:blipFill>
          <a:blip r:embed="rId1"/>
          <a:srcRect l="0" t="0" r="0" b="10961"/>
          <a:stretch/>
        </p:blipFill>
        <p:spPr>
          <a:xfrm>
            <a:off x="324000" y="1125360"/>
            <a:ext cx="4298760" cy="5112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55640" y="404640"/>
            <a:ext cx="7920000" cy="5205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江西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高考理科第一名张蕤：确立目标不放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B2F-22DD-4C3A-BC16-1B7E2C93185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F281A-09C8-4FB6-ADAF-9EC582864A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江西文科第一名朱虹璇：博览群书功底厚(图)"/>
          <p:cNvPicPr/>
          <p:nvPr/>
        </p:nvPicPr>
        <p:blipFill>
          <a:blip r:embed="rId1"/>
          <a:srcRect l="0" t="0" r="0" b="16830"/>
          <a:stretch/>
        </p:blipFill>
        <p:spPr>
          <a:xfrm>
            <a:off x="684360" y="981000"/>
            <a:ext cx="3809880" cy="2376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84360" y="3429000"/>
            <a:ext cx="7777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朱虹璇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9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出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分数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6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数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文综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3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南康中学高三文科实验班学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189000"/>
            <a:ext cx="777708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江西文科第一名朱虹璇：博览群书功底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江西文科第一名朱虹璇：博览群书功底厚(图)"/>
          <p:cNvPicPr/>
          <p:nvPr/>
        </p:nvPicPr>
        <p:blipFill>
          <a:blip r:embed="rId2"/>
          <a:srcRect l="0" t="0" r="0" b="16830"/>
          <a:stretch/>
        </p:blipFill>
        <p:spPr>
          <a:xfrm>
            <a:off x="4716360" y="981000"/>
            <a:ext cx="3810240" cy="23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774-F9CA-4740-B4DD-92503572C614}" type="slidenum">
              <a:t>9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565A4-1EDA-4BE0-8F2B-A322FD1588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403280" y="53737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贵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考文科高分考生陈芳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理科高分考生高立力同是遵义人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贵州高考文理高分考生强者对话：久闻大名(图)"/>
          <p:cNvPicPr/>
          <p:nvPr/>
        </p:nvPicPr>
        <p:blipFill>
          <a:blip r:embed="rId1"/>
          <a:srcRect l="0" t="0" r="0" b="14995"/>
          <a:stretch/>
        </p:blipFill>
        <p:spPr>
          <a:xfrm>
            <a:off x="826920" y="324000"/>
            <a:ext cx="7490160" cy="478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17D-6B52-4595-8ADE-B7CEFBC9420D}" type="slidenum">
              <a:t>9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4E524-E108-4B8B-83D8-5DBF36FDAD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贵州高考文理高分考生强者对话：久闻大名(图)"/>
          <p:cNvPicPr/>
          <p:nvPr/>
        </p:nvPicPr>
        <p:blipFill>
          <a:blip r:embed="rId1"/>
          <a:srcRect l="35302" t="0" r="0" b="14995"/>
          <a:stretch/>
        </p:blipFill>
        <p:spPr>
          <a:xfrm>
            <a:off x="4211640" y="476280"/>
            <a:ext cx="4645080" cy="59054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50920" y="1052640"/>
            <a:ext cx="37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状元档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遵义县一中高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[21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姓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立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科综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9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7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38C-6C45-44F4-BF37-6F5F360BC896}" type="slidenum">
              <a:t>9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EECC1-A66E-40AF-961B-6B515475CE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39640" y="573408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贵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科状元陈芳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贵州高考文理高分考生强者对话：久闻大名(图)"/>
          <p:cNvPicPr/>
          <p:nvPr/>
        </p:nvPicPr>
        <p:blipFill>
          <a:blip r:embed="rId1"/>
          <a:srcRect l="0" t="0" r="64707" b="14995"/>
          <a:stretch/>
        </p:blipFill>
        <p:spPr>
          <a:xfrm>
            <a:off x="846000" y="333360"/>
            <a:ext cx="2944800" cy="5327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356000" y="507960"/>
            <a:ext cx="446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成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8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7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我的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是北京大学的经济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3C6-0DCE-4310-A9BF-35111B24353B}" type="slidenum">
              <a:t>9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19770-6AE6-4707-97BD-CAD002861B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79280" y="456120"/>
            <a:ext cx="316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状元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姓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赵旭照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1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科综合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专业意向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度一中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rcRect l="38232" t="0" r="0" b="0"/>
          <a:stretch/>
        </p:blipFill>
        <p:spPr>
          <a:xfrm>
            <a:off x="3606840" y="333360"/>
            <a:ext cx="514188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90A-9080-44E3-8613-C529D468647F}" type="slidenum">
              <a:t>9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BA51D-5054-4137-9CC2-A0F2A92FED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995640" y="549360"/>
            <a:ext cx="468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学习循循渐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赵旭照一上高三就给自己定了三轮复习计划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一轮：详细的复习每一个细节，直到第一次模拟考试结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二轮：大块内容复习，知识系统化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三轮：针对高考，练习应考技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基本上就是跟着老师的进度走，注重学习技巧，并且要努力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64539" t="0" r="0" b="0"/>
          <a:stretch/>
        </p:blipFill>
        <p:spPr>
          <a:xfrm>
            <a:off x="755640" y="620640"/>
            <a:ext cx="2952720" cy="561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916-56D2-4DF7-A5A6-4CB44496EC48}" type="slidenum">
              <a:t>9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DE190-D57A-4B73-85F9-71C6534D68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河北文科状元武桐：给布娃娃做衣服的快乐女孩"/>
          <p:cNvPicPr/>
          <p:nvPr/>
        </p:nvPicPr>
        <p:blipFill>
          <a:blip r:embed="rId1"/>
          <a:stretch/>
        </p:blipFill>
        <p:spPr>
          <a:xfrm>
            <a:off x="395280" y="404640"/>
            <a:ext cx="4392720" cy="35704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39640" y="4221000"/>
            <a:ext cx="756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河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科状元    武   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6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数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文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92720" y="662040"/>
            <a:ext cx="352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经验之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题做得少，但并不意味着不去做题。完成基本的作业那肯定是必不可少，但武桐说自己喜欢对一个题翻来覆去地“想”，她认为这样很有意思。同样让武桐感到有兴趣的是那些语文课本。“很喜欢！”她这样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研修班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B5A-8627-408E-8496-AB68197DA944}" type="slidenum">
              <a:t>9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06B50-06BD-4B25-9CB4-4BB42AD6EF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主题班会课件(分28大类): http://shop62905894.taobao.com</cp:keywords>
  <dc:language>en-US</dc:language>
  <cp:lastModifiedBy>User</cp:lastModifiedBy>
  <dcterms:modified xsi:type="dcterms:W3CDTF">2013-04-13T14:45:38Z</dcterms:modified>
  <cp:revision>638</cp:revision>
  <dc:subject>主题班会课件(分28大类): http://shop62905894.taobao.com</dc:subject>
  <dc:title>主题班会课件(分28大类): http://shop62905894.taobao.com</dc:title>
</cp:coreProperties>
</file>