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3EEC-03C4-4418-94EE-19FE85D56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86AF-82B9-43E1-80CF-B1738355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1A9C-32B1-45E6-BD0A-3E8AA0F7D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86F7-03E4-4C2F-B6D7-96F0228B4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5D0A-77C8-4F13-8F20-54BF249E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B872-CDD7-4B1D-973E-5FD0949A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0577-F792-43C7-B45A-CDC99721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2414-5246-4C40-8CF7-46AFB35F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0317-1048-461D-8449-279311B1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16DF-8ED1-4CFD-BE47-C98643C1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16E7-5AF6-4D35-BD2B-AA9C9AEA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C1CE-D960-4F83-BF26-93DEB219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5AF4-0885-44CB-A9B0-FE4D550D31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60440" y="152280"/>
            <a:ext cx="436896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33720" y="4648320"/>
            <a:ext cx="586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00"/>
                </a:solidFill>
                <a:latin typeface="Times New Roman"/>
              </a:rPr>
              <a:t>高考动员会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26920" y="522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809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4724280" cy="3730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724280" y="2057400"/>
            <a:ext cx="4419720" cy="3733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09680" y="243000"/>
            <a:ext cx="586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00"/>
                </a:solidFill>
                <a:latin typeface="Times New Roman"/>
              </a:rPr>
              <a:t>迈向考场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4360" y="476280"/>
            <a:ext cx="8064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为夺取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007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年高考胜利，我庄严宣誓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  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意志坚定，奋力拼搏，尊敬师长，严于律己；谦虚谨慎，珍惜时间，踏实认真，专心备考；严谨规范，沉着应战，斗志昂扬，决不言败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面对宝贵的青春，我承诺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面对亲爱的父母，我承诺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   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面对敬爱的老师，我承诺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       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言必行，行必果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 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牢记自己的理想，实践自己的誓言；决不辜负师长的教导，决不辜负父母的期望，不畏艰难险阻，创造人生的奇迹；胸怀远大目标，迈进理想的高等学府！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宣誓人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95280" y="23623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87280" y="351000"/>
            <a:ext cx="6985080" cy="5238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08000" y="5661000"/>
            <a:ext cx="55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展翅翱翔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直上青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主题班会课件(分28大类): http://shop62905894.taobao.com</cp:keywords>
  <dc:language>en-US</dc:language>
  <cp:lastModifiedBy>User</cp:lastModifiedBy>
  <dcterms:modified xsi:type="dcterms:W3CDTF">2013-04-13T15:09:13Z</dcterms:modified>
  <cp:revision>11</cp:revision>
  <dc:subject>主题班会课件(分28大类): http://shop62905894.taobao.com</dc:subject>
  <dc:title>主题班会课件(分28大类): http://shop62905894.taobao.com</dc:title>
</cp:coreProperties>
</file>