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236-8BB3-4926-A795-84D61874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4CB-C7C6-4D25-962E-151AC01F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240-333A-4ECD-BF83-4B6B7FBA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F67-FE42-4DED-ADB1-AB9619D7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418-B757-4D83-9686-593B6E0D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012-5817-4CE1-B6EC-03247BAC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520-1A65-4FC2-BFC0-E752AFE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547-9327-4D29-A2FD-4D99794C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984-BE40-478C-B7B9-40235B96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7AF-FD37-4D3D-9EC9-928E893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66E-EDC3-40B7-9791-AAAACD2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9B4-3F48-4CD3-8E91-2FC224D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ACBB-09AD-4C60-BC1A-AF8361940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ypxx.stedu.net/04051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jquan.com/picdown22366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z.book.sohu.com/serialize-id-4109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abaoku.net/guanggao/jingdian/sucai/web/156fz.htm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lubbenq.com.cn/mobile/ListMore.aspx?root=3&amp;catid=133&amp;hotnew=HOT&amp;pageno=6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qqgua.com/qqbiaoqing/31583.html" TargetMode="Externa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260280"/>
            <a:ext cx="26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假如我问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90792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想成功的人请举手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?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5495760"/>
            <a:ext cx="5715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相信绝大部分人都会举手。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276640"/>
            <a:ext cx="4897440" cy="326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2920" y="1174680"/>
            <a:ext cx="88930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不愿招聘“瓷娃娃”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　　出身贫困的孩子更受青睐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在昨天的采访中记者发现，多数企业都把“吃苦耐劳”明确写进了招聘要求，有些甚至还放在了第一条。“我们不愿招些瓷娃娃进来！”一家咨询类企业的招聘负责人告诉记者，以前公司就曾碰到这样的尴尬：新员工学历高、能力也不错，就是太娇气、拈轻怕重，而且太任性，人际关系也处不好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同时，企业的招聘天平也倾向了一些贫困生和非独生子女，他们反映，出身贫困的孩子都比较懂事，而非独生子女则不会太娇气。相比之下，出生殷实家庭的独生子女，尽管所受教育很好，却往往比较娇气。“如果应聘者条件差不多的话，我们首先就不会考虑独生子女。”一位人力资源主管告诉记者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3980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业内人士说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“能吃苦”已成企业招聘新标准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“企业这一普遍要求也透露了一个信号。”复旦大学职业发展教育服务中心副主任张生妹提醒毕业生，应聘时一定不能贪图轻松或表现得过于娇气，否则会失去很多好机会，低年级的大学生也应提前培养吃苦耐劳的能力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汉时候，有个人名叫孙敬，是著名的政治家。他年轻时勤奋好学，经常关起门，独自一人不停地读书。 每天从早到晚读书，常常是废寝忘食。读书时间长，劳累了，还不休息。时间久了，疲倦得直打瞌睡。 他怕影响自己的读书学习，就想出了一个特别的办法。古时候，男子的头发很长。他就找一根绳子， 一头牢牢的绑在房梁上。当他读书疲劳时打盹了，头一低，绳子就会牵住头发，这样会把头皮扯痛了， 马上就清醒了，再继续读书学习。 这就时孙敬悬梁的故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192672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国时期，有一个人名叫苏秦，也是出名的政治家。在年轻时，由于学问不多不深，曾到好多地方做事， 都不受重视。回家后，家人对他也很冷淡，瞧不起他。这对他的刺激很大。所以，他下定决心，发奋读书。 他常常读书到深夜，很疲倦，常打盹，直想睡觉。他也想出了一个方法，准备一把锥子，一打瞌睡， 就用锥子往自己的大腿上刺一下。这样，猛然间感到疼痛，使自己清醒起来，再坚持读书。 这就使苏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刺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故事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56000" y="4438800"/>
            <a:ext cx="3671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汉仪菱心体简"/>
              </a:rPr>
              <a:t>悬梁刺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汉仪菱心体简"/>
              <a:ea typeface="汉仪菱心体简"/>
            </a:endParaRPr>
          </a:p>
        </p:txBody>
      </p:sp>
      <p:sp>
        <p:nvSpPr>
          <p:cNvPr id="79" name=""/>
          <p:cNvSpPr/>
          <p:nvPr/>
        </p:nvSpPr>
        <p:spPr>
          <a:xfrm>
            <a:off x="4357440" y="602064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这种努力学习的精神是好的，但是他们这种发奋学习的方式方法不必效仿。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31840" y="0"/>
            <a:ext cx="462780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703440"/>
            <a:ext cx="409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有志者事竟成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破釜沉舟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百二秦地终属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700560"/>
            <a:ext cx="43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苦心人天不负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卧薪尝胆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三千越甲可吞吴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366920" y="333360"/>
            <a:ext cx="622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经典繁勘亭"/>
              </a:rPr>
              <a:t>古人又云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经典繁勘亭"/>
              </a:rPr>
              <a:t>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经典繁勘亭"/>
              <a:ea typeface="经典繁勘亭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55736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5960" y="0"/>
            <a:ext cx="474804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54200" y="5587920"/>
            <a:ext cx="1009800" cy="21744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63640" y="2565360"/>
            <a:ext cx="525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特别能吃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40360" y="3343320"/>
            <a:ext cx="4140000" cy="351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5840" y="4365720"/>
            <a:ext cx="4286160" cy="1733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4920" y="44280"/>
            <a:ext cx="251784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203640" y="-100440"/>
            <a:ext cx="2710800" cy="642600"/>
            <a:chOff x="3203640" y="-100440"/>
            <a:chExt cx="2710800" cy="642600"/>
          </a:xfrm>
        </p:grpSpPr>
        <p:sp>
          <p:nvSpPr>
            <p:cNvPr id="92" name=""/>
            <p:cNvSpPr/>
            <p:nvPr/>
          </p:nvSpPr>
          <p:spPr>
            <a:xfrm>
              <a:off x="3203640" y="44280"/>
              <a:ext cx="1152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6840" y="-100440"/>
              <a:ext cx="12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cc"/>
                  </a:solidFill>
                  <a:latin typeface="Arial"/>
                </a:rPr>
                <a:t>喝豆浆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239000" y="404640"/>
            <a:ext cx="340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到他，说他特别注意细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喝豆浆都和别人不一样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喝豆浆是：“老板，来碗甜豆浆，打个蛋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豆浆来了，里面有个蛋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喝豆浆是：“老板，来碗甜豆浆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豆浆来了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喝一大口，“老板，打个蛋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个蛋在里面，豆浆刚刚满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叫多赚一口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0" y="8254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我的财富在澳洲》里有一句话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吃不着苦的苦比吃得着苦的苦还要苦。也就是说有苦可吃还是幸运的，这真是以苦为乐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7183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84360" y="771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吃苦是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吃亏是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18760" y="155736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生态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4148280"/>
            <a:ext cx="56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被别人利用就是被别人重用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63640" y="2565360"/>
            <a:ext cx="56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被别人欺负就是被别人爱护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35280" y="55954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国人的吃苦教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8720" y="155592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苦不苦，想想红军两万五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5640" y="3573360"/>
            <a:ext cx="7129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苦不苦，想想人家萨达姆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0"/>
            <a:ext cx="3168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繁勘亭"/>
              </a:rPr>
              <a:t>童谣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繁勘亭"/>
              </a:rPr>
              <a:t>: 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繁勘亭"/>
              <a:ea typeface="经典繁勘亭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87280" y="90648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想吃苦的请举手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?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4640" y="5495760"/>
            <a:ext cx="5715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可能大部分人都不会举手。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260280"/>
            <a:ext cx="26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但假如我问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42100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2617920"/>
            <a:ext cx="3384720" cy="2539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0360" y="549360"/>
            <a:ext cx="8172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日本孩子吃苦是必修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从幼儿园开始，日本人就注意培养孩子的吃苦意识，这首先体现在培养孩子的生活自理能力方面。幼儿园的保育大纲上这样明确规定：“从三岁开始，就要训练孩子怎样端碗拿筷自己吃饭；怎样自己排解大小便；怎样在保育员的指导下学会穿衣脱裤系鞋带。到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就必须养成独立着装、饮食、刷牙、洗脸的习惯”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日本的中学和小学高年级，几乎每年都要定期举办“田间学校”、“海岛学校”或“森林学校”，组织学生们到田间、海岛或森林去“留学”，不仅让孩子了解农村生活，更重要的是让孩子经风雨，见世面，培养他们吃苦耐劳的精神以及克服困难的毅力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有一个拥有亿元资产的大企业家，他的独生女正在念大学。想不到的是，这个“大款”的女儿白天上课，晚上还要外出打工，以赚取自己的学杂费。“大款”平静地说：“我这样做只是为了让孩子从小知道生活的艰辛，这样，她长大后才能知道怎样把握自己，才能在社会上站住脚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随着日本经济的高度发展，生活条件日益优越，同时也减少了下一代磨炼意志的机会。日本教育界为了弥补这方面的缺陷，有意识地给孩子提供吃苦的机会，使孩子们从小就去经历磨难、挫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2720" y="8269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美国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从孩子小时候就让他们认识劳动的价值。美国南部一些州立中学为培养学生独立适应社会生存的能力，特别规定：学生必须不带分文，独立谋生一周方能予以毕业。条件似乎苛刻，但是却使学生们获益匪浅。家长对这项活动全力支持，更没有一位“拖后腿”、“走后门”、“搞小动作”的。美国的中学生有句口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“要花钱自己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管其家里多富有，男孩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以后就会给自己的父母家里剪草、送报赚些零用钱，女孩子做小保姆去赚钱。有个女孩每周六要去餐馆打工。母亲告诉她，你完全可以在家里帮妈妈干活，照样可以领取工资。但这女孩觉得在家赚自己母亲的钱不是本事，她一定要去外面赚钱来表示自己有自立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1840" y="907920"/>
            <a:ext cx="73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瑞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父母为了不让孩子成为无能之辈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小就培养孩子自食其力的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譬如，十六七岁的姑娘，初中一毕业就被送到一家有教养的人家去当一年女佣人，上午劳动，下午上学。这样做，一方面锻炼了劳动能力，另一方面还有利于学习语言，因为瑞士有讲德语的地区，也有讲法语的地区，所以这个语言地区的姑娘通常到另外一个语言地区当佣人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981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德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家长从不包办代替孩子的事情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法律还规定，孩子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岁就要在家里承担一些义务，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要替全家人擦皮鞋等。这样做，不仅是为了培养孩子的劳动能力，也有利于培养孩子的社会义务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11592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中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种例子就更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389412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87280" y="5827680"/>
            <a:ext cx="677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毛主席说：吃苦在前，享受在后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73908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报道说外国有个试验，让两组人分别注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无害的液体，一组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是很痛苦的，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非常舒缓，另一组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很舒缓，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非常痛苦。注射结束后，分别问两组人有什么感受，如果增加报酬是否有人愿意再接受这个任务。结果，第一组的人普遍感到注射过程可以接受，第二组却没有一个人愿意再尝试这个痛苦的过程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0" y="31388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凌兰芳，丝绸之路控股集团有限公司董事长，高级经济师。浙江省企业联合会、工业经济联合会、企业家协会副会长，浙江省高级经济师协会副会长，浙商理事会主席、理事，上海交通大学、浙江工业大学、浙江理工大学等院校客座教授。荣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风云浙商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浙商社会责任大奖、全国茧丝绸行业终身成就奖、省优秀创业企业家、省关爱员工优秀企业家等称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897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29098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中新浙江网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2007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月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日电</a:t>
            </a:r>
            <a:r>
              <a:rPr b="1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丝绸之路集团是我至今为止见过的最特别的企业，它的大部分子公司都是原国企破产倒闭收购后起死回生的，它的成员是一支很多人都觉得会是沉重负担的“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4050”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队伍，可是它成长的速度却让人羡慕。从最初的一无所有到总资产七亿多元，公司的每一步都走得很稳健，每年的销售收入和利税都分别以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30-20%</a:t>
            </a: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的速度不断增长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　　它的领头人凌兰芳更是我见过最与众不同的企业家，从他身上感受到的不是财大气粗的老板架势，而是他积淀深厚的人文精神——这恰恰就是他身上最有魅力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63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115920"/>
            <a:ext cx="424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你认为最理想的快乐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549360"/>
            <a:ext cx="5904000" cy="11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我觉得足以让我快乐的事情肯定有很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几条便是：产品有牌跨过洋；员工有力可买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儿孙有志为名忙；对手有悔来协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844640"/>
            <a:ext cx="424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你最希望拥有哪种才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2349360"/>
            <a:ext cx="8567640" cy="13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多数人总希望自己才华出众，无所不能，我也一样，最好能够：遇颠倒不平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仗剑救星；遇贫苦孤苦即以点石成金；遇人间疾痛即可药到病除；遇匹夫台独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能跨海摆平。如果真有这样的本事，成了科幻里的“超人”了。可谁来监督制约我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才华是要以“善”作底线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932280"/>
            <a:ext cx="424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你最害怕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360" y="4437000"/>
            <a:ext cx="8604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最害怕太阳落山，一天又过去了。人生就像在考场里做答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越想答得正确完美，越感到时间不够，怕到时抢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373720"/>
            <a:ext cx="8964720" cy="13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凌兰芳办公室的灯总要到深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多才熄灭。如此劳心劳神，他却不以为苦。他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既然选择了做企业，就要有一种“宗教般的献身精神”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企业家生下来就是要吃苦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有一句名言——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每天都在成功。”他最清楚成功离不开每一天的“劳苦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甚至是每天的“咬牙”坚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76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吃苦的经历是人成长的养分。吃苦能让人的生命更加强健，吃苦能让人的意志更加坚强。怪不得台湾漫画家朱德庸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3357720"/>
            <a:ext cx="42004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華康娃娃體(P)"/>
              </a:rPr>
              <a:t>“</a:t>
            </a: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華康娃娃體(P)"/>
              </a:rPr>
              <a:t>怕苦，苦一辈子；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771640" y="487044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不怕苦，苦半辈子。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125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，仿佛青年突击队队长，振臂一呼，应者云集：苦力，苦难，苦恼，苦胆，苦心，苦行（哦，还有苦行僧），苦雨，苦衷，苦境，苦刑，苦口（哦，还有苦口婆心），苦愁，苦功，苦笑，苦差，苦肉记……更有苦瓜，苦果，苦丁茶……吃苦，辛苦，痛苦，艰苦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苦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260280"/>
            <a:ext cx="24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请记住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6360" y="1844640"/>
            <a:ext cx="63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吃苦是一种幸福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(P)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(P)"/>
              <a:ea typeface="華康娃娃體(P)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47640" y="378936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"/>
              </a:rPr>
              <a:t>能吃苦是一笔财富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華康娃娃體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華康娃娃體"/>
              <a:ea typeface="華康娃娃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00000" y="1484280"/>
            <a:ext cx="755964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会吃苦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72360" cy="5408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3280" y="4581360"/>
            <a:ext cx="280836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480000" cy="6464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00360" y="3645000"/>
            <a:ext cx="280836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9200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8000" y="2492280"/>
            <a:ext cx="5185080" cy="28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7848720" cy="3189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0920" y="5803920"/>
            <a:ext cx="1584360" cy="28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6000" y="3500280"/>
            <a:ext cx="8604000" cy="277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95640" y="5948280"/>
            <a:ext cx="4680000" cy="287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495520" y="1889280"/>
            <a:ext cx="114120" cy="190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7993080" cy="2743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40000" y="1484280"/>
            <a:ext cx="1655640" cy="28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536400"/>
            <a:ext cx="91440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-719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2920" y="1236600"/>
          <a:ext cx="8893080" cy="557676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55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□晨报记者林颖颖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企业招聘不再只看学历、能力，是否能吃苦也渐渐成为重要标准。昨天在复旦大学举行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届毕业生校园招聘会上，多数企业向学生提出了这样的招聘要求：吃苦耐劳。有些企业甚至现场就搞起了“吃苦测试”，果然吓跑了一些怕吃苦的毕业生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■企业搞“吃苦试探”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苦头说成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“没想到一进去就要被派到外地，工作还没日没夜，太可怕了！”大四毕业生王泳（化名）叹着气离开一家企业的招聘摊位，手里还拿着没敢投出去的简历。王泳告诉记者，这家公司规模很大，本来自己挺感兴趣，可一开口询问企业的招聘要求，对方就问他能不能吃苦，还罗列出了新员工所应经受的磨练，王泳听得抽回简历匆匆逃走。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　　这家公司人力资源部的黄先生说：“我们是一家化工企业，对员工要求比较高，尤其是要能吃苦。”于是，该今年想出了“吃苦测试”这一招，夸大一些困难，比如把原来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的苦说成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分，对于确实要被外派从事管理任务的新人，他们则会以“在流水线上进行操作”的艰苦来试探等等。黄先生告诉记者，这个测试还颇为奏效，“有近三成的学生被‘吓跑’了，这样企业一开始就剔除掉一些不能吃苦的应聘者”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55640" y="568440"/>
          <a:ext cx="7777080" cy="699840"/>
        </p:xfrm>
        <a:graphic>
          <a:graphicData uri="http://schemas.openxmlformats.org/drawingml/2006/table">
            <a:tbl>
              <a:tblPr/>
              <a:tblGrid>
                <a:gridCol w="3887640"/>
                <a:gridCol w="3889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http://www.jfdaily.com 2006-1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2a458a"/>
                          </a:solidFill>
                          <a:latin typeface="Arial"/>
                          <a:ea typeface="ˎ̥"/>
                        </a:rPr>
                        <a:t>稿件来源：解放网—新闻晨报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897640" y="-27000"/>
            <a:ext cx="30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企业招聘爱“吃苦试探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1:44:37Z</dcterms:created>
  <dc:creator>wang</dc:creator>
  <dc:description/>
  <cp:keywords>主题班会课件(分28大类): http://shop62905894.taobao.com</cp:keywords>
  <dc:language>en-US</dc:language>
  <cp:lastModifiedBy>User</cp:lastModifiedBy>
  <dcterms:modified xsi:type="dcterms:W3CDTF">2013-04-13T14:41:18Z</dcterms:modified>
  <cp:revision>116</cp:revision>
  <dc:subject>主题班会课件(分28大类): http://shop62905894.taobao.com</dc:subject>
  <dc:title>主题班会课件(分28大类): http://shop62905894.taobao.com</dc:title>
</cp:coreProperties>
</file>