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275-762D-470D-9FB5-2CB8D2B9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7C9-B443-4C86-BBF5-12440605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79F-1117-4287-B9BD-46599B76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FB2-4877-41CB-B637-02561F0D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0F42-B8DC-4063-BA95-1E0A9605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64BB-D382-4BF1-A83D-D5F740FD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B8EC-FEE6-4058-B357-186E76BB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8468-E3F9-4A66-9F2D-213A18AD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CEA1-91E4-4D0C-A97E-2B3055D0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59C0-44D3-4C5A-B53B-E88BA106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DF2E-0BC3-4A75-9576-84430422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C96-F54C-4DD8-B1B1-779CDF48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4321-A61F-463B-B153-E8AC657D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3637-B3F3-4D7F-9564-506A85A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B36F-DB12-443B-A0EA-20FA5AA7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EFC6-98E8-436E-B857-E9DF9605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0502-8F82-4855-B765-748C608D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0F7-B991-443B-B7E1-23C58AFD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E52A-BFC0-4228-880B-F650CBD6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3FC-753F-4071-8C21-DDF7C9B1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B15-9C4D-4873-B99B-46F81BBA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F37-C9D9-4CCB-913C-54491B27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82B-4009-4B33-B062-2D5B8BB9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EEE-25A8-440F-A4B3-48A03EA7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7CEC-0013-42A8-979E-058D8794EC0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03D7-826E-451F-A24A-C6A2E539A21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5270;&#39057;/%5B&#23376;&#21320;&#20070;&#31616;%5D&#39640;&#32771;_&#36825;&#26159;&#19968;&#20010;&#22278;.wm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5270;&#39057;/&#19968;&#20999;&#30342;&#26377;&#21487;&#33021;11.flv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839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高考</a:t>
            </a:r>
            <a:br>
              <a:rPr sz="8000"/>
            </a:br>
            <a:br>
              <a:rPr sz="8000"/>
            </a:b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是我们圆梦的舞台</a:t>
            </a: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ff66"/>
                </a:solidFill>
                <a:latin typeface="Arial"/>
              </a:rPr>
              <a:t>让我们在此庄严宣誓：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937260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81160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自信创造奇迹，拼搏书写神话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知识改变命运，现在决定未来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我自信，我出色；我努力，我成功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脚踏实地山让路，持之以恒海可移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走进教室，满怀信心；走出教室，意气风发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信心百倍</a:t>
            </a:r>
            <a:r>
              <a:rPr b="1" lang="zh-CN" sz="18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斗志昂扬</a:t>
            </a:r>
            <a:r>
              <a:rPr b="1" lang="zh-CN" sz="18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全力以赴</a:t>
            </a:r>
            <a:r>
              <a:rPr b="1" lang="zh-CN" sz="18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铸我辉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7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7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7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7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81080" y="609480"/>
            <a:ext cx="571500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ccecff"/>
                </a:solidFill>
                <a:uFillTx/>
                <a:latin typeface="Arial"/>
                <a:ea typeface="华文行楷"/>
                <a:hlinkClick r:id="rId2"/>
              </a:rPr>
              <a:t>为了梦想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TextBox 3" descr=""/>
          <p:cNvPicPr/>
          <p:nvPr/>
        </p:nvPicPr>
        <p:blipFill>
          <a:blip r:embed="rId3"/>
          <a:stretch/>
        </p:blipFill>
        <p:spPr>
          <a:xfrm>
            <a:off x="228600" y="1447920"/>
            <a:ext cx="9753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91720" y="763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隶书"/>
              </a:rPr>
              <a:t>也许我们年少轻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91720" y="627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隶书"/>
              </a:rPr>
              <a:t>也许我们曾经失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76400" y="12034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隶书"/>
              </a:rPr>
              <a:t>也许我们偶尔彷徨迷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59200" y="2367000"/>
            <a:ext cx="32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07840" y="3124080"/>
            <a:ext cx="22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59200" y="4114800"/>
            <a:ext cx="32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07840" y="5178600"/>
            <a:ext cx="22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1143000"/>
            <a:ext cx="6248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一切皆有可能！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286000"/>
            <a:ext cx="38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从改变自己开始！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429000"/>
            <a:ext cx="487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只要功夫深，铁杵磨成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7000" y="1411560"/>
            <a:ext cx="51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37960"/>
                <a:tab algn="l" pos="47628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华文行楷"/>
              </a:rPr>
              <a:t>让我们面对苍天大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37960"/>
                <a:tab algn="l" pos="47628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37960"/>
                <a:tab algn="l" pos="47628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华文行楷"/>
              </a:rPr>
              <a:t>大声喊出我的梦想：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9520" y="239760"/>
            <a:ext cx="8541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33360"/>
            <a:ext cx="7561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决 战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2009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年高考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考出水平  考出理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24000" y="476280"/>
            <a:ext cx="94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 algn="ctr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2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r>
              <a:rPr b="0" lang="zh-CN" sz="6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样的</a:t>
            </a:r>
            <a:r>
              <a:rPr b="0" lang="zh-CN" sz="6200" spc="-1" strike="noStrike">
                <a:solidFill>
                  <a:srgbClr val="ffcc00"/>
                </a:solidFill>
                <a:latin typeface="华文行楷"/>
                <a:ea typeface="华文行楷"/>
              </a:rPr>
              <a:t>梦想</a:t>
            </a:r>
            <a:r>
              <a:rPr b="0" lang="zh-CN" sz="6200" spc="-1" strike="noStrike">
                <a:solidFill>
                  <a:srgbClr val="ffffff"/>
                </a:solidFill>
                <a:latin typeface="华文行楷"/>
                <a:ea typeface="华文行楷"/>
              </a:rPr>
              <a:t> 同样的</a:t>
            </a:r>
            <a:r>
              <a:rPr b="0" lang="zh-CN" sz="6200" spc="-1" strike="noStrike">
                <a:solidFill>
                  <a:srgbClr val="ffcc00"/>
                </a:solidFill>
                <a:latin typeface="华文行楷"/>
                <a:ea typeface="华文行楷"/>
              </a:rPr>
              <a:t>渴望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</a:t>
            </a: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努力</a:t>
            </a: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竞争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</a:t>
            </a: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环境</a:t>
            </a: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起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</a:t>
            </a: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知识</a:t>
            </a: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老师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27280" y="5229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2f1f"/>
                </a:solidFill>
                <a:latin typeface="Arial"/>
              </a:rPr>
              <a:t>我们该怎么做？？？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只有比别人（对手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少想家 少分心 少违纪 少请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才不会被别人落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只有比对手（别人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更付出 更努力 更坚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更能持之以恒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才可能会超过别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33000" y="549000"/>
            <a:ext cx="6709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让我们一起</a:t>
            </a:r>
            <a:r>
              <a:rPr b="0" lang="zh-CN" sz="8000" spc="-1" strike="noStrike">
                <a:solidFill>
                  <a:srgbClr val="fd2f1f"/>
                </a:solidFill>
                <a:latin typeface="华文行楷"/>
                <a:ea typeface="华文行楷"/>
              </a:rPr>
              <a:t>努力</a:t>
            </a:r>
            <a:r>
              <a:rPr b="0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吧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为了</a:t>
            </a:r>
            <a:r>
              <a:rPr b="0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09</a:t>
            </a:r>
            <a:r>
              <a:rPr b="0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年高考的</a:t>
            </a:r>
            <a:r>
              <a:rPr b="0" lang="zh-CN" sz="8000" spc="-1" strike="noStrike">
                <a:solidFill>
                  <a:srgbClr val="fd2f1f"/>
                </a:solidFill>
                <a:latin typeface="华文行楷"/>
                <a:ea typeface="华文行楷"/>
              </a:rPr>
              <a:t>辉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</a:t>
            </a:r>
            <a:r>
              <a:rPr b="0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从今天开始</a:t>
            </a:r>
            <a:r>
              <a:rPr b="0" lang="zh-CN" sz="8000" spc="-1" strike="noStrike">
                <a:solidFill>
                  <a:srgbClr val="fd2f1f"/>
                </a:solidFill>
                <a:latin typeface="华文行楷"/>
                <a:ea typeface="华文行楷"/>
              </a:rPr>
              <a:t>奋斗</a:t>
            </a:r>
            <a:r>
              <a:rPr b="0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吧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5877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壮志雄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580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2f1f"/>
                </a:solidFill>
                <a:latin typeface="Arial"/>
              </a:rPr>
              <a:t>真心英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ks5u.comwww.ks5u.com</dc:creator>
  <dc:description>www.ks5u.comwww.ks5u.com</dc:description>
  <cp:keywords>主题班会课件(分28大类): http://shop62905894.taobao.com</cp:keywords>
  <dc:language>en-US</dc:language>
  <cp:lastModifiedBy>User</cp:lastModifiedBy>
  <dcterms:modified xsi:type="dcterms:W3CDTF">2013-04-13T15:22:46Z</dcterms:modified>
  <cp:revision>7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