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B5B-F971-4BA6-BA08-77B89F89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9B4-5EED-491B-9727-E1FFA64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95B-9A43-471E-ABE6-215CA63B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436-9F67-41DF-A92B-EF55E326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685-558B-4D80-9984-38605A7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B5F-4434-4300-B7D1-7ADDF77E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11C-525A-483D-B823-395CCE8E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10A-02A2-4EA1-A9F5-3668A0E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868-30C3-438C-AC18-8281C53A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9D7-A819-433F-9D05-7A77E77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23B-3F1E-44B8-B259-47FCB1C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6C2-DE9E-48BF-838C-185DE987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EA7-2701-4B37-869D-84DEDCD06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0"/>
            <a:ext cx="9144000" cy="110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美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Amherst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学院进行了一个很有意思的实验。实验人员用很多铁圈将一个小南瓜整个箍住，观察它逐渐长大时，能抗住多大由铁圈给予它的压力。当初实验员估计南瓜最多能够承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磅的压力。在实验的第一个月，南瓜就承受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磅的压力，第二个月，南瓜承受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磅的压力。当它承受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磅的压力时，研究人员开始对铁圈进行加固，以免南瓜把铁圈撑开。当研究结束时，南瓜承受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磅的压力时，瓜皮才因为巨大的反作用力产生破裂。当他们取下铁圈，费很大力气打开南瓜时，它已无法食用。因为试图想突破重重铁圈的压迫，南瓜中间充满了坚韧牢固的层层纤维。为了吸取养分，以便于提供向外膨胀的力量，南瓜的根系总长甚至超过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万英尺，所有的根都不屈地往各个方向伸展，几乎穿透了整个花园的每一寸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4200" y="285840"/>
            <a:ext cx="8643960" cy="601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通常我们很难想象一个南瓜能承受如此大的压力。倘若南瓜能够承受如此大的压力，那么人也一定能够承受。一个人的潜力能有多大？我无法准确回答，但我相信生命的潜能永远大于我们对它的估价！只要我们相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85840" y="3714840"/>
            <a:ext cx="842940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　　不是因为有些事情难以做到，我们才失去自信；而是因为我们失去了自信，有些事情才显得难以做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下箭头 3"/>
          <p:cNvSpPr/>
          <p:nvPr/>
        </p:nvSpPr>
        <p:spPr>
          <a:xfrm>
            <a:off x="3357720" y="3000240"/>
            <a:ext cx="92844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0" y="0"/>
            <a:ext cx="9144000" cy="2865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 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他从小被一对大学教授夫妇收养，两岁的时候，他突然奇怪地停止长高了，而且健康状况也越来越差。经过专家会诊，他患的是一种罕见的阻碍消化和吸收食物营养的疾病，医生们认为他只能再活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个月了。还好，通过静脉注射营养液，勉强使他恢复了体力，但是他的生长发育受到了抑制。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          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他在医院里住了很长一段时间，一直到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岁。他只能在心里计划着去报复那些嘲笑他、管他叫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花生豆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的孩子们。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          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多年以后，他回忆道，在他的潜意识里面，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那一切的经历让我梦想在体育上能取得一些成功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。有时，他的姐姐会去滑冰场滑冰，他总是跟着一起去。他站在场外，那么虚弱瘦小、发育不良，鼻子里还插了一根通到胃里的鼻饲管，平时那根管子的另一头就用胶带粘在他的耳朵后面。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          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一天，他看着姐姐在冰面上飞驰，突然转身对父母说：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听我说，我想试试滑冰。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两个正在谈话的大人吓了一跳，难以置信地看着病弱的孩子。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 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结果是，他试了，他喜欢上滑冰，他开始狂热地练习。在滑冰之中他找到了乐趣，他可以胜过别人，而且身高和体重在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71280" y="142920"/>
            <a:ext cx="8929800" cy="2653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滑冰场上并不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在第二年的健康检查中，医生吃惊地发现，他竟然又开始长个儿了。虽然对他来说想达到正常的身高已经不可能了，但是他和他的家人都不在乎了。重要的是，他正在恢复健康，正在获得成功，正在实现自己的梦想。 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后来，没有哪个孩子会再嘲笑、戏弄他了。正好相反，他们全都欢呼着冲上前去请他签名。他参加了一次又一次令人赞叹的世界职业滑冰巡回赛，一系列的高难度的冰上动作让观众如痴如狂。 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目前他已经退役，不再当职业滑冰选手了，但是他仍旧是冬季运动中受人尊敬的教练、顾问和评论员。 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虽然他身高只有一米五九，体重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5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公斤，但是他肌肉健美，精力充沛，这就是前奥运滑冰冠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――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斯科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汉弥尔顿，他自信而自强，身高无法限制他的信念和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extBox 1" descr=""/>
          <p:cNvPicPr/>
          <p:nvPr/>
        </p:nvPicPr>
        <p:blipFill>
          <a:blip r:embed="rId1"/>
          <a:stretch/>
        </p:blipFill>
        <p:spPr>
          <a:xfrm>
            <a:off x="457200" y="878040"/>
            <a:ext cx="8193240" cy="27129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0" y="3860640"/>
            <a:ext cx="105044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奇奇颗颗历险记主题歌.wav" descr=""/>
          <p:cNvPicPr/>
          <p:nvPr/>
        </p:nvPicPr>
        <p:blipFill>
          <a:blip r:embed="rId1"/>
          <a:stretch/>
        </p:blipFill>
        <p:spPr>
          <a:xfrm>
            <a:off x="42148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2" descr=""/>
          <p:cNvPicPr/>
          <p:nvPr/>
        </p:nvPicPr>
        <p:blipFill>
          <a:blip r:embed="rId2"/>
          <a:stretch/>
        </p:blipFill>
        <p:spPr>
          <a:xfrm>
            <a:off x="401760" y="615960"/>
            <a:ext cx="4151160" cy="6211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929120" y="735120"/>
            <a:ext cx="3857760" cy="5213160"/>
          </a:xfrm>
          <a:prstGeom prst="rect">
            <a:avLst/>
          </a:prstGeom>
          <a:solidFill>
            <a:srgbClr val="4bacc6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多年后 回望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远去的风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那些歌 还有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仍在风 中飘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用泪水拨响那生命的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心中的花在脚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已悄悄绽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在黑夜孤单的一点微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不在乎谁看到我在发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风吹起满天云有不同方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再多苦 再多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启体"/>
                <a:ea typeface="迷你简启体"/>
              </a:rPr>
              <a:t>我仍要飞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矩形 4" descr=""/>
          <p:cNvPicPr/>
          <p:nvPr/>
        </p:nvPicPr>
        <p:blipFill>
          <a:blip r:embed="rId3"/>
          <a:stretch/>
        </p:blipFill>
        <p:spPr>
          <a:xfrm>
            <a:off x="2938320" y="-85680"/>
            <a:ext cx="23036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0129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987640" y="2997360"/>
            <a:ext cx="371016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57120" y="357120"/>
            <a:ext cx="8572680" cy="110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 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在非洲，每天早晨羚羊睁开眼睛，所想的第一件事就是：我必须跑得更快。而在同一时刻，狮子从睡梦中醒来，首先闪现在脑海里的是，我必须跑得再快一些，以追上更多的羚羊。于是，几乎同时，羚羊和狮子一跃而起，迎着朝阳跑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汉鼎简中楷"/>
              </a:rPr>
              <a:t>　　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汉鼎简中楷"/>
              </a:rPr>
              <a:t>一个拼命地跑，一个拼命地追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2" descr=""/>
          <p:cNvPicPr/>
          <p:nvPr/>
        </p:nvPicPr>
        <p:blipFill>
          <a:blip r:embed="rId1"/>
          <a:stretch/>
        </p:blipFill>
        <p:spPr>
          <a:xfrm>
            <a:off x="2494080" y="4065480"/>
            <a:ext cx="6242040" cy="871560"/>
          </a:xfrm>
          <a:prstGeom prst="rect">
            <a:avLst/>
          </a:prstGeom>
          <a:ln w="0">
            <a:noFill/>
          </a:ln>
        </p:spPr>
      </p:pic>
      <p:pic>
        <p:nvPicPr>
          <p:cNvPr id="44" name="圆角矩形标注 3" descr=""/>
          <p:cNvPicPr/>
          <p:nvPr/>
        </p:nvPicPr>
        <p:blipFill>
          <a:blip r:embed="rId2"/>
          <a:stretch/>
        </p:blipFill>
        <p:spPr>
          <a:xfrm>
            <a:off x="176040" y="3681360"/>
            <a:ext cx="58899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200" y="71280"/>
            <a:ext cx="8715600" cy="1617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生活又何尝不是这样呢？处处都是千帆竞渡，处处都是芸芸的众生。生活是公正的，又是极其残酷的，在人生的每一道驿站，每一瞬，我们若消极懈怠，不思上进，必将被抛的老远，或是淘汰出局，或是被生活碾碎撕烂，体无完肤。因此，无论你是羚羊还是狮子，每当太阳升起的时候，就要毫不迟疑地向前奔跑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面对高三，面对这个必将决定每个学生今后生活状态和人生轨迹的阶段，你也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汉鼎简中楷"/>
              </a:rPr>
              <a:t>必须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汉鼎简中楷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汉鼎简中楷"/>
              </a:rPr>
              <a:t>奔跑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汉鼎简中楷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汉鼎简中楷"/>
              </a:rPr>
              <a:t>，而且必须跑得更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og"/>
          <p:cNvPicPr/>
          <p:nvPr/>
        </p:nvPicPr>
        <p:blipFill>
          <a:blip r:embed="rId1"/>
          <a:stretch/>
        </p:blipFill>
        <p:spPr>
          <a:xfrm flipH="1">
            <a:off x="214200" y="4929120"/>
            <a:ext cx="11160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og"/>
          <p:cNvPicPr/>
          <p:nvPr/>
        </p:nvPicPr>
        <p:blipFill>
          <a:blip r:embed="rId2"/>
          <a:stretch/>
        </p:blipFill>
        <p:spPr>
          <a:xfrm flipH="1">
            <a:off x="4643280" y="476712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og"/>
          <p:cNvPicPr/>
          <p:nvPr/>
        </p:nvPicPr>
        <p:blipFill>
          <a:blip r:embed="rId3"/>
          <a:stretch/>
        </p:blipFill>
        <p:spPr>
          <a:xfrm flipH="1">
            <a:off x="357120" y="6172200"/>
            <a:ext cx="11527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og"/>
          <p:cNvPicPr/>
          <p:nvPr/>
        </p:nvPicPr>
        <p:blipFill>
          <a:blip r:embed="rId4"/>
          <a:stretch/>
        </p:blipFill>
        <p:spPr>
          <a:xfrm flipH="1">
            <a:off x="7071840" y="617220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g"/>
          <p:cNvPicPr/>
          <p:nvPr/>
        </p:nvPicPr>
        <p:blipFill>
          <a:blip r:embed="rId5"/>
          <a:stretch/>
        </p:blipFill>
        <p:spPr>
          <a:xfrm flipH="1">
            <a:off x="1000080" y="521496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g"/>
          <p:cNvPicPr/>
          <p:nvPr/>
        </p:nvPicPr>
        <p:blipFill>
          <a:blip r:embed="rId6"/>
          <a:stretch/>
        </p:blipFill>
        <p:spPr>
          <a:xfrm flipH="1">
            <a:off x="2714760" y="478620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g"/>
          <p:cNvPicPr/>
          <p:nvPr/>
        </p:nvPicPr>
        <p:blipFill>
          <a:blip r:embed="rId7"/>
          <a:stretch/>
        </p:blipFill>
        <p:spPr>
          <a:xfrm flipH="1">
            <a:off x="4932360" y="5832360"/>
            <a:ext cx="19447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dog"/>
          <p:cNvPicPr/>
          <p:nvPr/>
        </p:nvPicPr>
        <p:blipFill>
          <a:blip r:embed="rId8"/>
          <a:stretch/>
        </p:blipFill>
        <p:spPr>
          <a:xfrm flipH="1">
            <a:off x="6985080" y="492912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dog"/>
          <p:cNvPicPr/>
          <p:nvPr/>
        </p:nvPicPr>
        <p:blipFill>
          <a:blip r:embed="rId9"/>
          <a:stretch/>
        </p:blipFill>
        <p:spPr>
          <a:xfrm flipH="1">
            <a:off x="2857680" y="5892840"/>
            <a:ext cx="18000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39640" y="18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在奔跑的过程中，我们会遇到很多方面的诱惑和阻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8S"/>
          <p:cNvPicPr/>
          <p:nvPr/>
        </p:nvPicPr>
        <p:blipFill>
          <a:blip r:embed="rId1"/>
          <a:stretch/>
        </p:blipFill>
        <p:spPr>
          <a:xfrm>
            <a:off x="0" y="1268280"/>
            <a:ext cx="313200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pringerspaniels_1024s"/>
          <p:cNvPicPr/>
          <p:nvPr/>
        </p:nvPicPr>
        <p:blipFill>
          <a:blip r:embed="rId2"/>
          <a:stretch/>
        </p:blipFill>
        <p:spPr>
          <a:xfrm>
            <a:off x="4356000" y="1341360"/>
            <a:ext cx="3241800" cy="2808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781720" y="1413000"/>
            <a:ext cx="14601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我最爱的狗粮——水果蛋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463160" y="1413000"/>
            <a:ext cx="14601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我最害怕的对手——恶狗三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50872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还有我最沉溺的休闲方式——狗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20049614331447280"/>
          <p:cNvPicPr/>
          <p:nvPr/>
        </p:nvPicPr>
        <p:blipFill>
          <a:blip r:embed="rId3"/>
          <a:stretch/>
        </p:blipFill>
        <p:spPr>
          <a:xfrm>
            <a:off x="611280" y="4076640"/>
            <a:ext cx="44654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M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2627280" y="836640"/>
            <a:ext cx="3313080" cy="3600360"/>
          </a:xfrm>
          <a:prstGeom prst="wedgeEllipseCallout">
            <a:avLst>
              <a:gd name="adj1" fmla="val -67490"/>
              <a:gd name="adj2" fmla="val 69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786040" y="1143000"/>
            <a:ext cx="322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6092"/>
                </a:solidFill>
                <a:latin typeface="迷你简启体"/>
                <a:ea typeface="迷你简启体"/>
              </a:rPr>
              <a:t>     </a:t>
            </a:r>
            <a:r>
              <a:rPr b="1" lang="zh-CN" sz="3200" spc="-1" strike="noStrike">
                <a:solidFill>
                  <a:srgbClr val="376092"/>
                </a:solidFill>
                <a:latin typeface="迷你简启体"/>
                <a:ea typeface="迷你简启体"/>
              </a:rPr>
              <a:t>我忘了自己要做什么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357120" y="285840"/>
            <a:ext cx="8501040" cy="601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在一望无际的非洲拉马河畔，一只非洲豹向一群羚羊扑去，羚羊拼命地四散奔逃。非洲豹的眼睛盯着一只未成年的羚羊，穷追不舍。在追与逃的过程中，非洲豹超过了一只又一只站在旁边惊恐观望的羚羊。但对那些和它挨得很近的羚羊，它却像未看见一样，一次次放过它们。终于，那只未成年的羚羊被凶悍的非洲豹扑倒了，挣扎着倒在了血泊中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   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圆角矩形标注 2" descr=""/>
          <p:cNvPicPr/>
          <p:nvPr/>
        </p:nvPicPr>
        <p:blipFill>
          <a:blip r:embed="rId1"/>
          <a:stretch/>
        </p:blipFill>
        <p:spPr>
          <a:xfrm>
            <a:off x="719280" y="3852720"/>
            <a:ext cx="63468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1280" y="181080"/>
            <a:ext cx="8929800" cy="110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                     目标专一是成功的必要条件。试想豹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                    中途看到这只好，便去追赶这只，看到那只好，又去追赶那只，被追赶的一只只羚羊起跑速度一定很快，由于豹子体力在不断消耗，就会把贪得无厌的豹子甩到身后，最后哪只羚羊都不会追到，还落个筋疲力尽而又非常懊悔的下场。其实，我们生活中经不起诱惑而中途改变目标的事例可以说数不胜数，就像豹子中途追赶一只只羚羊的下场，应引以为戒。我们平时做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汉鼎简中楷"/>
              </a:rPr>
              <a:t>在目标选定好后，要像豹子追赶羚羊那样专一，要有坚定信念和足够的信心，并能持之以恒地坚持下来，只有紧追一只羊才会距离你的目标越来越近，才会实现自己的理想，特别是那些做事犹豫不决的人更应从中有所受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云形标注 2" descr=""/>
          <p:cNvPicPr/>
          <p:nvPr/>
        </p:nvPicPr>
        <p:blipFill>
          <a:blip r:embed="rId1"/>
          <a:stretch/>
        </p:blipFill>
        <p:spPr>
          <a:xfrm>
            <a:off x="-66600" y="-42840"/>
            <a:ext cx="17794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7120" y="571680"/>
            <a:ext cx="8429760" cy="110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记得当记者询问日本一位著名的马拉松运动员获得冠军的秘诀时，这位运动员只轻轻地说了一句：凭智慧战胜对手。那么，冠军的智慧是什么呢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年后，这个谜在他的自传中找到了答案：比赛的时候，他并不把离起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42.19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公里的终点看作终点，而是在比赛沿途定下若干个点，每一个点是一个终点，每一点也是起点。这样，初冲出起跑线的那种感觉，那种意识，在每一个点上都得以持续。而每接近一个点时，那种冲刺的感觉，拼搏的意识，在终点尚未来临时已经加强，这样也就胜券在握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00040" y="1571760"/>
            <a:ext cx="8143920" cy="110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把距离分割，把目标分割，这是世界冠军战胜对手的智慧，那沿途的一个个小目标也铺就了世界冠军成功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00040" y="214200"/>
            <a:ext cx="8143920" cy="110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在向着目标奔跑的过程中，世界冠军战胜对手的智慧是什么？它对我们的学习有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00040" y="3429000"/>
            <a:ext cx="8143920" cy="601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　　我们的学习也应该这样，首先确定目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汉鼎简中楷"/>
              </a:rPr>
              <a:t>一个阶段的目标，一个学年的目标，一个学期的目标，一个月的目标，一个星期乃至一天的目标，这样，学习起来才有了努力方向，才会全身心地投入其中，才能把学习当成一种享受，才能真正体验到学习带来的乐趣，才会学有所得，学有所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横卷形 4"/>
          <p:cNvSpPr/>
          <p:nvPr/>
        </p:nvSpPr>
        <p:spPr>
          <a:xfrm>
            <a:off x="3500280" y="2571840"/>
            <a:ext cx="5072400" cy="8571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天天有事做，天天有收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主题班会课件(分28大类): http://shop62905894.taobao.com</cp:keywords>
  <dc:language>en-US</dc:language>
  <cp:lastModifiedBy>User</cp:lastModifiedBy>
  <dcterms:modified xsi:type="dcterms:W3CDTF">2013-04-13T14:58:49Z</dcterms:modified>
  <cp:revision>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