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2FD-9428-4C0E-9A84-A219859D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CF2-01BE-4A5C-898B-E624B84C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44D-1132-4285-B784-A72A2D81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972-3302-476F-86BC-6C1B3BB2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26A7-E0AA-4A27-ABFE-E52FFB50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5232-409B-40FB-976C-EE17A875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4AA6-02BB-4A86-8B38-DCC1A48D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A433-99CC-419D-9519-9A632312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0823-8284-4309-A8EF-40A473F4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D3F2-028B-48AF-8651-64BDD22B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08F6-2039-43E8-8462-02E053CE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41C-9DE5-4851-8586-2D674AF3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370A-5409-4B27-8456-1F8E84F3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C64D-9E58-4F33-AEF6-4712AD80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599B-78AA-43B5-AC38-D1B7D7E5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B250-CB08-4872-AB87-B0045BB7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C0F9-3739-47A9-A48D-54FB874B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8BE-3EE8-48EA-A356-CF21DE40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623-B909-4C7D-82BF-1D04CF99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560-AB06-4317-8B47-5D17F9EF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62B-8BBB-4E1D-8E87-2E497571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A84-C613-404B-87AC-C75840F4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51C-EBF0-48C5-A9FF-40693E4B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5E06-43B7-4162-BAA0-02CBECA7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C10A-F4A5-4120-BC2B-73CD7712C7F3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4581-9FBF-421E-8271-BA8AA8FDF367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00200" y="1447920"/>
            <a:ext cx="5791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超越梦想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4714200" y="3962520"/>
            <a:ext cx="300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-----</a:t>
            </a:r>
            <a:r>
              <a:rPr b="1" lang="zh-CN" sz="6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榜样篇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1459080"/>
            <a:ext cx="8839080" cy="5398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90920" y="2286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中国骄傲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45720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990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7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岁时，刘翔被上海市管弄小学的校田径队教练仲锁贵选中练习田径，从此与体育结缘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1337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993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年，四年级即将结束的时，刘翔被顾宝刚老师选入上海市普陀区少体校，主练跳高、辅练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00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米短跑等，开始了职业运动生涯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41911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995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年，一次市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00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米跑比赛的机会，被上海体育运动技术学院（市体校简称二少体）田径队二线队教练方水泉看中，随后进入开始练习跨栏。</a:t>
            </a:r>
            <a:r>
              <a:rPr b="1" lang="zh-CN" sz="3200" spc="-1" strike="noStrike">
                <a:solidFill>
                  <a:srgbClr val="ffcc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4572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996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年获得上海市少年田径锦标赛乙组冠军。这是刘翔记忆中获得的第一个跨栏冠军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1337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997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年，转入普陀区重点中学、上海市田径传统学校——宜川中学，一边读书，一边训练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41911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998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8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月初，江苏徐州举行全国青少年田径比赛，刘翔带伤打着封闭获得了全能项目的全国第二名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22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2001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5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月，在上海举行的全国田径锦标赛暨系列大奖赛上，刘翔以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3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秒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32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的成绩获得了第一名。在这次新老跨栏王“争霸赛”上，刘翔战胜了他心目中的第一个跨栏对手陈雁浩。也是从这一次开始，刘翔完成了一次真正意义上的心理超越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31240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2001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5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28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日，刘翔获得了第一个世界冠军头衔——世界大学生运动会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10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米栏冠军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7242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2002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月，瑞士国际田联大奖赛，刘翔跑出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13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秒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的成绩，打破了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13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秒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23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的世界青年纪录。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600" y="22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2004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5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8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日，在日本大阪举行的国际田联大奖赛上，刘翔以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3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秒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06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的成绩战胜了约翰逊的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3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秒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3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。第一次面对面地战胜了约翰逊，也是战胜了刘翔心目中的偶像，也是第二个对手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514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2004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7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2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日，国际田联大奖赛罗马站上，刘翔以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3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秒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1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比阿兰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约翰逊快千分之一秒的速度再次获胜。两次战胜阿兰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约翰逊的经历，为刘翔决战雅典注入了无穷的信心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472428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2004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27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日，雅典奥运会男子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110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米栏决赛上，刘翔以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秒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91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平由英国选手科林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杰克逊的纪录夺得了金牌，创造了中国人在短道项目上的奇迹和神话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2286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2005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  <a:ea typeface="Arial Unicode MS"/>
              </a:rPr>
              <a:t>年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8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  <a:ea typeface="Arial Unicode MS"/>
              </a:rPr>
              <a:t>月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2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  <a:ea typeface="Arial Unicode MS"/>
              </a:rPr>
              <a:t>日，在第十届世界田径锦标赛上，刘翔以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3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  <a:ea typeface="Arial Unicode MS"/>
              </a:rPr>
              <a:t>秒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08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  <a:ea typeface="Arial Unicode MS"/>
              </a:rPr>
              <a:t>夺得亚军，创造了中国男选手在世锦赛历史上的最好成绩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43434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2006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  <a:ea typeface="Arial Unicode MS"/>
              </a:rPr>
              <a:t>年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7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  <a:ea typeface="Arial Unicode MS"/>
              </a:rPr>
              <a:t>月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2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  <a:ea typeface="Arial Unicode MS"/>
              </a:rPr>
              <a:t>日，刘翔以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2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  <a:ea typeface="Arial Unicode MS"/>
              </a:rPr>
              <a:t>秒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88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  <a:ea typeface="Arial Unicode MS"/>
              </a:rPr>
              <a:t>的成绩获得瑞士洛桑田径超级大奖赛金牌，并打破沉睡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3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  <a:ea typeface="Arial Unicode MS"/>
              </a:rPr>
              <a:t>年之久、由英国名将科林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.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  <a:ea typeface="Arial Unicode MS"/>
              </a:rPr>
              <a:t>杰克逊创造的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12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  <a:ea typeface="Arial Unicode MS"/>
              </a:rPr>
              <a:t>秒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</a:rPr>
              <a:t>91</a:t>
            </a:r>
            <a:r>
              <a:rPr b="1" lang="zh-CN" sz="3200" spc="-1" strike="noStrike">
                <a:solidFill>
                  <a:srgbClr val="ffcc00"/>
                </a:solidFill>
                <a:latin typeface="_x000b__x000c_"/>
                <a:ea typeface="Arial Unicode MS"/>
              </a:rPr>
              <a:t>的世界纪录</a:t>
            </a:r>
            <a:r>
              <a:rPr b="1" lang="zh-CN" sz="3200" spc="-1" strike="noStrike">
                <a:solidFill>
                  <a:srgbClr val="000000"/>
                </a:solidFill>
                <a:latin typeface="_x000b__x000c_"/>
                <a:ea typeface="Arial Unicode MS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254400" y="1752480"/>
            <a:ext cx="269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一次次击败我的对手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  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89600" y="33861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刘翔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94040" y="255600"/>
            <a:ext cx="68616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从小时候打玻璃球开始，我的好胜心便出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的强，别人比我厉害，我就要比别人厉害，不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道这点是否影响了我以后的跨栏生涯，但觉得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给自己设立一个目标，总是好事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刚进孙指导队里的时候，我是队里年龄最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的一个，也是水平最差的一个，我的师兄们大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是有冠军头衔在身了。而我的目标，最终锁定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和我同跑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1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米栏的师兄沈真声身上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沈真声比我大两岁，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997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年到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998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他三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打破全国少年跨栏纪录，而最厉害的是。他曾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获得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998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年世界中学生运动会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1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米栏的冠军，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可是世界冠军啊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11120" y="171360"/>
            <a:ext cx="69008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记不清了，多少个傍晚，我自己留下来单独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练，其实我也想和沈真声他们一起去玩，但我知道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不可以。我的底子比别人差很多，要超过别人，就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必须付出加倍的汗水和努力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200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年的全国田径大奖赛南京站，我跑出了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秒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06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获得第二名，而沈真声是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秒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27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我真的超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过他了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而那时，或许是下意识的，我开始留意另一个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人的名字，那个名字写在了那次南京站比赛第一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的位置上：陈雁浩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当时的陈雁浩从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99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年开始，称霸全国，乃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亚洲近六年，没有一个人能超过他。而他也是我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傅孙海平的弟子，可以说是我的大师兄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29720" y="179280"/>
            <a:ext cx="661788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在此之前，我和陈雁浩的交手，都以我的失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而告终，但那次大奖赛，虽然我仍输给了陈雁浩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获得第二名，但我只比他慢了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0.0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。我的心头，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产生了当初和沈真声比赛时的那种感觉：“我一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能超过大师兄，下次一定能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广东那次比赛回来后，我每天的训练格外卖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有时候训练的投入程度，我心里知道是怎么回事—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当一件你盼望已久、原以为是遥不可期的事情，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下子变得触手可及的时候，那种迫切的心情，会转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化为怎样的一种巨大动力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才过了几天，全国田径大奖赛又移师宁波，我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和陈雁浩作为对手，又一次站到了跑道上。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秒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45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我超过了陈雁浩，获得了冠军。陈雁浩的成绩只比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143000" y="3581280"/>
            <a:ext cx="69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隶书"/>
              </a:rPr>
              <a:t>超越梦想 我心飞翔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990720"/>
            <a:ext cx="6248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方正舒体"/>
              </a:rPr>
              <a:t>我们的榜样——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69320" y="152280"/>
            <a:ext cx="6030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我慢了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0.02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秒，但，毕竟，是我赢了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这是我第一次超过陈雁浩，尽管有些心理准备，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一度还不敢相信，这是真的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如果说上一次宁波之战，可以看作陈雁浩偶尔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失手的话，那这一次，他必须全力以赴，同样，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为我而言，如果上一次是侥幸获胜的话，那我必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再战胜他一次，才能真正证明自己的实力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月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日，我清楚地记得这一天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1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米栏决赛马上就要开始的广播声响了，几乎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所有的观众把目光都投向了我和陈雁浩，而在场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人，更是“呼”的一声，都围到了跑道旁，顿时，跑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道两旁都是黑压压的人群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“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叭！”发令枪响了，我的脑子里顿时什么也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5040" y="144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-76320"/>
            <a:ext cx="679572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想了，只知道一个字：跑！跑！跑！一个栏，两个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栏，三个，四个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· · ·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我能明显感觉陈雁浩处在和我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几乎平行的位置，他也在努力向前飞奔。冲过终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的时候，我感觉我和他是平行的，或许，我快了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点点，就那么一点点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· · ·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但我自己一点吧我都没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成绩终于出来了，我的成绩是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秒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32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他的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绩是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秒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37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快了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0.05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秒，我赢了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就这样，仿佛一夜之间，我就战胜了陈雁浩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到后来的九运会，我比陈雁浩快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0.06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秒夺得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1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米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的冠军，很多媒体都说从那时开始，我超过了陈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浩，但只有我自己心里最清楚，真正意义上的超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是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200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月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日的上海站比赛，我完成了我进孙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导队里后一个最大的心愿，那是一个看似不可超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的目标，但我做到了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90440" y="171360"/>
            <a:ext cx="7137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很早就知道阿兰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约翰逊的名字了，我想每一个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练跨栏的人，都知道他的名字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1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米栏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个快于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秒的成绩中，有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个是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创造的！他是当之无愧的“跨栏王”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刚练跨栏那会儿，根本就不敢奢望有朝一日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看见约翰逊。必须承认，他已成为了我的偶像，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我看他就是一座远方的大山，我到山脚下的那一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都遥不可及，更别提要逾越这座大山了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200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年在埃德蒙顿举行的国际田径锦标赛，我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清楚地记得，那是我和约翰逊的第一次碰面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很遗憾，那时的我还略显稚嫩，虽然说跑了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秒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5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基本发挥了自己的水平，但这个成绩摆到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界的范围来看，就显得太普通了，我没有进入决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92360" y="68400"/>
            <a:ext cx="618480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只能作为观众，在一旁感受约翰逊那风驰电掣一般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的速度。那次他得了冠军，成绩是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秒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04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。我暗暗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问自己：“刘翔，你将来能和他跑得一样快吗？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2002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年，我参加了在希腊雅典举行的国际室内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田径锦标赛，那是我第一次和约翰逊肩并肩的站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跑道上，是我和他的一次同场竞技。但真的是很遗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憾，那次比赛，我在跨第二个栏的时候，摔倒了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根本没完成比赛，我所能看到的，只是约翰逊的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随着我成绩渐渐提高，我和约翰逊面对面“过招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的次数也越来越多。有时候，回首那段历史，我自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己也禁不住有些气馁，整个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200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年，我和约翰逊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大小小比了近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次，我全军覆没，没有一场胜绩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但可以看到的是，我的成绩从原来徘徊在第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58920" y="144360"/>
            <a:ext cx="7057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慢慢进步到了跻身前三名，更多的时候，我一直拿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名，而约翰逊一直是第一名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毫无疑问，那时候，约翰逊仍然像一座高山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样横在我的面前，但我隐隐感觉到，这座大山已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不像当初那样遥不可期了，我甚至觉得我已经站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了山脚下，接下来要做的，就是翻越它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2004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月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日，日本，大阪，国际田联大奖赛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我等的那天，终于到来了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我跑了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秒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06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而约翰逊的成绩是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秒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。我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次面对面的战胜了约翰逊。此前在瑞士的洛桑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我跑出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秒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7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但那时我们并不是在一个组，称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上是面对面，我也丝毫没有战胜他的感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然而，当我第一个冲过终点，第一次让约翰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92120" y="228600"/>
            <a:ext cx="6378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看到我的背影的时候，很奇怪，我并没有特别的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奋，尽管我跑出了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秒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06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打破了自己当初创造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秒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的亚洲纪录，而这个成绩也是当年的世界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好成绩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但在数万名观众的呐喊声中，我还是有些迷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我打败了约翰逊？是真的吗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是约翰逊让我认识到，这是真的。比赛完，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个走向我，同样是那个友好的微笑，他拍拍我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的肩膀，说了一句：“干得漂亮，祝贺你！”那一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那，我才回过神来，这一切都是真的，我击败了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界“跨栏王”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457200"/>
            <a:ext cx="8915400" cy="71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我们也正年轻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我们也正在奔跑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让我们以刘翔为榜样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不知疲倦的向前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不畏任何困难艰辛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勇敢地展现自己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5121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05320" y="30492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向前！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1149480"/>
            <a:ext cx="8458200" cy="5708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跨越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7120" y="2286000"/>
            <a:ext cx="2009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胜利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639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95480" y="0"/>
            <a:ext cx="403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激情时刻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8120" y="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我为王者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977760"/>
            <a:ext cx="7924680" cy="5880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8120" y="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谁与争锋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458200" cy="5567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8120" y="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颠峰记忆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2:39:50Z</dcterms:created>
  <dc:creator>jiaoshi</dc:creator>
  <dc:description/>
  <cp:keywords>主题班会课件(分28大类): http://shop62905894.taobao.com</cp:keywords>
  <dc:language>en-US</dc:language>
  <cp:lastModifiedBy>User</cp:lastModifiedBy>
  <dcterms:modified xsi:type="dcterms:W3CDTF">2013-04-13T15:19:12Z</dcterms:modified>
  <cp:revision>45</cp:revision>
  <dc:subject>主题班会课件(分28大类): http://shop62905894.taobao.com</dc:subject>
  <dc:title>主题班会课件(分28大类): http://shop62905894.taobao.com</dc:title>
</cp:coreProperties>
</file>