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4DE-A862-4D7C-90D5-D8F858BC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688-F3EF-4C23-B15C-A886E326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F41-8DD5-4162-843A-701F6D92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700-F7DE-4B07-9183-4F4CCD04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AD40-5CAA-49CF-9D1F-CF10F144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5902-B719-4947-8B24-B876000F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E326-BD04-4FA2-9954-D2EFB7C1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4C52-1A9C-4F73-B85C-85832503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F962-7622-4A17-BDD7-5E25C01D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7AF3-D9C7-4B5C-A0FD-5D4D04BE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A865-E4A9-45B6-9485-80A6A1B4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9AE-27CA-4047-9F00-5C3EA7BE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ADF2-0369-4F60-A5BD-7698A70E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D9CE-BC79-4DAA-BDFF-5B7E4566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17AC-E650-402A-97D8-3EC4FA93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286A-AE45-4AEA-9DB6-5DF2A543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7643-DA17-43D0-A63B-D661258A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D6B-A155-4C7F-9569-F877BC98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F78-78E2-4AC8-8832-01541C78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8C0-FEBB-47B5-BD85-3B41AF2D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3FB-578A-442F-9C7F-4AA9D26A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E81-FF29-4E45-8586-BA43E5EC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963-68BB-4EAB-B83F-8F20DD6F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1EE-6777-40BD-8520-D4DABBB0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englishvod.net/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hyperlink" Target="http://www.englishvod.net/" TargetMode="External"/><Relationship Id="rId4" Type="http://schemas.openxmlformats.org/officeDocument/2006/relationships/hyperlink" Target="http://www.englishvod.net/" TargetMode="External"/><Relationship Id="rId5" Type="http://schemas.openxmlformats.org/officeDocument/2006/relationships/hyperlink" Target="http://www.englishvod.net/" TargetMode="External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C051-2CA9-4B11-A1AF-F36F67BF57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5400000">
            <a:off x="-2943360" y="2943000"/>
            <a:ext cx="685800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E7B9-E998-48AE-9287-40969E8B711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669000"/>
            <a:ext cx="3059280" cy="189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版权所有（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） 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E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nglishVod.ne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2004-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9880" y="609480"/>
            <a:ext cx="49514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恰巧读到几个故事，希望和大家分享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55022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你看到了吗？我在默默的祝福你！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^_^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1358280"/>
            <a:ext cx="76341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呵呵，逗吧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~~~</a:t>
            </a:r>
            <a:br>
              <a:rPr sz="2400"/>
            </a:b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你看到了图片，因为有人在默默的关心你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你也爱着身边的一些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心中有爱，一切将如愿以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把这份幸运传下去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送给你想祝福、关心、爱着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成功无捷径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17524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一个青年职员平时工作懒懒散散，在转正前一个月他问老板：“如果我兢兢业业工作一个月，我能转正吗？”老板答道：“你的问题让我想到一个冷房间的温度计，你用热手捂着它，能使表上显示温度上升，不过房间一点也不会温暖。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2714760"/>
            <a:ext cx="6248520" cy="1618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今天的成就是因为昨天的积累，明天的成功则有赖于今天的努力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其实真正的成功是一个过程，是将勤奋和努力融入每天的生活中，融入每天的工作中。这要靠我们的意志，但更重要的是建立一个良好的生活习惯和工作习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培训中有一句话：“因为你有选择，你主载自己的人生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606744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Be pro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找问题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1523880"/>
            <a:ext cx="74674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上初中时，老师给我们讲了一个故事：有三只猎狗追一只土拨鼠，土拨鼠钻进了一个树洞。这只树洞只有一个出口，可不一会儿，从树洞里钻出一只兔子。兔子飞快地向前跑，并爬上一棵大树。兔子在树上，仓皇中没站稳，掉了下来，砸晕了正仰头看的三只猎狗，最后，兔子终于逃脱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故事讲完后，老师问：“这个故事有什么问题吗？”我们说：“兔子不会爬树。”， “一只兔子不可能同时砸晕三只猎狗。” “还有哪？”老师继续问。直到我们再找不出问题了，老师才说：“可是还有一个问题，你们都没有提到，土拨鼠哪里去了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581280"/>
            <a:ext cx="624852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在追求人生目标的过程中，我们有时也会被途中的细枝末节和一些毫无意义的琐事分散精力，扰乱视线，以至中途停顿下来，或是走上岔路，而放弃了自己原先追求的目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不要忘了时刻提醒自己，土拨鼠哪去了？自己心目中的目标哪去了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614376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Begin with the end in m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599112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Put first things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7400" y="527040"/>
            <a:ext cx="58672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简单道理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1523880"/>
            <a:ext cx="7467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从前，有两个饥饿的人得到了一位长者的恩赐：一根鱼杆和一篓鲜活硕大的鱼。经过谈判，其中，一个人得到了一篓鱼，另一个得到了一根鱼杆。得到鱼的人原地就用干柴搭起篝火煮起了鱼，他狼吞虎咽，还没有品出鲜鱼的肉香，转瞬间，连鱼带汤就被他吃了个精光，不久，他便饿死在空空的鱼篓旁。另一个人则提着鱼杆继续忍饥挨饿，一步步艰难地向海边走去，可当他已经看到不远处那片蔚蓝色的海洋时，他浑身的最后一点力气也使完了，他也只能眼巴巴地带着无尽的遗憾撒手人间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又有两个饥饿的人，他们同样得到了长者恩赐的一根鱼杆和一篓鱼。只是经过谈判，他们并没有各奔东西，而是商定共同去找寻大海，他俩每次只煮一条鱼，他们经过遥远的跋涉，来到了海边，从此，两人开始了捕鱼为生的日子，几年后，他们盖起了房子，有了各自的家庭、子女，有了自己建造的渔船，过上了幸福安康的生活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400560"/>
            <a:ext cx="6248160" cy="1618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Win – lost 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Lose – Lose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的想法，得到的终将是短暂的欢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Win-win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的想法，才有可能得到长久的欢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时候，一个简单的道理，却足以给人意味悠长的生命启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599112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Think win-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952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有两位武士不约而同的走入森林里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第一位武士在树下看到金色的盾牌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第二位武士在同一棵树下看到了银色的盾牌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金盾牌银盾牌 两个人为此争吵不休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气得两人拔出剑来准备一决胜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两人整整撕杀了几天都分不出胜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当两人累得坐在地上喘息时才发现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盾牌的正面是金色反面是银色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原来这是一个双面盾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冲突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358128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一个坚持己见者将会失去通融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599112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Seek first to understand, then to be underst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运用智慧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1143000"/>
            <a:ext cx="7467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英国皇家海军有一次招考雇员，口试题目为：在一个大风雪的夜晚，你开着一辆车，经过一个车站，有三个人在等车。一位是快病死的老太太、一位是救过你命的医生、一位是你梦寐以求的情人。你会载哪一位？说明你的理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载老太太，因为救人第一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载医生，因为知恩图报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载情人，因为可能一辈子再也碰不到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二百多位应征者，录取的那位没有申论说明，只有答案：“把车钥匙给医生，让医生载老太太去医院，我留下来陪梦寐以求的情人等车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733920"/>
            <a:ext cx="624852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几乎每个人都认为这是最好的答案，但是居然没人能事先说出同样的答案。是因为我们思维习惯受限制？还是因为我们把持原有的利益，不愿放手（没想过要放弃自己的车）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+1&gt;2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，可能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599112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Synerg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师从大师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1143000"/>
            <a:ext cx="7467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一位音乐系的学生走进练习室，钢琴上，摆着一份全新的乐谱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超高难度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”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他翻动着，喃喃自语，感觉自己对弹奏钢琴的信心似乎跌到了谷底，消磨殆尽。已经三个月了！自从跟了这位新的指导教授之后，他不知道，为什么教授要以这种方式整人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勉强打起精神。他开始用十只手指头奋战、奋战、奋战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琴间盖住了练习室外教授走来的脚步声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指导教授是个极有名的钢琴大师。授课第一天，他给自己的新学生一份乐谱。“试试看吧！”他说。乐谱难度颇高，学生弹得生涩僵滞，错误百出。“还不熟，回去好好练习！”教授在下课时，如此叮嘱学生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学生练了一个星期，第二周上课时正准备让教授验收，没想到教授又给了他一份难度更高的乐谱。“试试看吧”！上星期的课，教授提也没提。学生再次挣扎于更高难度的技巧挑战。第三周，更难的乐谱又出现了。同样的情形持续着，学生每次在课堂上都被一份新的乐谱所困扰，然后把它带回练习，接着再回到课堂上，重新面临两倍难度的乐谱，却怎么样都追不上进度，一点也没有因为上周的练习而有驾轻就熟的感觉。学生感到越来越不安、沮丧和气馁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教授走进练习室。学生再也忍不住了。他必须向钢琴大师提出这三个月来何以不断折磨自己的质疑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教授没开口，他抽出了最早的第一份乐谱，交给学生。“弹奏吧！”他以坚定的眼神望着学生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不可思议的结果发生了，连学生自已都惊讶万分，他居然可以将这首曲子弹奏得如此美妙，如此精湛！教授又让学生试了第二堂课的乐谱，学生依然呈现超高水准的表现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演奏结束，学生怔怔地看着老师，说不出话来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如果，我任由你表现最擅长的部分，可能你还在练习最早的那份乐谱，就不会有现在这样的程度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....”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钢琴大师缓缓地说。</a:t>
            </a:r>
            <a:r>
              <a:rPr b="1" lang="zh-CN" sz="1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2057400"/>
            <a:ext cx="6248520" cy="2228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人，往往习惯于表现自己所熟悉、所擅长的领域。但如果我们愿意回首，细细检视，将会恍然大悟：面对紧锣密鼓的工作挑战，难度渐升的工作压力，持续提升自我，不也就在不知不觉间养成了今日的诸般能力吗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因为，人，确实有无限的潜力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了这层体悟与认识，会让我们更欣然乐意地面对未来更多的难题，不断磨练自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599112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Sharpen the 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38480" y="914400"/>
            <a:ext cx="49514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我的故事讲完了。您是否也有一些故事、经历或感受，愿意与大家分享呢？</a:t>
            </a:r>
            <a:br>
              <a:rPr sz="3600"/>
            </a:b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       谁先来？</a:t>
            </a:r>
            <a:endParaRPr b="0" lang="en-US" sz="36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07:24:32Z</dcterms:created>
  <dc:creator>lily</dc:creator>
  <dc:description/>
  <cp:keywords>主题班会课件(分28大类): http://shop62905894.taobao.com</cp:keywords>
  <dc:language>en-US</dc:language>
  <cp:lastModifiedBy>User</cp:lastModifiedBy>
  <dcterms:modified xsi:type="dcterms:W3CDTF">2013-04-13T14:36:19Z</dcterms:modified>
  <cp:revision>34</cp:revision>
  <dc:subject>主题班会课件(分28大类): http://shop62905894.taobao.com</dc:subject>
  <dc:title>主题班会课件(分28大类): http://shop62905894.taobao.com</dc:title>
</cp:coreProperties>
</file>