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9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1331-392D-4EDF-8356-4BBC8FA849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066E-3CB1-45C0-84F7-75FB7F4E36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2D7-615B-498F-A9BF-FF66F0B4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CD0-52D6-4CD0-8E60-60F1075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82B-A4BD-4289-874E-B54D93E9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A1A-66F1-4D39-AA54-AA1B2397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F0C-AB9F-47A6-B547-CF4E6A7A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115-7617-4B29-96CE-5C169F0A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167-416B-4860-B286-545372B0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A7D-AFAF-48AE-96B0-B446302E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9AD-4080-49CA-8432-1CBDB4E3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AE3-0DC0-4675-8389-BD593DF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E4B-0EBD-4B2E-883B-BE9F2381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47F-15BC-4592-9BA3-E51D4FBA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A4C-3AB9-4116-BFF7-DC95BCC4F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3200400" y="37339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1d11b5"/>
                </a:solidFill>
                <a:latin typeface="Times New Roman"/>
                <a:ea typeface="华文新魏"/>
              </a:rPr>
              <a:t>做最好的自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179280" y="1143000"/>
            <a:ext cx="56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80eac"/>
                </a:solidFill>
                <a:latin typeface="Times New Roman"/>
                <a:ea typeface="黑体"/>
              </a:rPr>
              <a:t>积极的心态，成功的一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308880" y="2000160"/>
            <a:ext cx="45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MentalAttitu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MentalAttitu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2997360"/>
            <a:ext cx="228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：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2401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714240" y="35712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一个人的成长经历路线图，请你在年龄的后面填上你在做些什么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秋月的私语.mp3" descr=""/>
          <p:cNvPicPr/>
          <p:nvPr/>
        </p:nvPicPr>
        <p:blipFill>
          <a:blip r:embed="rId2"/>
          <a:stretch/>
        </p:blipFill>
        <p:spPr>
          <a:xfrm>
            <a:off x="7667640" y="607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1332000" y="1285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295280" y="1928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295280" y="25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258920" y="31431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4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85840" y="1142640"/>
            <a:ext cx="6858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事业遭到严重的挫败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事业再度失败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当选立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爱人去世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患神经衰弱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发言人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美国总统提名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众议员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再度落选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又告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参议员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副总统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参议员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当选美国总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他曾说：「</a:t>
            </a:r>
            <a:r>
              <a:rPr b="1" lang="zh-CN" sz="2400" spc="-1" strike="noStrike">
                <a:solidFill>
                  <a:srgbClr val="4f6228"/>
                </a:solidFill>
                <a:latin typeface="宋体"/>
              </a:rPr>
              <a:t>我之所以笑，是因为若不笑便会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」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7667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2349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0" y="428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亚伯拉罕  林肯的一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9" descr="-5Bwallcoo_com-5D_clipart_illustration_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-71280" y="44136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3f5e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73f5e"/>
                </a:solidFill>
                <a:latin typeface="黑体"/>
                <a:ea typeface="黑体"/>
              </a:rPr>
              <a:t>、学会微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71280" y="1833480"/>
            <a:ext cx="8643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莎士比亚曾说：</a:t>
            </a:r>
            <a:r>
              <a:rPr b="1" lang="zh-CN" sz="2400" spc="-1" strike="noStrike">
                <a:solidFill>
                  <a:srgbClr val="15151d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如果你一天中没有笑一笑，那你这一天就算白活了。</a:t>
            </a:r>
            <a:r>
              <a:rPr b="1" lang="zh-CN" sz="2400" spc="-1" strike="noStrike">
                <a:solidFill>
                  <a:srgbClr val="15151d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 心理学家认为：</a:t>
            </a:r>
            <a:r>
              <a:rPr b="1" lang="zh-CN" sz="2400" spc="-1" strike="noStrike">
                <a:solidFill>
                  <a:srgbClr val="15151d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会不会笑，是衡量一个人能否对周围环境适应的尺度。</a:t>
            </a:r>
            <a:r>
              <a:rPr b="1" lang="zh-CN" sz="2400" spc="-1" strike="noStrike">
                <a:solidFill>
                  <a:srgbClr val="15151d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希望同学们从现在起让自己微笑起来，微笑着走进校门、微笑着向你遇到的每一同学或老师点头示意，微笑着面对每一道试题。你会发现，从你微笑的那一刻开始，你的心情会变得开朗起来。这是因为人的身心是相互作用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当我们心情抑郁的时候，我们的面部表情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会阴沉，反过来亦然，当我们以微笑面对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难时，我们的心情也会随之积极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6" descr="peop042"/>
          <p:cNvPicPr/>
          <p:nvPr/>
        </p:nvPicPr>
        <p:blipFill>
          <a:blip r:embed="rId1"/>
          <a:stretch/>
        </p:blipFill>
        <p:spPr>
          <a:xfrm>
            <a:off x="0" y="-244440"/>
            <a:ext cx="9144000" cy="73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peop039"/>
          <p:cNvPicPr/>
          <p:nvPr/>
        </p:nvPicPr>
        <p:blipFill>
          <a:blip r:embed="rId1"/>
          <a:stretch/>
        </p:blipFill>
        <p:spPr>
          <a:xfrm>
            <a:off x="0" y="41400"/>
            <a:ext cx="9144000" cy="73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3" descr="1234606_5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1081080" y="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3f5e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73f5e"/>
                </a:solidFill>
                <a:latin typeface="黑体"/>
                <a:ea typeface="黑体"/>
              </a:rPr>
              <a:t>、学会接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8520" y="71424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3f5e"/>
                </a:solidFill>
                <a:latin typeface="幼圆"/>
                <a:ea typeface="黑体"/>
              </a:rPr>
              <a:t>接受自己目前的状态，悦纳自己的成绩、性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   </a:t>
            </a: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面对挫折时，不要采取责备和逃避的态度，因为这样会削弱斗志，无益于问题的解决。而遗忘的结果是越想忘却越忘不掉。并不是考试失败的成绩影响了人的心态，要知道正是人的心态影响了成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   </a:t>
            </a: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真正的自信来自自我的悦纳。悦纳自己就是接受自己目前的状态，并报以积极的态度直面它，做到不责备、不逃避、不遗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  </a:t>
            </a: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只有真正的悦纳自己，人才会超越自身的束缚，释放出最大的能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4" descr="Rabbit2_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0" y="71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3f5e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73f5e"/>
                </a:solidFill>
                <a:latin typeface="黑体"/>
                <a:ea typeface="黑体"/>
              </a:rPr>
              <a:t>、心怀必胜、积极的想法，并努力付于行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72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3f5e"/>
                </a:solidFill>
                <a:latin typeface="黑体"/>
                <a:ea typeface="黑体"/>
              </a:rPr>
              <a:t>把斧子卖给小布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美国一位名叫乔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赫伯特的推销员，成功地把一把斧子推销给了小布什总统。布鲁金斯学会得知这一消息，把刻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伟大的推销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只金靴子赠予了他。这是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以来，该学会的一名学员成功地把一台微型录音机卖给尼克松后，又一学员登上如此高的门槛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布鲁金斯学会创建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以培养世界上最杰出的推销员著称于世。它有一个传统，在每期学员毕业时，设计一道最能体现推销员能力的实习题，让学生去完成。克林顿当政期间，他们出了这么一个题目：请把一件内衣推销给现任总统。八年间，有无数个学员为此搅尽脑汁，可是最后都无功而返。克林顿卸任后，布鲁金斯学会把题目换成：把一把斧子推销给小布什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3" descr="Cartoon_MMCool_01_0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-71280" y="428760"/>
            <a:ext cx="81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鉴于前八年的失败与教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许多学员知难而退。个别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员甚至认为，这道毕业实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题会和克林顿当政期间一样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无结果，因为现在的总统什么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不缺少，再说即使缺少也用不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他们亲自购买；再退一步说，即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他们亲自购买，也不一定正赶上你去推销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-71280" y="407196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宋体"/>
              </a:rPr>
              <a:t>然而，乔治</a:t>
            </a: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17375e"/>
                </a:solidFill>
                <a:latin typeface="宋体"/>
              </a:rPr>
              <a:t>赫伯特却做到了，并且没有花多少功夫。一位记者在采访他的时候，他这样说的：我认为，把一把斧子推销给小布什总统是完全可能的，因为布什总统在德克萨斯州有一农场，上面长着许多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2" descr="KTDW2_0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2840" y="71280"/>
            <a:ext cx="91011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于是我给他写了封信，说：有一次，我有幸参观您的农场，发现上面长着许多矢菊树，有些已经死掉，木质已变得松软。我想，您一定需要一把小斧头。但是从您现在的体质来看，这种小斧头显然太轻，因此您仍然需要一把不甚锋厉的老斧头。现在我这儿正好有一把这样的斧头，它是我祖父留给我的，很适合砍伐枯树。假若您有兴趣的话，请按这封信所留的信箱给予回复</a:t>
            </a:r>
            <a:r>
              <a:rPr b="1" lang="en-US" sz="2800" spc="-1" strike="noStrike">
                <a:solidFill>
                  <a:srgbClr val="15151d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最后他就给我汇来了</a:t>
            </a:r>
            <a:r>
              <a:rPr b="1" lang="en-US" sz="2800" spc="-1" strike="noStrike">
                <a:solidFill>
                  <a:srgbClr val="15151d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美元。</a:t>
            </a:r>
            <a:br>
              <a:rPr sz="2800"/>
            </a:b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   乔治</a:t>
            </a:r>
            <a:r>
              <a:rPr b="1" lang="en-US" sz="2800" spc="-1" strike="noStrike">
                <a:solidFill>
                  <a:srgbClr val="15151d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赫伯特的故事在世界各大网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公布之后，一些读者纷纷搜索布鲁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斯学会，他们发现在该学会的网页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有这么一句格言：</a:t>
            </a:r>
            <a:r>
              <a:rPr b="1" lang="zh-CN" sz="2800" spc="-1" strike="noStrike">
                <a:solidFill>
                  <a:srgbClr val="1d11b5"/>
                </a:solidFill>
                <a:latin typeface="华文新魏"/>
                <a:ea typeface="华文新魏"/>
              </a:rPr>
              <a:t>不是因为有些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1b5"/>
                </a:solidFill>
                <a:latin typeface="华文新魏"/>
                <a:ea typeface="华文新魏"/>
              </a:rPr>
              <a:t>难以做到，我们才失去自信；而是因为我们失去了自信，有些事情才显得难以做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" descr="30906-20073151123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1590840" y="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、学会不再埋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8064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a1d0c"/>
                </a:solidFill>
                <a:latin typeface="幼圆"/>
                <a:ea typeface="幼圆"/>
              </a:rPr>
              <a:t>选择自己的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纳粹德国集中营的幸存者维克托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弗兰克尔说：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在任何特定的环境中，人们还有一种最后的自由，就是选择自己的态度。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有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个人要被关进监狱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年，监狱长满足他们每人一个要求，美国人爱抽雪茄，要了三箱雪茄，法国人最浪漫，要一个美丽的女子相伴，而犹太人说，他要一部与外界沟通的电话。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年后，第一个冲出来的是美国人，嘴里鼻孔里塞满了雪茄，大喊：给我火，给我火！原来他忘了要火。接着出来的是法国人，已经孩子成群。最后出来的是犹太人，他紧紧握住监狱长的手说：这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年来我每天与外界联系，我的生意不但没有停顿，反而增长了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200%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，为表感谢，我送你一辆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劳斯莱斯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！ </a:t>
            </a:r>
            <a:r>
              <a:rPr b="1" lang="zh-CN" sz="2000" spc="-1" strike="noStrike">
                <a:solidFill>
                  <a:srgbClr val="80008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3"/>
          <p:cNvPicPr/>
          <p:nvPr/>
        </p:nvPicPr>
        <p:blipFill>
          <a:blip r:embed="rId1"/>
          <a:srcRect l="0" t="0" r="0" b="7771"/>
          <a:stretch/>
        </p:blipFill>
        <p:spPr>
          <a:xfrm>
            <a:off x="1981080" y="609480"/>
            <a:ext cx="5943600" cy="525780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sp>
        <p:nvSpPr>
          <p:cNvPr id="54" name="Text Box 3"/>
          <p:cNvSpPr/>
          <p:nvPr/>
        </p:nvSpPr>
        <p:spPr>
          <a:xfrm>
            <a:off x="4101120" y="6019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少女还是老妇（两可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" descr="pLpNZn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1"/>
          <p:cNvSpPr/>
          <p:nvPr/>
        </p:nvSpPr>
        <p:spPr>
          <a:xfrm>
            <a:off x="142920" y="4842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态度决定命运，这个观点已为越来越多的人认可。但有些同学却认为说，他们现在的情况是他人造成的，是环境决定了自己现在的境况。而实际上，如何看待学习、开始怎么样的生活是由我们自己决定的，就像上文中的美国人、法国人和犹太人的选择。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0" y="8424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3f5e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f73f5e"/>
                </a:solidFill>
                <a:latin typeface="黑体"/>
                <a:ea typeface="黑体"/>
              </a:rPr>
              <a:t>、自律、坚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1000080"/>
            <a:ext cx="87152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15151d"/>
                </a:solidFill>
                <a:latin typeface="华文新魏"/>
                <a:ea typeface="华文新魏"/>
              </a:rPr>
              <a:t>自律，是另一种快乐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别人在看电视、看电影的时候，你能否去学习？别人在娱乐的时候，你能否去学习？别人在睡懒觉的时候，你能不能早点起来？这一切，就是你为成功必须要付出的努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14200" y="450072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3f5e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选择你的目标，放弃与此无关的一切东西，坚持到底，永不放弃，直至成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" descr="Cartoon_MMCool_01_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71280" y="378000"/>
            <a:ext cx="8001000" cy="59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成为山顶的一株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就做一丛小树生长在山谷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但必须是溪边最好的一丛小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成为一棵大树，就做灌木一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不能成为一丛灌木，就做一片绿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让公路也有几分欢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成为一只麝香鹿，就做一条鲈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但须做湖里最好的一条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" descr="Cartoon_MMCool_01_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1921680" y="3048120"/>
            <a:ext cx="31068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做一条公路，就做一条小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做太阳，就做一颗星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不能凭大小来判断你的输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不论你做什么都要做最好的一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11240" y="5921280"/>
            <a:ext cx="31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51d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道格拉斯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马罗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533520"/>
            <a:ext cx="70866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我们不能都做船长，我们得做船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世上的事情，多得做不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工作有大的也有小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我们该做的工作，就在你的手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" descr="1234606_5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0" y="14292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龙哈迪是美国历史上最伟大教练之一，在皮尔博士所写的一本小说</a:t>
            </a: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热忱</a:t>
            </a: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它能为你做什么？</a:t>
            </a: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一文中这样叙述：</a:t>
            </a:r>
            <a:br>
              <a:rPr sz="2800"/>
            </a:b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    龙哈迪在达绿湾的时候，他面对着一支屡遭败绩而失去战斗力的球队，他站在他们面前，静静地看着他们，过了一段很长的时间，他以沉默但很有力量的声音说：各位，我就要有一支伟大的球队了，我们要战无不胜，听到了没有！你们要学习防守，你们要学习奔跑，你们要学习拦截，你们要进攻，你们要胜过同你们对抗的球队，听到了没有？</a:t>
            </a:r>
            <a:br>
              <a:rPr sz="2800"/>
            </a:b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    如何做到呢？他继续说：你们要相信我，你们要热衷我的方法，一切的秘诀都在这里（他敲着自己的印堂），从此以后，我要你们只想这件事，你们的家庭，你们的宗教和达绿湾包装者队，要按这个次序让热忱充满你人全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Cartoon_MMCool_01_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矩形 1"/>
          <p:cNvSpPr/>
          <p:nvPr/>
        </p:nvSpPr>
        <p:spPr>
          <a:xfrm>
            <a:off x="71280" y="1031760"/>
            <a:ext cx="428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华文楷体"/>
                <a:ea typeface="华文楷体"/>
              </a:rPr>
              <a:t> </a:t>
            </a:r>
            <a:r>
              <a:rPr b="0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队员们全都从椅子上站立了起来，并记下了自己的感觉，觉得自己热血沸腾，雄心万丈，那一年他们打赢了七十场球，成为区冠军、全国冠军、世界冠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51814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b80eac"/>
                </a:solidFill>
                <a:latin typeface="Times New Roman"/>
                <a:ea typeface="方正姚体"/>
              </a:rPr>
              <a:t>让我们一起快乐地学习吧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" descr="kt%20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1937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Times New Roman"/>
              </a:rPr>
              <a:t>二十一世纪，最大的危机是没有危机感，最大的陷阱是满足。人要学会用望远镜看世界，而不是用近视眼看世界。顺境时要想着为自己找个退路，逆境时要懂为自己找出路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pLpNZn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矩形 3"/>
          <p:cNvSpPr/>
          <p:nvPr/>
        </p:nvSpPr>
        <p:spPr>
          <a:xfrm>
            <a:off x="0" y="1443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羚羊和狮子</a:t>
            </a:r>
            <a:br>
              <a:rPr sz="4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非洲一望无际的草原上，有一个由各种动物组成的自然界动物社会。每天早晨草原上的羚羊睁开眼睛，所想的第一件事就是，我必须跑的更快，否则我会被狮子吃掉。      与此同时，狮子从睡梦中醒来，首先在脑海里闪现的第一个念头就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必须跑的更快以追上更多的羚羊，否则我就会被饿死。于是，羚羊和狮子一跃而起，迎着朝阳奔跑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活就是这样，无论你是羚羊还是狮子，每当太阳升起的时候，就要毫不迟疑的向前奔跑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2" descr="pLpNZn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矩形 1"/>
          <p:cNvSpPr/>
          <p:nvPr/>
        </p:nvSpPr>
        <p:spPr>
          <a:xfrm>
            <a:off x="142920" y="42876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然界的动物面对严酷的生活危机尚能自强不息，那么作为万物之灵的“人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们，应该怎么办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0" descr="2401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838080" y="114300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现在，面对学习和生活，我  （  ）</a:t>
            </a:r>
            <a:r>
              <a:rPr b="1" lang="zh-CN" sz="3600" spc="-1" strike="noStrike" u="sng">
                <a:solidFill>
                  <a:srgbClr val="15151d"/>
                </a:solidFill>
                <a:uFillTx/>
                <a:latin typeface="幼圆"/>
                <a:ea typeface="幼圆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330440" y="2858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151d"/>
                </a:solidFill>
                <a:latin typeface="宋体"/>
              </a:rPr>
              <a:t>填写一个描写情绪或行为的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257840" y="185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自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900880" y="185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微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542120" y="1859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轻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400400" y="2643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紧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972160" y="257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忧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359240" y="242892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5151d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4711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xin_ce308d7036af4f9c8ca7c20727395670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a01.jpg"/>
          <p:cNvPicPr/>
          <p:nvPr/>
        </p:nvPicPr>
        <p:blipFill>
          <a:blip r:embed="rId1"/>
          <a:stretch/>
        </p:blipFill>
        <p:spPr>
          <a:xfrm>
            <a:off x="71280" y="71280"/>
            <a:ext cx="6143760" cy="651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tuteam,200701311408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200703311351337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2" descr="23192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2" descr="Rabbit2_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0" y="2591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１）学科专业之间：随着高新技术产业的迅猛发展和国家对基础设施投资的加大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计算机、通讯、电子、土建、机械、自动化、医药、师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学科的大学毕业生需求旺盛，而哲学、社会学、经济学、法学、农学、林学等学科的社会需求时有波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２）学历之间：社会对毕业生学历层次的要求越来越高。对研究生的需求量越来越大，对高层次的复合型、外向型和开拓型的人才需求日益迫切，出现了对人才结构、学历层次“重心”上移。在毕业生就业中，形成了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研究生需求旺盛，本科生供需基本持平，而专科生、高职生供给大于需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局面。有的用人单位甚至提出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研究生多多益善、本科生考虑考虑、专科生免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。这就形成了一方面高层次、高学历的毕业生争夺大战愈演愈烈，而另一方面，低层次、低学历的毕业生就业却较为困难，二者形成了鲜明的反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Rabbit2_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0" y="740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院校之间：重点大学、名牌院校、名牌专业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名牌”效应呈现出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社会需求增长，其就业率也较高；而一般院校、一般专业的需求相对较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30999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英语、计算机成为就业门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现在用人单位对人才的基本标准有了很大变化，往年英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级的标准变成了英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级，计算机市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级变成了计算机国家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级。不少用人单位在招聘现场要求学生用英语填写简历，或进行英语对话。用人单位为什么会抬高门槛呢？一知名企业人事处负责人认为，中国加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WT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后，企业的用人标准只会越来越严格。英语是国际贸易的通用语言，计算机则是电子商务的基本手段。所以，今后大学毕业生这两项能力一定要过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U1202P308T1D62623F4DT20051205103056.jpg"/>
          <p:cNvPicPr/>
          <p:nvPr/>
        </p:nvPicPr>
        <p:blipFill>
          <a:blip r:embed="rId1"/>
          <a:stretch/>
        </p:blipFill>
        <p:spPr>
          <a:xfrm>
            <a:off x="0" y="0"/>
            <a:ext cx="8178840" cy="585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cad66f5781c62d3d784747c6c49f36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5" descr="图片3.jpg"/>
          <p:cNvPicPr/>
          <p:nvPr/>
        </p:nvPicPr>
        <p:blipFill>
          <a:blip r:embed="rId1"/>
          <a:stretch/>
        </p:blipFill>
        <p:spPr>
          <a:xfrm>
            <a:off x="0" y="36360"/>
            <a:ext cx="9193320" cy="682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164960" y="214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3f5e"/>
                </a:solidFill>
                <a:latin typeface="Times New Roman"/>
              </a:rPr>
              <a:t>故事分享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035160" y="214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Times New Roman"/>
                <a:ea typeface="黑体"/>
              </a:rPr>
              <a:t>推销员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85840" y="10954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151d"/>
                </a:solidFill>
                <a:latin typeface="Arial"/>
                <a:ea typeface="Arial"/>
              </a:rPr>
              <a:t>        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在推销员中，广泛流传着一个这样的故事：两个欧洲人到非洲去推销皮鞋，由于炎热的非洲人向来都是打赤脚。第一个推销员看到非洲人都打赤脚，立刻失望起来：</a:t>
            </a:r>
            <a:r>
              <a:rPr b="1" lang="zh-CN" sz="2800" spc="-1" strike="noStrike">
                <a:solidFill>
                  <a:srgbClr val="f73f5e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73f5e"/>
                </a:solidFill>
                <a:latin typeface="宋体"/>
              </a:rPr>
              <a:t>这些人都打赤脚，怎么会要我的鞋呢。</a:t>
            </a:r>
            <a:r>
              <a:rPr b="1" lang="zh-CN" sz="2800" spc="-1" strike="noStrike">
                <a:solidFill>
                  <a:srgbClr val="f73f5e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于是放弃努力，失败沮丧而回；另一个推销员看到非洲人都打赤脚，惊喜万分：</a:t>
            </a:r>
            <a:r>
              <a:rPr b="1" lang="zh-CN" sz="2800" spc="-1" strike="noStrike">
                <a:solidFill>
                  <a:srgbClr val="f73f5e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73f5e"/>
                </a:solidFill>
                <a:latin typeface="宋体"/>
              </a:rPr>
              <a:t>这些人都没有皮鞋穿，这皮鞋市场大得很呢。</a:t>
            </a:r>
            <a:r>
              <a:rPr b="1" lang="zh-CN" sz="2800" spc="-1" strike="noStrike">
                <a:solidFill>
                  <a:srgbClr val="15151d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于是想方设法，引导非洲人购买皮鞋，最后发大财而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02081401-11"/>
          <p:cNvPicPr/>
          <p:nvPr/>
        </p:nvPicPr>
        <p:blipFill>
          <a:blip r:embed="rId2"/>
          <a:stretch/>
        </p:blipFill>
        <p:spPr>
          <a:xfrm>
            <a:off x="6010200" y="1785960"/>
            <a:ext cx="3062520" cy="4460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3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15418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曾经有一个记者在家写稿时，他的四岁儿子吵着要他陪。记者很烦，就将一本杂志的封底撕碎，对他儿子说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你先将这上面的世界地图拼完整，爸爸就陪你玩。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过了不到五分钟，儿子又来拖他的手说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爸爸我拼好了，陪我玩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记者很生气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小孩子要玩是可以理解的，但如果说谎话就不好了。怎么可能这么快就拼好世界地图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儿子非常委屈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可是我真的拼好了呀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记者一看，果然如此：不会吧？家里出现了神童？他非常好奇地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你是怎么做到的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　  儿子说：世界地图的背面是一个人的头像。我反过来拼，只要这个人好了，世界就完整了。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　　所以做事先做人。做人做好了，他的世界也就是好的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cc"/>
                </a:solidFill>
                <a:latin typeface="黑体"/>
                <a:ea typeface="黑体"/>
              </a:rPr>
              <a:t>习   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13840" y="1143000"/>
            <a:ext cx="8481960" cy="4643280"/>
          </a:xfrm>
          <a:prstGeom prst="rect">
            <a:avLst/>
          </a:prstGeom>
          <a:noFill/>
          <a:ln w="57240">
            <a:solidFill>
              <a:srgbClr val="eeece1"/>
            </a:solidFill>
            <a:prstDash val="lgDashDotDot"/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一根小小的柱子，一截细细的链子，拴得住一头千斤重的大象，这不荒谬吗？可这荒谬的场景在印度和秦国随处可见。那些驯象人，在大象还是小象的时候，就用一条铁链将它绑在水泥柱或钢柱上，无论小象怎么挣扎都无法挣脱。小象渐渐地习惯了不挣扎，直到长成了大象，可以轻而易举地挣脱链子时，也不挣扎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C:\Documents and Settings\Administrator\My Documents\My Pictures\msn\msn55.jpg"/>
          <p:cNvPicPr/>
          <p:nvPr/>
        </p:nvPicPr>
        <p:blipFill>
          <a:blip r:embed="rId1"/>
          <a:stretch/>
        </p:blipFill>
        <p:spPr>
          <a:xfrm>
            <a:off x="35712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4" name="矩形 4"/>
          <p:cNvSpPr/>
          <p:nvPr/>
        </p:nvSpPr>
        <p:spPr>
          <a:xfrm>
            <a:off x="71280" y="553392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宋体"/>
              </a:rPr>
              <a:t>小象是被链子绑住，而大象则是被习惯绑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0240" y="709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黑体"/>
                <a:ea typeface="黑体"/>
              </a:rPr>
              <a:t>给    予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1071720"/>
            <a:ext cx="8915400" cy="5000400"/>
          </a:xfrm>
          <a:prstGeom prst="rect">
            <a:avLst/>
          </a:prstGeom>
          <a:noFill/>
          <a:ln w="76320">
            <a:solidFill>
              <a:srgbClr val="eeece1"/>
            </a:solidFill>
            <a:prstDash val="lgDashDotDot"/>
            <a:miter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zh-CN" sz="1100" spc="-1" strike="noStrike">
                <a:solidFill>
                  <a:srgbClr val="800080"/>
                </a:solidFill>
                <a:latin typeface="宋体"/>
              </a:rPr>
              <a:t>　　   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有个老木匠准备退休，他告诉老板，说要离开建筑行业，回家与妻子儿女享受天伦之乐。 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　老板舍不得他的好工人走，问他是否能帮忙再建一座房子，老木匠说可以。但是大家后来都看得出来，他的心已不在工作上，他用的是软料，出的是粗活。房子建好的时候，老板把大门的钥匙递给他。 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　“这是你的房子，”他说</a:t>
            </a:r>
            <a:r>
              <a:rPr b="1" lang="en-US" sz="32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我送给你的礼物。” 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　　他震惊得目瞪口呆，羞愧得无地自容。如果他早知道是在给自己建房子，他怎么会这样呢？现在他得住在一幢粗制滥造的房子里！</a:t>
            </a:r>
            <a:r>
              <a:rPr b="0" lang="zh-CN" sz="2000" spc="-1" strike="noStrike">
                <a:solidFill>
                  <a:srgbClr val="800080"/>
                </a:solidFill>
                <a:latin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C:\Documents and Settings\Administrator\My Documents\My Pictures\msn\msn56.jpg"/>
          <p:cNvPicPr/>
          <p:nvPr/>
        </p:nvPicPr>
        <p:blipFill>
          <a:blip r:embed="rId1"/>
          <a:stretch/>
        </p:blipFill>
        <p:spPr>
          <a:xfrm>
            <a:off x="-14292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3"/>
          <p:cNvSpPr/>
          <p:nvPr/>
        </p:nvSpPr>
        <p:spPr>
          <a:xfrm>
            <a:off x="71280" y="71280"/>
            <a:ext cx="90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我们又何尝不是这样。我们漫不经心地“建造”自己的生活，不是积极行动，而是消极应付，凡事不肯精益求精，在关键时刻不能尽最大努力。等我们惊觉自己的处境，早已深困在自己建造的“房子”里了。把你当成那个木匠吧，想想你的房子，每天你敲进去一颗钉，加上去一块板，或者竖起一面墙，用你的智慧好好建造吧！你的生活是你一生唯一的创造，不能抹平重建，即使只有一天可活，那一天也要活得优美、高贵，人生的铭牌上写着：“生活是自己创造的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3" descr="1234606_5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矩形 1"/>
          <p:cNvSpPr/>
          <p:nvPr/>
        </p:nvSpPr>
        <p:spPr>
          <a:xfrm>
            <a:off x="0" y="-3636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53735"/>
                </a:solidFill>
                <a:latin typeface="Times New Roman"/>
              </a:rPr>
              <a:t>生活的质量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悟自己生命意义的时候，你要想：在我年幼的时候，我对这个世界曾抱了一种什么样的理想，而我此刻在做什么？以前的时光已经化为虚无，现在的你如果与你年轻时代的期望大相径庭的话，那么有一点是可以肯定，就是你已经浪费了人生的一部分时光。毕竟年少的理想是极清纯极无私极透彻的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   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人，无论他的寿命是长是短，对于这个变化莫测的世界而言，并无实在意义，关键是活出一种自己的滋味来。对于困境和逆境，有的人避过了，有的人闯过了。但是，无数的实践证实：只有后者才可以达到一种新的境界，有一种不同于常人的精神。这就是生活的质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0"/>
            <a:ext cx="9144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5"/>
                </a:solidFill>
                <a:latin typeface="Times New Roman"/>
              </a:rPr>
              <a:t>                     </a:t>
            </a:r>
            <a:r>
              <a:rPr b="1" lang="zh-CN" sz="4400" spc="-1" strike="noStrike">
                <a:solidFill>
                  <a:srgbClr val="953735"/>
                </a:solidFill>
                <a:latin typeface="Times New Roman"/>
              </a:rPr>
              <a:t>心灵的等高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可以不是伟人，但心灵要与他等高；可以不是英雄，但心灵要与他等高；可以不是智者，但心灵要与他等高。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隶书"/>
                <a:ea typeface="隶书"/>
              </a:rPr>
              <a:t>  </a:t>
            </a: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 所以卑微者不是指一个人成就、地位的地下，而是由于心灵卑微导致的人格低下。所位高贵者也不是指一个人功高盖天、名可盖地，而是心灵永远和高贵着等高而导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人格崇高。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隶书"/>
                <a:ea typeface="隶书"/>
              </a:rPr>
              <a:t>   </a:t>
            </a: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把自己的心灵放在一个确定的高度，按这个高度去追求、去奋斗，自然就会为眼前的一切所扰乱了，不会因为自己低人一等，可以扬着头走路，那该是多么的畅快！</a:t>
            </a:r>
            <a:br>
              <a:rPr sz="2800"/>
            </a:b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心灵与伟人等高，心中就会装进整个世界：心灵与英雄等高，心中就会生长勇敢无畏；心灵与智者等高，心中就会开满智慧的花朵。这样，你的人格的脊梁才会挺直，才可以真正昂着头活下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028"/>
          <p:cNvGrpSpPr/>
          <p:nvPr/>
        </p:nvGrpSpPr>
        <p:grpSpPr>
          <a:xfrm>
            <a:off x="1295280" y="457200"/>
            <a:ext cx="6629400" cy="762120"/>
            <a:chOff x="1295280" y="457200"/>
            <a:chExt cx="6629400" cy="762120"/>
          </a:xfrm>
        </p:grpSpPr>
        <p:sp>
          <p:nvSpPr>
            <p:cNvPr id="173" name="Rectangle 1027"/>
            <p:cNvSpPr/>
            <p:nvPr/>
          </p:nvSpPr>
          <p:spPr>
            <a:xfrm>
              <a:off x="1295280" y="457200"/>
              <a:ext cx="66294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026"/>
            <p:cNvSpPr/>
            <p:nvPr/>
          </p:nvSpPr>
          <p:spPr>
            <a:xfrm>
              <a:off x="1295280" y="457200"/>
              <a:ext cx="66294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Times New Roman"/>
                  <a:ea typeface="黑体"/>
                </a:rPr>
                <a:t>2003</a:t>
              </a:r>
              <a:r>
                <a:rPr b="1" lang="zh-CN" sz="4400" spc="-1" strike="noStrike">
                  <a:solidFill>
                    <a:srgbClr val="006600"/>
                  </a:solidFill>
                  <a:latin typeface="Times New Roman"/>
                  <a:ea typeface="黑体"/>
                </a:rPr>
                <a:t>最震撼的网络照片</a:t>
              </a:r>
              <a:r>
                <a:rPr b="1" lang="zh-CN" sz="4400" spc="-1" strike="noStrike">
                  <a:solidFill>
                    <a:srgbClr val="000000"/>
                  </a:solidFill>
                  <a:latin typeface="_x000b__x000c_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1031"/>
          <p:cNvGrpSpPr/>
          <p:nvPr/>
        </p:nvGrpSpPr>
        <p:grpSpPr>
          <a:xfrm>
            <a:off x="228600" y="3078000"/>
            <a:ext cx="8686800" cy="701640"/>
            <a:chOff x="228600" y="3078000"/>
            <a:chExt cx="8686800" cy="701640"/>
          </a:xfrm>
        </p:grpSpPr>
        <p:sp>
          <p:nvSpPr>
            <p:cNvPr id="176" name="Rectangle 1030"/>
            <p:cNvSpPr/>
            <p:nvPr/>
          </p:nvSpPr>
          <p:spPr>
            <a:xfrm>
              <a:off x="228600" y="3078000"/>
              <a:ext cx="8686800" cy="70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029"/>
            <p:cNvSpPr/>
            <p:nvPr/>
          </p:nvSpPr>
          <p:spPr>
            <a:xfrm>
              <a:off x="228600" y="3078000"/>
              <a:ext cx="8686800" cy="70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_x000b__x000c_"/>
                </a:rPr>
                <a:t>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_x000b__x000c_"/>
                </a:rPr>
                <a:t>我们多少人曾经假装生活在别处，我们闭上眼睛，以为不会看见。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_x000b__x000c_"/>
                </a:rPr>
                <a:t>        但在这些图片面前，我们能清楚地听见自己撕裂的心灵与灵魂的对话。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_x000b__x000c_"/>
                </a:rPr>
                <a:t>        曾经麻木的心在疼痛中慢慢复苏。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_x000b__x000c_"/>
                </a:rPr>
                <a:t>        每一张都能给人深深的震撼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5"/>
          <p:cNvGrpSpPr/>
          <p:nvPr/>
        </p:nvGrpSpPr>
        <p:grpSpPr>
          <a:xfrm>
            <a:off x="228600" y="1011240"/>
            <a:ext cx="8686800" cy="4094280"/>
            <a:chOff x="228600" y="1011240"/>
            <a:chExt cx="8686800" cy="4094280"/>
          </a:xfrm>
        </p:grpSpPr>
        <p:sp>
          <p:nvSpPr>
            <p:cNvPr id="179" name="Rectangle 4"/>
            <p:cNvSpPr/>
            <p:nvPr/>
          </p:nvSpPr>
          <p:spPr>
            <a:xfrm>
              <a:off x="228600" y="1011240"/>
              <a:ext cx="8686800" cy="409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"/>
            <p:cNvSpPr/>
            <p:nvPr/>
          </p:nvSpPr>
          <p:spPr>
            <a:xfrm>
              <a:off x="228600" y="1011240"/>
              <a:ext cx="8686800" cy="409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1" name="Picture 3" descr="http://cishengtang.com/files0/1111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549160" y="6095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卖艺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1901880" y="19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0" descr="http://www.cishengtang.com/files0/A1071140433_27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666880" y="56386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为了活下去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他们只好拼命干呀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52568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http://www.cishengtang.com/files0/A1071052089_24159.jpg"/>
          <p:cNvPicPr/>
          <p:nvPr/>
        </p:nvPicPr>
        <p:blipFill>
          <a:blip r:embed="rId1"/>
          <a:stretch/>
        </p:blipFill>
        <p:spPr>
          <a:xfrm>
            <a:off x="228600" y="0"/>
            <a:ext cx="7620120" cy="4495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457200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大学校园里靠吃垃圾活着的小孩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他母亲最多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岁，在大学篮球场上捡矿泉水瓶来养活他。这小家伙的父亲我倒没见过。注意他身上的线。每天他都被栓在电话亭旁。他母亲在篮球上劳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5" descr="1234606_5828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zh-CN" sz="3200" spc="-1" strike="noStrike">
                <a:solidFill>
                  <a:srgbClr val="b80eac"/>
                </a:solidFill>
                <a:latin typeface="Calibri"/>
              </a:rPr>
              <a:t>两只青蛙一不小心掉进牛了奶桶，牛奶不同于清水，黏稠而又混浊。一只青蛙悲哀地叹了口气说：“这下完了，我们肯定出不去了，只有在这里等死了。”于是它放弃了努力，没挣扎几下，就沉入桶底，再也没有起来。另一只青蛙一声不吭，可它心中暗想：我多坚持一会儿，就会多一点获救的希望，说不准一会儿就有人把我捞出去，我就又可以晒太阳了。今天的天气可真好啊，我可不愿意错过这么好的阳光！于是它沉着而均匀地滑动四肢，尽量节省体力，保持身体的平衡。没想到由于它的不断搅动，牛奶逐渐变成坚硬而结实的奶油。这只青蛙两腿用劲一蹬，轻轻一跳就跳出了奶桶。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b80ea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9874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" descr="http://www.cishengtang.com/files0/A1071048893_30004.jpg"/>
          <p:cNvPicPr/>
          <p:nvPr/>
        </p:nvPicPr>
        <p:blipFill>
          <a:blip r:embed="rId1"/>
          <a:stretch/>
        </p:blipFill>
        <p:spPr>
          <a:xfrm>
            <a:off x="304920" y="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4648320"/>
            <a:ext cx="8839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这一幕，城市中生活的你有没有目睹过？你的心灵曾为此震撼过嘛？有这样的骗子吗？这样沧桑的一只手伸出来，你如何忍心让她空着收回？在我们无法判断对方是否是骗子的时候，</a:t>
            </a:r>
            <a:r>
              <a:rPr b="1" lang="zh-CN" sz="2400" spc="-1" strike="noStrike">
                <a:solidFill>
                  <a:srgbClr val="ff3300"/>
                </a:solidFill>
                <a:latin typeface="_x000b__x000c_"/>
              </a:rPr>
              <a:t>能否有宁可错给，而不愿错过柔情和良善呢</a:t>
            </a:r>
            <a:r>
              <a:rPr b="1" lang="zh-CN" sz="2000" spc="-1" strike="noStrike">
                <a:solidFill>
                  <a:srgbClr val="ff3300"/>
                </a:solidFill>
                <a:latin typeface="_x000b__x000c_"/>
              </a:rPr>
              <a:t>？</a:t>
            </a: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两块钱对我们真的那么重要吗？我们的慈悲心连这点钱都不值吗？如果能有改变，您今天的震撼也算没有白费。不怕受骗，也是一种厚德载物，永远不要为我们的冷漠、麻木和小气寻找借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0732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http://www.cishengtang.com/files0/A1071048468_227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44956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乞儿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这也是骗子吗？这是一张让我满怀酸楚、泪流满面的照片。请您也仔细看！所有孩子在出生的时候，全家都欢天喜地，都是妈妈的心肝宝贝。他们没有生存能力，沦为乞儿不是他们的错，是世态炎凉的错，是我们的错。天下的父母啊，可否把对自己孩子过剩的爱，分一些给这些需要母爱的幼小的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07324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4" descr="http://www.cishengtang.com/files0/A1071048069_16160.jpg"/>
          <p:cNvPicPr/>
          <p:nvPr/>
        </p:nvPicPr>
        <p:blipFill>
          <a:blip r:embed="rId1"/>
          <a:stretch/>
        </p:blipFill>
        <p:spPr>
          <a:xfrm>
            <a:off x="0" y="0"/>
            <a:ext cx="4724280" cy="51055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48320" y="228600"/>
            <a:ext cx="4724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电子科大捡破烂的老教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_x000b__x000c_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这个人曾经是电子科大的一个教授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说明：这个老人每天都在学校里穿行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拾垃圾桶里的破烂，开始不知道他是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谁，十分厌恶他，可是当我听了我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哥的讲述后，彻底的转变了。 他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科大的教授，文革受到迫害，十分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惨。平反后却对国家没有一句怨言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现在把每个月工资全捐给了希望工程，自己捡破烂为生，不仅这样，如果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月有多余的钱也全捐了出去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多么高尚的老人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他如果享受起来，比很多的人都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她的儿子女儿全在国外，每月都给他寄很多钱， 他却全捐了出去，这样的老人难道不值得大家尊敬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330200" y="12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http://www.cishengtang.com/files0/Img2222964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28600" y="31240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_x000b__x000c_"/>
              </a:rPr>
              <a:t>有一种辛酸叫自食其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228600" y="31240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_x000b__x000c_"/>
              </a:rPr>
              <a:t>有一种辛酸叫自食其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28600" y="31240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_x000b__x000c_"/>
              </a:rPr>
              <a:t>有一种辛酸叫自食其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6686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种辛酸叫做自食其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84472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http://www.cishengtang.com/files0/A1071047866_126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路边见要饭的大叔，与孙席地而卧。恻隐之心，询问何故？大叔见俺拿相机，慌忙起身，掏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中华人民共和国户籍部制的居民户口簿说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俺有证件，不要，不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。俺说：别怕，俺不报告。与其交谈得知，大叔名叫郑占士，安徽临泉县迎仙乡人氏。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43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年岁。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67-70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年当过兵，后复员返乡，娶妻生二子一女。不想，大儿病死，儿媳妇改嫁，老婆又疯了，一子一女外出，只留爷孙相依为命，家里几亩田养不活，一亩麦子收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元，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元要上缴，种子化肥等要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元，几乎辛苦一年没有什么收入。无奈爷孙南下讨饭，天当被，地当床，走那儿算那儿。大叔与小孩那无助的目光，深深地刺痛了俺久已麻木的人性。不知怎么俺想起了白居易的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卖碳翁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那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可怜身上衣正单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心忧碳贱愿天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的人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，那个时候外出也有证件吗？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看着大叔手里紧紧捏的居民户口簿，俺的眼眶湿润了，给小孩一点钱赶快离开了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    俺们的农民真的苦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72556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http://www.cishengtang.com/files0/200411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28600" y="5029200"/>
            <a:ext cx="8915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此照片是用手机拍摄于象征现代文明的轻轨立交桥下，位于北京西直门北。已经进入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月份，一个卖菜的外地贫民带着他的孩子住在一段废弃的水泥管中，水泥管的两端用破棉被盖着。从这一天，我再没有跟卖菜的小商贩讨价还价的勇气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3302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http://www.cishengtang.com/files0/A1071047669_92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2414880" y="6172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垃圾堆里的哭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9700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http://www.cishengtang.com/files0/A1071045875_10969.jpg"/>
          <p:cNvPicPr/>
          <p:nvPr/>
        </p:nvPicPr>
        <p:blipFill>
          <a:blip r:embed="rId1"/>
          <a:stretch/>
        </p:blipFill>
        <p:spPr>
          <a:xfrm>
            <a:off x="0" y="0"/>
            <a:ext cx="7783560" cy="52228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4637880" y="56595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救学生，这位教师的人生在一次洪水中停止在这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70180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http://www.cishengtang.com/files0/yinyin.jp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648320" y="0"/>
            <a:ext cx="4495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这个漂亮的孩子叫赢赢，北京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工的孩子。赢赢生下只吃过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雪糕，是奶奶在北京捡来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现在的愿望：奶奶捡破烂能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来雪糕就好了。昨天下午，赢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（前）和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岁的妹妹在破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小屋里玩耍。这是他们第一次照相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    赢赢与祖父母以捡来的东西裹腹，捡来什么吃什么。虽然失学了，赢赢仍每天坚持做作业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0" descr="000102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1070280" y="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3f5e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071800" y="357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11560" y="324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3f5e"/>
                </a:solidFill>
                <a:latin typeface="Times New Roman"/>
              </a:rPr>
              <a:t>情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4286160" y="2858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497560" y="-7128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3f5e"/>
                </a:solidFill>
                <a:latin typeface="Times New Roman"/>
              </a:rPr>
              <a:t>行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 flipH="1">
            <a:off x="4357800" y="642960"/>
            <a:ext cx="15192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356280" y="136044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3f5e"/>
                </a:solidFill>
                <a:latin typeface="Times New Roman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 flipV="1">
            <a:off x="3500280" y="714240"/>
            <a:ext cx="168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057640" y="1000080"/>
            <a:ext cx="408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215968"/>
                </a:solidFill>
                <a:latin typeface="宋体"/>
              </a:rPr>
              <a:t>人与人之间只有很小的差异，但这种很小的差异却往往造成巨大的差异！很小的差异就是所具备的心态是积极的还是消极的，巨大的差异就是成功与失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215968"/>
                </a:solidFill>
                <a:latin typeface="宋体"/>
              </a:rPr>
              <a:t>拿破伦</a:t>
            </a:r>
            <a:r>
              <a:rPr b="1" lang="en-US" sz="2800" spc="-1" strike="noStrike">
                <a:solidFill>
                  <a:srgbClr val="215968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215968"/>
                </a:solidFill>
                <a:latin typeface="宋体"/>
              </a:rPr>
              <a:t>希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5"/>
          <p:cNvGrpSpPr/>
          <p:nvPr/>
        </p:nvGrpSpPr>
        <p:grpSpPr>
          <a:xfrm>
            <a:off x="228600" y="1501920"/>
            <a:ext cx="8686800" cy="3855960"/>
            <a:chOff x="228600" y="1501920"/>
            <a:chExt cx="8686800" cy="3855960"/>
          </a:xfrm>
        </p:grpSpPr>
        <p:sp>
          <p:nvSpPr>
            <p:cNvPr id="232" name="Rectangle 4"/>
            <p:cNvSpPr/>
            <p:nvPr/>
          </p:nvSpPr>
          <p:spPr>
            <a:xfrm>
              <a:off x="228600" y="1501920"/>
              <a:ext cx="8686800" cy="38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"/>
            <p:cNvSpPr/>
            <p:nvPr/>
          </p:nvSpPr>
          <p:spPr>
            <a:xfrm>
              <a:off x="228600" y="1501920"/>
              <a:ext cx="8686800" cy="38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_x000b__x000c_"/>
                </a:rPr>
                <a:t>  </a:t>
              </a:r>
              <a:r>
                <a:rPr b="0" lang="en-US" sz="23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Picture 3" descr="http://cishengtang.com/files0/A1071045810_97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8"/>
          <p:cNvGrpSpPr/>
          <p:nvPr/>
        </p:nvGrpSpPr>
        <p:grpSpPr>
          <a:xfrm>
            <a:off x="228600" y="4876920"/>
            <a:ext cx="8610480" cy="2513880"/>
            <a:chOff x="228600" y="4876920"/>
            <a:chExt cx="8610480" cy="2513880"/>
          </a:xfrm>
        </p:grpSpPr>
        <p:sp>
          <p:nvSpPr>
            <p:cNvPr id="236" name="Rectangle 7"/>
            <p:cNvSpPr/>
            <p:nvPr/>
          </p:nvSpPr>
          <p:spPr>
            <a:xfrm>
              <a:off x="228600" y="4876920"/>
              <a:ext cx="8610480" cy="251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228600" y="4876920"/>
              <a:ext cx="8610480" cy="251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安徽省临泉县城关镇刘老家村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1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岁的刘小环为了能上学，每天去给一家窑厂背砖坯，她每次背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6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块，重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公斤，走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4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米，只得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分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厘工钱。我们的孩子吃一次麦当劳花如果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33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元，刘小环要赚这些钱，就要背着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斤重的砖坯走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00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趟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负重走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4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公里。</a:t>
              </a:r>
              <a:br>
                <a:rPr sz="2400"/>
              </a:b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这是个只有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1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岁的孩子啊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......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5"/>
          <p:cNvGrpSpPr/>
          <p:nvPr/>
        </p:nvGrpSpPr>
        <p:grpSpPr>
          <a:xfrm>
            <a:off x="228600" y="1257480"/>
            <a:ext cx="8686800" cy="4343400"/>
            <a:chOff x="228600" y="1257480"/>
            <a:chExt cx="8686800" cy="4343400"/>
          </a:xfrm>
        </p:grpSpPr>
        <p:sp>
          <p:nvSpPr>
            <p:cNvPr id="239" name="Rectangle 4"/>
            <p:cNvSpPr/>
            <p:nvPr/>
          </p:nvSpPr>
          <p:spPr>
            <a:xfrm>
              <a:off x="228600" y="1257480"/>
              <a:ext cx="86868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"/>
            <p:cNvSpPr/>
            <p:nvPr/>
          </p:nvSpPr>
          <p:spPr>
            <a:xfrm>
              <a:off x="228600" y="1257480"/>
              <a:ext cx="86868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_x000b__x000c_"/>
                </a:rPr>
                <a:t>  </a:t>
              </a:r>
              <a:r>
                <a:rPr b="0" lang="en-US" sz="26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Picture 3" descr="http://cishengtang.com/files0/A1071045665_69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5"/>
          <p:cNvGrpSpPr/>
          <p:nvPr/>
        </p:nvGrpSpPr>
        <p:grpSpPr>
          <a:xfrm>
            <a:off x="228600" y="-874800"/>
            <a:ext cx="8686800" cy="8458200"/>
            <a:chOff x="228600" y="-874800"/>
            <a:chExt cx="8686800" cy="8458200"/>
          </a:xfrm>
        </p:grpSpPr>
        <p:sp>
          <p:nvSpPr>
            <p:cNvPr id="243" name="Rectangle 4"/>
            <p:cNvSpPr/>
            <p:nvPr/>
          </p:nvSpPr>
          <p:spPr>
            <a:xfrm>
              <a:off x="228600" y="-874800"/>
              <a:ext cx="8686800" cy="84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"/>
            <p:cNvSpPr/>
            <p:nvPr/>
          </p:nvSpPr>
          <p:spPr>
            <a:xfrm>
              <a:off x="228600" y="-874800"/>
              <a:ext cx="8686800" cy="84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_x000b__x000c_"/>
                </a:rPr>
                <a:t>  </a:t>
              </a:r>
              <a:r>
                <a:rPr b="0" lang="en-US" sz="53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Picture 3" descr="http://cishengtang.com/files0/A1071045619_6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5"/>
          <p:cNvGrpSpPr/>
          <p:nvPr/>
        </p:nvGrpSpPr>
        <p:grpSpPr>
          <a:xfrm>
            <a:off x="228600" y="-457200"/>
            <a:ext cx="8686800" cy="7651800"/>
            <a:chOff x="228600" y="-457200"/>
            <a:chExt cx="8686800" cy="7651800"/>
          </a:xfrm>
        </p:grpSpPr>
        <p:sp>
          <p:nvSpPr>
            <p:cNvPr id="247" name="Rectangle 4"/>
            <p:cNvSpPr/>
            <p:nvPr/>
          </p:nvSpPr>
          <p:spPr>
            <a:xfrm>
              <a:off x="228600" y="-457200"/>
              <a:ext cx="8686800" cy="765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"/>
            <p:cNvSpPr/>
            <p:nvPr/>
          </p:nvSpPr>
          <p:spPr>
            <a:xfrm>
              <a:off x="228600" y="-457200"/>
              <a:ext cx="8686800" cy="765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_x000b__x000c_"/>
                </a:rPr>
                <a:t>  </a:t>
              </a:r>
              <a:r>
                <a:rPr b="0" lang="en-US" sz="4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" name="Picture 3" descr="http://cishengtang.com/files0/A1071045564_5024.jpg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1625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2633400" y="25239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这是他们的教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505080" y="71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</a:rPr>
              <a:t>故事分享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933280" y="71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3f5e"/>
                </a:solidFill>
                <a:latin typeface="Times New Roman"/>
                <a:ea typeface="黑体"/>
              </a:rPr>
              <a:t>塞尔玛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42920" y="681120"/>
            <a:ext cx="8715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151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有一位女士叫塞尔玛，她随丈夫去从军。没想到，部队驻扎的地方在沙漠地带，住的是铁皮房子，她与周围的印第安人</a:t>
            </a:r>
            <a:r>
              <a:rPr b="1" lang="en-US" sz="28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墨西哥人语言不通。当地气温很高，在仙人掌的阴影下都达到</a:t>
            </a:r>
            <a:r>
              <a:rPr b="1" lang="en-US" sz="2800" spc="-1" strike="noStrike">
                <a:solidFill>
                  <a:srgbClr val="15151d"/>
                </a:solidFill>
                <a:latin typeface="宋体"/>
              </a:rPr>
              <a:t>52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度。更糟糕的是，后来她丈夫奉命远征，只留下她孤身一人。因此，她整天愁眉不展，度日如年。没办法，她只好给父母写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好不容易盼来了父母的回信，急忙打开一看，塞尔玛大失所望，父母既没有安慰她也没有叫她赶快回去，上面只写了三行字：</a:t>
            </a:r>
            <a:r>
              <a:rPr b="1" lang="zh-CN" sz="2800" spc="-1" strike="noStrike">
                <a:solidFill>
                  <a:srgbClr val="f73f5e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两个人从监狱的铁窗往外看，一个看到的是地上的泥土，另一个人看到的却是天上的星星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塞尔玛反复看，反复琢磨，终于明白了父母的苦心，原来父母是希望她不要总是消极地看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1234606_5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0" y="35568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11ee"/>
                </a:solidFill>
                <a:latin typeface="Times New Roman"/>
                <a:ea typeface="仿宋_GB2312"/>
              </a:rPr>
              <a:t>    </a:t>
            </a:r>
            <a:r>
              <a:rPr b="1" lang="en-US" sz="2400" spc="-1" strike="noStrike">
                <a:solidFill>
                  <a:srgbClr val="ee11ee"/>
                </a:solidFill>
                <a:latin typeface="Tahoma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于是，她开始主动的和那些印第安人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墨西哥人交朋友，结果是她十分惊喜，因为她发现他们十分好客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热情；她又开始研究沙漠里的仙人掌；她欣赏沙漠的落日，感受沙漠里的海市蜃楼。经过这样的改变，塞尔玛发现周围的一切都变了，变得使她每天都仿佛沐浴在春光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15151d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这是为什么呢？沙漠还是原来的沙漠，铁皮房还是那个铁皮房，印第安人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墨西哥人也都没有改变，因为她的内心发生了改变。过去她习惯选择消极的一面，现在她习惯选择积极的一面去看。后来，她根据自己的亲身经历写了一本书叫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快乐的城堡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引起了很大的轰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3" descr="kt%20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71280" y="500040"/>
            <a:ext cx="850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3f5e"/>
                </a:solidFill>
                <a:latin typeface="宋体"/>
              </a:rPr>
              <a:t>积极的心态</a:t>
            </a:r>
            <a:r>
              <a:rPr b="1" lang="en-US" sz="3200" spc="-1" strike="noStrike">
                <a:solidFill>
                  <a:srgbClr val="f73f5e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73f5e"/>
                </a:solidFill>
                <a:latin typeface="宋体"/>
              </a:rPr>
              <a:t>积极的选择对每个人来说都非常重要，因为任何事情都有两面－－积极的一面和消极的一面，每人都有优点和缺点，这也是两面。既然有两面，就需要我们去选择。我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从早到晚都在做着选择的事情，比如看见老师和同学，是微笑招呼还是形同陌路？清晨是立即起床还是睡懒觉？作业是及时完成还是一拖再拖？一次考试失败是懊悔许久还是迅速摆脱阴影东山再起？无数成功的事例告诉我们，积极的选择可以帮助人树立自信，克服自卑，还可以帮助人克服忧虑和烦恼，调整心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6:48:17Z</dcterms:created>
  <dc:creator>xiangke100</dc:creator>
  <dc:description/>
  <cp:keywords>主题班会课件(分28大类): http://shop62905894.taobao.com</cp:keywords>
  <dc:language>en-US</dc:language>
  <cp:lastModifiedBy>User</cp:lastModifiedBy>
  <dcterms:modified xsi:type="dcterms:W3CDTF">2013-04-13T14:47:28Z</dcterms:modified>
  <cp:revision>288</cp:revision>
  <dc:subject>主题班会课件(分28大类): http://shop62905894.taobao.com</dc:subject>
  <dc:title>主题班会课件(分28大类): http://shop62905894.taobao.com</dc:title>
</cp:coreProperties>
</file>