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752-852C-4225-9ECA-E1AE542D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B0C-A574-4FCB-ACE6-7BF1EF4C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FB6-C0D0-432A-9706-B0EDDA5A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03F-9D4A-40C0-BCCE-1A84FBAA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599-573C-4D23-A4B8-1D5D6409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2A8-8FC2-446B-A4C4-431C14F6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9DF-8808-4BC6-A54E-59612EFA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33D-4591-4F91-9547-493BDEB0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7B4-C7BE-4C96-B3DD-2E6C177E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F02-F34C-46FA-A093-55F34282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C0C-772E-4683-9941-71C0B9FC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823-50A7-473D-BE62-E0308309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6810480" y="304920"/>
            <a:ext cx="2376000" cy="6095520"/>
            <a:chOff x="6810480" y="304920"/>
            <a:chExt cx="2376000" cy="6095520"/>
          </a:xfrm>
        </p:grpSpPr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6810480" y="1537200"/>
              <a:ext cx="2361240" cy="48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6810480" y="304920"/>
              <a:ext cx="2376000" cy="124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6708600" y="71280"/>
            <a:ext cx="2435400" cy="228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495288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8"/>
          <a:stretch/>
        </p:blipFill>
        <p:spPr>
          <a:xfrm>
            <a:off x="1219320" y="6114960"/>
            <a:ext cx="6858000" cy="7430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91DD-DDDF-43ED-9F2D-4274E425D8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11280" y="1557360"/>
            <a:ext cx="7632720" cy="28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保持良好心态，迎接各种挑战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46530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级主题班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71640" y="692280"/>
            <a:ext cx="2743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小故事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23904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老张和老李一人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块钱买了一个蛋糕，老张说我来切，老李怕他切得不公平，就找了三个朋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个是搞政治思想工作的，他对老张说，你要提高你的道德素质，不可以权谋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是搞技术的，老李，你好好把这个面积测定一下，再考虑这个蛋糕做得均匀度，好好算好，通过优化计算，选择切入的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437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三是制度经济学的，不用费事，老张你切，切完以后，老李先挑，保证它会尽量切得公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苍蝇和蜜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你把六只蜜蜂和同样多只苍蝇装进一个玻璃瓶中，然后将瓶子平放，让瓶底朝着窗户，会发生什么情况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你会看到，蜜蜂不停地想在瓶底上找到出口，一直到它们力竭倒毙或饿死；而苍蝇则会在不到两分钟之内，穿过另一端的瓶颈逃逸一空。事实上，正是由于蜜蜂对光亮的喜爱，由于它们的智力，蜜蜂才灭亡了。蜜蜂以为，囚室的出口必然在光线最明亮的地方；它们不停地重复着这种合乎逻辑的行动。对蜜蜂来说，玻璃是一种超自然的神秘之物，它们在自然界中从没遇到过这种突然不可穿透的大气层；而它们的智力越高，这种奇怪的障碍就越显得无法接受和不可理解。那些愚蠢的苍蝇则对事物的逻辑毫不留意，全然不顾亮光的吸引，四下乱飞，结果误打误撞地碰上了好运气；这些头脑简单者总是在智者消亡的地方顺利得救。因此，苍蝇得以最终发现那个正中下怀的出口，并因此获得自由和新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四、坦然面对困难与失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4247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坦然的面对困难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没有什么了不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宁愿被困难难死，不要被困难吓死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242892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生是算总帐的过程，不要计较眼前的得失。当你成功的时候，老天会把你的一切都还给你。放眼开去，这一条路那么漫长艰辛，能时时付出，不计得失，不要被一时的困难而萎缩不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谢坤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6110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年他十六岁，由于电击昏倒。当他醒来的时候发现自己的两条胳膊，一条腿全部没有了，后来由于一次意外，又让他失去了一只眼睛，在她妈妈的鼓励下，他开始用嘴咬着画笔画画。二十八年后的今天。他成为了台湾口足画家协会的主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别人问他：谢先生，你认为什么样的人生才是最有价值的人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说：能够为别人服务的人生才是最有价值的人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一直都在期待生命中有贵人的出现，其实我们自己就是别人生命当中的贵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五、责任的心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1071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首先应该清楚自己做些什么。只有做好自己分内的工作，才有可能再做一些别的什么。工作无小事，认真对待每一件事都算是大事，固守自己的本分和岗位，就是做出了最好的贡献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55640" y="765000"/>
            <a:ext cx="26640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故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39400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岁的汉克和爸爸妈妈哥哥一起到森林干活，突然间下起雨来，可是他们只带了一件雨披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爸爸将雨披给了妈妈，妈妈给了哥哥，哥哥又给了汉克．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汉克问道：”为什么爸爸给了妈妈，妈妈给了哥哥，哥哥又给了我呢？”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爸爸回答道：”因为爸爸比妈妈强大，妈妈比哥哥强大，哥哥又比你强大呀．我们都会保护比较弱小的人．”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汉克左右看了看，跑过去将雨披撑开来挡在了一朵风雨中飘摇的娇弱的小花上面．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这个故事告诉我们，真正的强者不一定是多有力或者多有钱的人，而是他对别人多有帮助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六、主动的心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26920" y="2133720"/>
            <a:ext cx="26514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华文行楷"/>
              </a:rPr>
              <a:t>积极的心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19640" y="1916280"/>
            <a:ext cx="29433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消极的心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97" name=""/>
          <p:cNvSpPr/>
          <p:nvPr/>
        </p:nvSpPr>
        <p:spPr>
          <a:xfrm>
            <a:off x="93276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赢得信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8876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强自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2760" y="39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互帮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09640" y="40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32760" y="479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得友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9364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928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抱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90840" y="31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疑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2400" y="38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消磨时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5480" y="47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失去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35480" y="393372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孤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449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失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1439640"/>
            <a:ext cx="63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想决定行为，行为决定习惯，习惯决定性格，性格决定命运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8718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播下一种心态，收获一种思想，播下一种思想，收获一种行为，播下一种行为，收获一种习惯，播下一种习惯，收获一种性格，播下一种性格，收获一种命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建筑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个人问三个建筑师各自在干什么？第一个建筑师回答“我在砌一堵墙”； 第二个建筑师回答“我在建一所房子”； 第三个建筑师回答“我建造一所宫殿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许多年过去了，结果：第一个建筑师就只能砌砌墙壁，第二个建筑师可以修建房子，第三个建筑师则能修建出美丽的宫殿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性格决定命运．气度决定格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细节决定成败，态度决定一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路决定出路，高度决定深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格局决定结局，思想决定一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47640" y="907920"/>
            <a:ext cx="18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前言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七、落实行动的心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240" y="19152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务实，就是认真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做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一件小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59640" y="3141720"/>
          <a:ext cx="2076480" cy="26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3141720"/>
                    <a:ext cx="207648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84360" y="292428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三只青蛙在河中的叶子上顺水漂流，其中有一只想跳到河中，请问叶子上还剩余几只青蛙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22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5229360"/>
            <a:ext cx="58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想跳”和“跳”是不一样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413000"/>
            <a:ext cx="8604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们是不是也在做那只空想的青蛙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要好好学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明天决心要早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一定要做好笔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4437000"/>
            <a:ext cx="53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们想了许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们做了吗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八、竞争的心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989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功是建立在失败之上的，成功者永不放弃，放弃者永不成功，成功一定有方法，失败一定有原因 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3834720"/>
            <a:ext cx="73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不断的充实和完善自己，给自己制定一个竞争策略和战略规划，适者生成，不适者淘汰，这是很正常的自然规律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69228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故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77020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只野狗在追一只小兔子，野狗使劲追，小兔子使劲跑，但最终野狗也没追上小兔子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兔子回到家，对其母说：“今天有一只野狗追我。”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妈妈问：“追上了吗？”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小兔子回答：“肯定没追上了，它怎么能追上我呢？那只狗只是为了一顿饭在追我，而我却是为了一条命在跑啊。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九、谦虚的心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28526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任何事情都要谦虚，葡萄不熟才酸，人无知才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148428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春秋时期，孔子和他的学生们周游列国，宣传他们的政治主张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       一天，他们驾车去晋国。一个孩子在路当中堆碎石瓦片玩，挡住了他们的去路。孔子说：“你不该在路当中玩，挡住我们的车！”。孩子指着地上说：“老人家，您看这是什么？”孔子一看，是用碎石瓦片摆的一座城。孩子又说：“您说，应该是城给车让路还是车给城让路呢？”孔子被问住了。孔子觉得这孩子很懂得礼貌，便问：“你叫什么？几岁啦？”孩子说：“我叫项橐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！”孔子对学生们说：“项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懂礼，他可以做我的老师啊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4360" y="47628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故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十、勇于超于自我心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06064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鹰是世界上寿命最长的鸟类，它一生的年龄可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。要活那么长的寿命，它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逐渐衰老时必须作出困难却重要的决定。鹰首先用它的喙击打岩石，直到其完全脱落，然后静静地等待新的喙长出来。鹰会用新长出的喙把爪子上老化的趾甲一根一根拔掉，鲜血一滴滴洒落。当新的趾甲长出来后，鹰便用新的趾甲把身上的羽毛一根一根拔掉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月以后，新的羽毛长出来了，鹰重新开始飞翔，重新再度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的岁月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鹰的重生其实和凤凰涅盘、破茧成蝶的典故是基本相似的，首先通过颠覆自我，通过在痛苦中毁灭原来旧有的一切，其次才出现新的面貌，新的发展，达到浴火重生、脱胎换骨的目的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0920" y="2655720"/>
            <a:ext cx="62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古雅典卓越的政治家、演讲家德摩斯梯尼，年轻时口吃，说话气短，而且爱耸肩。这大概是最不适合学演讲的了，所以他初学演讲时曾被听从哄下台。但他毫不气馁，为了练发音，他嘴含石子练朗诵；为了克服气短，他一面攀登陡坡，一面吟诗；甚至悬起两把剑来改正自己爱耸肩的毛病。经过坚持不懈的长期努力，他终于成为著名的演讲家、雄辩家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050920" y="2492280"/>
            <a:ext cx="539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谢谢大家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1989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播种正面积极的思维，才会收获健康成功的人生；一种良好的心态，比一百种智慧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常见四种心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75520" y="1843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态好能力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184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精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75520" y="2707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差心态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废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080" y="3572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差心态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成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74080" y="443592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态坏能力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4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毒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一、归零心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（平常心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52160" y="177228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谓归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是完全放下自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2349360"/>
            <a:ext cx="4032000" cy="863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是活在过去，怀念过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3645000"/>
            <a:ext cx="4248000" cy="863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是活在未来，期待将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4869000"/>
            <a:ext cx="4176720" cy="863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是活在今天，珍惜现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二、积极的心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565360"/>
            <a:ext cx="655308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任何事物都有两面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在看它的那一面？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2047680" cy="252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玫瑰花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3720960" cy="351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2276640"/>
            <a:ext cx="7632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１．感谢绊倒你的人，因为他助长了你的坚韧；２．感谢伤害你的人，因为他练就了你的精神；３．感谢抛弃你的人，因为他教会了你的勇猛；４．感谢欺骗了你的人，因为他赠加了你的浮沉；５．感谢鞭打你的人，因为他强化了你的才能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404640"/>
            <a:ext cx="2592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学会长大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23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三、创新的心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989000"/>
            <a:ext cx="46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计划永远赶不上变化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42760" y="306792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变则通，通则久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58136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创新的基础是知识，是见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5:39:43Z</dcterms:created>
  <dc:creator>pc4</dc:creator>
  <dc:description/>
  <cp:keywords>主题班会课件(分28大类): http://shop62905894.taobao.com</cp:keywords>
  <dc:language>en-US</dc:language>
  <cp:lastModifiedBy>User</cp:lastModifiedBy>
  <dcterms:modified xsi:type="dcterms:W3CDTF">2013-04-13T14:38:03Z</dcterms:modified>
  <cp:revision>86</cp:revision>
  <dc:subject>主题班会课件(分28大类): http://shop62905894.taobao.com</dc:subject>
  <dc:title>主题班会课件(分28大类): http://shop62905894.taobao.com</dc:title>
</cp:coreProperties>
</file>