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23C-AE25-4D5F-B242-8E71863B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A92-5E60-40AE-9AF1-C77D803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812-2EF8-4D44-99DE-92822C21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E39-BB7B-483F-ACB6-D330EFD1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427-5991-4BB7-A0CA-8E8092CD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996-D6C9-420C-8337-DB9323CA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D6BC-A6E5-407D-B6E6-2F877D8E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431-D63F-4249-B26E-08425FE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02CA-4734-42B4-B7D2-DBA02A8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C03-08CF-444D-8B3B-CF42F55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5B88-1A10-43CB-902E-98F36F4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F2-5646-4020-8063-A2450E8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499F-3E2D-4F14-BDF8-D6067F7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7DB5-B28C-45B4-8C93-2545E93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7DD-A3EC-409D-8CAF-56E9FA9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E0E2-E6D0-475D-930F-B433D827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7389-EDC7-478A-AD34-934A76DF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209-A3D1-4340-994C-798F8E9C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127-6045-41DA-9B69-E8B39CE3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34F-C88E-4781-B71F-A7342CC8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137-B721-495D-A794-25A373B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026-F52B-4B74-B580-9876781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13C-89A0-480E-9493-B1BAC7A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663-869F-4E22-9416-8370BD3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875-97BB-483D-A1C0-072845D1E09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9AF5-54B8-45B3-A292-EE0CE111CB6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应试指导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70106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考试成功的标志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是，只要将自己的水平正常发挥出来了，就是一次成功的考试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正常发挥就是将自己的水平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已经很不简单了，发挥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无疑是没考砸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二是，不要横向与其他同学比，要纵向自己与自己比。只要考试中犯的低级错误在逐步减少，那就是成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第一轮（答题要敢于放弃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当你从前往后答题时，一看这题会，就答。一看这题不会，就不答。一看这题会，答的中间被困住卡壳了，就放弃。这是非常关键的一点。为什么“会答的先答，不会答的后答’到了考场就做不到呢？要害在会与不会之间，难在会与不会的判定上。会的题很清楚。不会的题也很明了。但恰恰有些题是你乍一看会，一做起来就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卡壳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，或者不能立即得出结论，需要看一看，思考思考，演算演算，琢磨琢磨……真是欲行不能，欲罢不忍。结果是，每每都是在不知不觉中丧失了宝贵的时间，每次考试都觉得时间不够用，稀里糊涂地败下阵来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12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二轮查缺补漏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一轮完成之后，你已经将能做的题都做上了，基本发挥除了自己的水平。然后，鼓励一下自己，开始第二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实践和理论都证实，做过第一轮后仍旧会有能解出来的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两轮解题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不同的科目，应用两轮解题法也应有所差异。比如数学、综合是这样的三轮，而语文、英语则应该是一卷是一轮，做完就要检查、涂卡。然后二卷作文之前是一轮，最后一轮全身心地写作文。理想状态是作文写完，剩余时间少于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钟。如果剩多了，说明你前边的时间分配不合理，要改进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752480"/>
            <a:ext cx="8109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一、考前准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考试用品准备好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碳素笔、笔芯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个）、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B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铅笔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根）、三角板、直尺、圆规、橡皮、小刀、草稿纸、水，其他用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总结以往试卷，设想、规划设想答题程序，书面写出考试过程中必须注意的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二、发下试卷后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检查试卷，填好卷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浏览试卷，摸清题情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3</a:t>
            </a:r>
            <a:r>
              <a:rPr b="1" lang="zh-CN" sz="3800" spc="-1" strike="noStrike">
                <a:solidFill>
                  <a:srgbClr val="160be9"/>
                </a:solidFill>
                <a:latin typeface="Verdana"/>
              </a:rPr>
              <a:t>）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熟题不大意，生题不心急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三、答题基本原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1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立足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3+5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，力争高水平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2900" spc="-1" strike="noStrike">
                <a:solidFill>
                  <a:srgbClr val="0000ff"/>
                </a:solidFill>
                <a:latin typeface="Verdana"/>
              </a:rPr>
              <a:t>、容易题志在必得，中档题寸土必争，难题量力而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3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三先三后</a:t>
            </a:r>
            <a:r>
              <a:rPr b="1" lang="zh-CN" sz="2900" spc="-1" strike="noStrike">
                <a:solidFill>
                  <a:srgbClr val="160be9"/>
                </a:solidFill>
                <a:latin typeface="Verdana"/>
              </a:rPr>
              <a:t>：先易后难、先简后繁、先熟后生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4</a:t>
            </a:r>
            <a:r>
              <a:rPr b="1" lang="zh-CN" sz="2900" spc="-1" strike="noStrike">
                <a:solidFill>
                  <a:srgbClr val="ff00ff"/>
                </a:solidFill>
                <a:latin typeface="Verdana"/>
              </a:rPr>
              <a:t>、</a:t>
            </a: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把握好时间（特别是语文、英语、理综）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5</a:t>
            </a:r>
            <a:r>
              <a:rPr b="1" lang="zh-CN" sz="2900" spc="-1" strike="noStrike">
                <a:solidFill>
                  <a:srgbClr val="a50021"/>
                </a:solidFill>
                <a:latin typeface="Verdana"/>
              </a:rPr>
              <a:t>、</a:t>
            </a:r>
            <a:r>
              <a:rPr b="1" lang="zh-CN" sz="2900" spc="-1" strike="noStrike">
                <a:solidFill>
                  <a:srgbClr val="ff3300"/>
                </a:solidFill>
                <a:latin typeface="Verdana"/>
              </a:rPr>
              <a:t>审题要慢，答题要快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Verdana"/>
              </a:rPr>
              <a:t>关于审题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要舍得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在审题上花时间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这决不是浪费时间，而恰恰是提高效率的前提和保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要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读题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而不是看题，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边读边思考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切忌一目十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审题时应先审设问，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明确答题的范围和方向－－得分的前提；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可以边看题边在</a:t>
            </a:r>
            <a:r>
              <a:rPr b="1" lang="zh-CN" sz="2400" spc="-1" strike="noStrike">
                <a:solidFill>
                  <a:srgbClr val="a50021"/>
                </a:solidFill>
                <a:latin typeface="Verdana"/>
              </a:rPr>
              <a:t>试卷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上圈圈点点，做出标记，同时想到了什么答题角度也要及时地把它标记在试卷上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必须努力突破思维定势，宁可将题目看做与以往所做题不同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书写要规范，以适应网上阅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A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用笔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0.5mm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黑色签字笔答题。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数学画图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字写的太潦草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乱、太少、分不清段落层次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C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理综在答主观题时，注意分清层次，标清序号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D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错、别字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作文每错一字扣一分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E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标点符号乱写乱用（汉语与英语中的句号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答题卡的填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必须要有充分的时间填涂选择题答案，特别是选择题比较多的科目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英语、综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，最好是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选择题做完后就涂上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，无误后再做非选择题部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最好分段涂卡，涂卡时要看清题号，分清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和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D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。涂完之后一定要看一下题数和自己涂的是不是一致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涂卡时要用高考规定用笔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2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铅笔）按要求均匀涂满方框，更改时要擦干净，防止机器误判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语文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不认真、不仔细，不能迅速确认题型和答题思路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讲过的知识点不会，复习回顾不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作文，规范性存在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答题纸的使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由于网上阅卷，微机扫描自动切割答案，所以一定要在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指定的区域内做答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A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要看清题号，不能答错位置。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万一错了怎么办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？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B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、合理规划使用空间，语言注意精练，想好了再答，避免乱涂乱画（</a:t>
            </a:r>
            <a:r>
              <a:rPr b="1" lang="zh-CN" sz="2600" spc="-1" strike="noStrike">
                <a:solidFill>
                  <a:srgbClr val="a50021"/>
                </a:solidFill>
                <a:latin typeface="Verdana"/>
              </a:rPr>
              <a:t>用胶带粘或用涂改液涂都是不允许的</a:t>
            </a:r>
            <a:r>
              <a:rPr b="1" lang="zh-CN" sz="2600" spc="-1" strike="noStrike">
                <a:solidFill>
                  <a:srgbClr val="160be9"/>
                </a:solidFill>
                <a:latin typeface="Verdana"/>
              </a:rPr>
              <a:t>）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考试过程中需注意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Verdana"/>
              </a:rPr>
              <a:t>四、</a:t>
            </a:r>
            <a:r>
              <a:rPr b="1" lang="zh-CN" sz="3800" spc="-1" strike="noStrike">
                <a:solidFill>
                  <a:srgbClr val="ff00ff"/>
                </a:solidFill>
                <a:latin typeface="Verdana"/>
              </a:rPr>
              <a:t>向规范要成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（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草稿纸的使用（特别是</a:t>
            </a:r>
            <a:r>
              <a:rPr b="1" lang="zh-CN" sz="3000" spc="-1" strike="noStrike">
                <a:solidFill>
                  <a:srgbClr val="a50021"/>
                </a:solidFill>
                <a:latin typeface="Verdana"/>
              </a:rPr>
              <a:t>数学</a:t>
            </a: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）。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60be9"/>
                </a:solidFill>
                <a:latin typeface="Verdana"/>
              </a:rPr>
              <a:t>不要乱写乱画，要合理布局，字迹也要尽量写清楚，以便往答题纸上抄时出现失误，也有利于检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数学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问题，不能快速准确地理解题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个别知识点还存在漏洞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计算失误较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英语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改错题，刚做过的还是不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作文，部分同学的规范性需要提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各科老师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理综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选择题丢分严重，只要遇到一点障碍就沉不住气，就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时间安排不合理，很多同学感觉时间不够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做过的题答得不好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做题过程方面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耐心不够，心里着急，精力不集中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时间安排不合理，前松后紧。一卷用时太长，而且丢分严重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遇见生题就犹豫、怀疑、恐惧，导致在生题和难题上浪费时间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审题方面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仔细，导致题干信息要点看不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准确，尤其是理综、作文材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受思维定势影响。审完题后，不去汇总分析所提供的所有信息，而是断章取义，或先入为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上次周考同学们总结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答题方面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做过的题目没印象，或者做过的题目做不对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答题思路不清晰，不正确，答案不完整，不全面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语文、英语阅读分析结构意识、联系语境意识不够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低级失误太多，尤其是计算失误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知识点、公式模糊，课本不熟，尤其是细节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结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试卷的总结回顾反思工作不到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课本基础知识和基本概念不熟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答题过程中心态不稳定，精力不集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审题不仔细、不全面、不准确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43:26Z</dcterms:created>
  <dc:creator>童天</dc:creator>
  <dc:description/>
  <cp:keywords>主题班会课件(分28大类): http://shop62905894.taobao.com</cp:keywords>
  <dc:language>en-US</dc:language>
  <cp:lastModifiedBy>User</cp:lastModifiedBy>
  <dcterms:modified xsi:type="dcterms:W3CDTF">2013-04-13T14:40:52Z</dcterms:modified>
  <cp:revision>255</cp:revision>
  <dc:subject>主题班会课件(分28大类): http://shop62905894.taobao.com</dc:subject>
  <dc:title>主题班会课件(分28大类): http://shop62905894.taobao.com</dc:title>
</cp:coreProperties>
</file>