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E3913-2E5B-4473-BD86-8192DEA69B6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从多年来对学生高考成功因素的分析来看，关键还是“硬件”和“软件”两方面。“硬件”指的是掌握、运用知识的水平，在硬件准备上，平时一定要跟着老师的进度走，因为各校教研室都有研究高考富有经验的老师，同学们在课堂上要注意听讲，课下对知识点查漏补缺，认真对待每一次模拟考试。越临近高考，基本知识、运用能力都已经定型，“软件”因素，也就是心理状态调节作用显得尤为重要。越是心态轻松、心理调节好的考生越是能正常发挥，甚至是超水平发挥。只要把知识真正学懂学透，考前对自己充满信心，放轻松心态，就能发挥出好的水平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628C-FFB4-447B-9976-741851213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924B-0005-4420-97BC-E4A6291AB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1B0D-18EB-45B6-90FB-16064760F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9DEB-8996-49D7-A49A-1016917C0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C36C9A-5248-4B7F-B428-6F698F45E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AF9C48-7272-4E9E-B7AD-104388D73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CD5EE0-6F70-4E3F-B873-9CD6CAE2D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5FCAE7-36B9-41F2-947C-E20139D2D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40D4DE-3105-4DD6-A0E0-91640C7EA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1A21E9-0EED-4F03-ADEB-BDBF74514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9DEB70-7EFC-4E15-90B2-F797BDD2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1D6B-3377-4363-81D2-D81F72B68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120E44-17B9-4537-BC89-F4A0D589B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894F7B-65D8-4B19-835D-017E5E815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14C991-3EEA-41EA-87CA-0B9EB1CF6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C99A19-88EB-4614-A7F7-69EEAEE2D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8D8DFB-3BF6-4A6F-9DA9-983C5F284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B978C-14CE-46F9-B81C-ECD8BC1F5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106DB-42FA-4002-ABA2-02E31B16F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BEFD5-4B65-416C-93F5-6293D0BF4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86222-25D2-4BD2-971D-CD3E1ADC4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14FA3-DD3D-48A6-8BD1-6F89A469B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D13C-F283-48B4-8920-B5DE77ABE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0C0BC-63DA-4A9F-A436-EFAB668F8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5271A-995C-4E62-A72A-EF7DDFF09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3DE85-EF77-49FF-A785-995EE5831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39FEC-389B-4810-AD85-26825CA55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274F4-6F35-464F-B08F-414DEEAF0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CDA41-C81A-41A6-8093-C07A4FC56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D6256-75D7-4A9E-9C15-264AC4BE2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E924D-6868-4D25-BE83-8291D68CF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AF3D2-30C7-418D-A61B-5F4CB3AEF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5B125-DB88-4F9A-BF1A-570457123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89DE-BDD1-4F72-8946-10331FB27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3FC01-3473-465D-B1C9-6F0828D9C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716C0-32B4-4BF3-8269-527DC0629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DFBD5-F17C-44E8-871B-CB0D13790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453DC-F1EC-42F5-BCD2-5F74A4916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BD5C6-3F36-46DB-AC6C-D739B4048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3D99E-0CD2-4DE1-8D5D-7BC49573E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43947-7C54-4B40-B857-623ACC3FE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84F38-B1A2-4EB7-B976-84B6D83E4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28633-FDDA-43D7-A897-B37904E48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E02A-B50A-4463-AD98-02A669C02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D46A-71A3-4214-A926-1B9CC7903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EF88-BDFF-4848-8153-AE1208C48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E633-0049-47AB-A09A-F68F6126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205C-FBAB-4376-A6B0-EEBB8F0D4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5D0B5-CB5D-4BE2-8C58-8C41E86D24F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80C21-36C1-4ECA-B4AC-066ED8C2BE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A1ADF-A230-415B-9692-32C92CD0E2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29EAE-B676-496E-A378-A423BFA9C28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83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820CE-252D-49A5-BF88-0880B350682C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6E4C3-291E-4A88-93B0-0DDFDE8257CB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dt" idx="10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A98DE-02E9-4BD6-B12B-FD2D5F421B97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2EA6E-6DE7-489E-8B6A-596D7770C86A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3320" y="1581120"/>
            <a:ext cx="8915400" cy="27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走向成功</a:t>
            </a:r>
            <a:r>
              <a:rPr b="1" i="1" lang="en-US" sz="6000" spc="-1" strike="noStrike">
                <a:solidFill>
                  <a:srgbClr val="ffffff"/>
                </a:solidFill>
                <a:latin typeface="黑体"/>
                <a:ea typeface="黑体"/>
              </a:rPr>
              <a:t>—— </a:t>
            </a:r>
            <a:br>
              <a:rPr sz="4000"/>
            </a:br>
            <a:r>
              <a:rPr b="1" lang="zh-CN" sz="4400" spc="-1" strike="noStrike">
                <a:solidFill>
                  <a:srgbClr val="ffff66"/>
                </a:solidFill>
                <a:latin typeface="黑体"/>
                <a:ea typeface="黑体"/>
              </a:rPr>
              <a:t>考前复习策略与心理调整策略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689440" y="5445000"/>
            <a:ext cx="34545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幼圆"/>
                <a:ea typeface="幼圆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幼圆"/>
                <a:ea typeface="幼圆"/>
              </a:rPr>
              <a:t>——</a:t>
            </a:r>
            <a:r>
              <a:rPr b="1" lang="zh-CN" sz="2000" spc="-1" strike="noStrike">
                <a:solidFill>
                  <a:srgbClr val="ffffff"/>
                </a:solidFill>
                <a:latin typeface="幼圆"/>
                <a:ea typeface="幼圆"/>
              </a:rPr>
              <a:t>高三、</a:t>
            </a:r>
            <a:r>
              <a:rPr b="1" lang="en-US" sz="2000" spc="-1" strike="noStrike">
                <a:solidFill>
                  <a:srgbClr val="ffffff"/>
                </a:solidFill>
                <a:latin typeface="幼圆"/>
                <a:ea typeface="幼圆"/>
              </a:rPr>
              <a:t>27</a:t>
            </a:r>
            <a:r>
              <a:rPr b="1" lang="zh-CN" sz="2000" spc="-1" strike="noStrike">
                <a:solidFill>
                  <a:srgbClr val="ffffff"/>
                </a:solidFill>
                <a:latin typeface="幼圆"/>
                <a:ea typeface="幼圆"/>
              </a:rPr>
              <a:t>班主题班会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235080" y="64533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7500"/>
                            </p:stCondLst>
                            <p:childTnLst>
                              <p:par>
                                <p:cTn id="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1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081160" y="477360"/>
            <a:ext cx="60199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ahoma"/>
                <a:ea typeface="隶书"/>
              </a:rPr>
              <a:t>三、记忆时间巧利用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777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cc00"/>
                </a:solidFill>
                <a:latin typeface="黑体"/>
                <a:ea typeface="黑体"/>
              </a:rPr>
              <a:t>“</a:t>
            </a:r>
            <a:r>
              <a:rPr b="1" lang="zh-CN" sz="3000" spc="-1" strike="noStrike">
                <a:solidFill>
                  <a:srgbClr val="ffcc00"/>
                </a:solidFill>
                <a:latin typeface="黑体"/>
                <a:ea typeface="黑体"/>
              </a:rPr>
              <a:t>前摄抑制”</a:t>
            </a:r>
            <a:r>
              <a:rPr b="1" lang="en-US" sz="3000" spc="-1" strike="noStrike">
                <a:solidFill>
                  <a:srgbClr val="ffffff"/>
                </a:solidFill>
                <a:latin typeface="黑体"/>
                <a:ea typeface="黑体"/>
              </a:rPr>
              <a:t>——</a:t>
            </a:r>
            <a:r>
              <a:rPr b="1" lang="zh-CN" sz="3000" spc="-1" strike="noStrike">
                <a:solidFill>
                  <a:srgbClr val="ffffff"/>
                </a:solidFill>
                <a:latin typeface="黑体"/>
                <a:ea typeface="黑体"/>
              </a:rPr>
              <a:t>先学的知识会对后学的知识产生干扰，这叫做记忆的“前摄抑制”；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cc00"/>
                </a:solidFill>
                <a:latin typeface="黑体"/>
                <a:ea typeface="黑体"/>
              </a:rPr>
              <a:t>“</a:t>
            </a:r>
            <a:r>
              <a:rPr b="1" lang="zh-CN" sz="3000" spc="-1" strike="noStrike">
                <a:solidFill>
                  <a:srgbClr val="ffcc00"/>
                </a:solidFill>
                <a:latin typeface="黑体"/>
                <a:ea typeface="黑体"/>
              </a:rPr>
              <a:t>倒摄抑制”</a:t>
            </a:r>
            <a:r>
              <a:rPr b="1" lang="en-US" sz="3000" spc="-1" strike="noStrike">
                <a:solidFill>
                  <a:srgbClr val="ffffff"/>
                </a:solidFill>
                <a:latin typeface="黑体"/>
                <a:ea typeface="黑体"/>
              </a:rPr>
              <a:t>——</a:t>
            </a:r>
            <a:r>
              <a:rPr b="1" lang="zh-CN" sz="3000" spc="-1" strike="noStrike">
                <a:solidFill>
                  <a:srgbClr val="ffffff"/>
                </a:solidFill>
                <a:latin typeface="黑体"/>
                <a:ea typeface="黑体"/>
              </a:rPr>
              <a:t>后学的知识容易对先学的知识产生干扰，这叫做记忆的“倒摄抑制”。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黑体"/>
                <a:ea typeface="黑体"/>
              </a:rPr>
              <a:t>A —— B —— C —— D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黑体"/>
                <a:ea typeface="黑体"/>
              </a:rPr>
              <a:t>由此可见，</a:t>
            </a:r>
            <a:r>
              <a:rPr b="1" lang="zh-CN" sz="3000" spc="-1" strike="noStrike">
                <a:solidFill>
                  <a:srgbClr val="ffcc00"/>
                </a:solidFill>
                <a:latin typeface="黑体"/>
                <a:ea typeface="黑体"/>
              </a:rPr>
              <a:t>早上起床后</a:t>
            </a:r>
            <a:r>
              <a:rPr b="1" lang="zh-CN" sz="3000" spc="-1" strike="noStrike">
                <a:solidFill>
                  <a:srgbClr val="ffffff"/>
                </a:solidFill>
                <a:latin typeface="黑体"/>
                <a:ea typeface="黑体"/>
              </a:rPr>
              <a:t>和</a:t>
            </a:r>
            <a:r>
              <a:rPr b="1" lang="zh-CN" sz="3000" spc="-1" strike="noStrike">
                <a:solidFill>
                  <a:srgbClr val="ffcc00"/>
                </a:solidFill>
                <a:latin typeface="黑体"/>
                <a:ea typeface="黑体"/>
              </a:rPr>
              <a:t>晚上睡觉前</a:t>
            </a:r>
            <a:r>
              <a:rPr b="1" lang="zh-CN" sz="3000" spc="-1" strike="noStrike">
                <a:solidFill>
                  <a:srgbClr val="ffffff"/>
                </a:solidFill>
                <a:latin typeface="黑体"/>
                <a:ea typeface="黑体"/>
              </a:rPr>
              <a:t>记忆新知识，可以强化记忆。 </a:t>
            </a:r>
            <a:r>
              <a:rPr b="0" lang="zh-CN" sz="3000" spc="-1" strike="noStrike">
                <a:solidFill>
                  <a:srgbClr val="ffffff"/>
                </a:solidFill>
                <a:latin typeface="黑体"/>
                <a:ea typeface="黑体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4560" y="291960"/>
            <a:ext cx="624816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Tahoma"/>
                <a:ea typeface="隶书"/>
              </a:rPr>
              <a:t>四、“死”去“活”来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785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比如学历史学科，有很多需要背诵的东西，人物、事件、年代、一些历史史料的要点等等。有些材料，只能“死”记。要靠</a:t>
            </a:r>
            <a:r>
              <a:rPr b="1" lang="zh-CN" sz="3200" spc="-1" strike="noStrike">
                <a:solidFill>
                  <a:srgbClr val="ffff66"/>
                </a:solidFill>
                <a:latin typeface="黑体"/>
                <a:ea typeface="黑体"/>
              </a:rPr>
              <a:t>多次反复强化记忆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。历史课是一门机械死记量比较大的学科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但是在考试时，却要把记住的材料灵活运用，这就不仅要记得牢，记得死，还要理解，理解得活。是谓：“死”去“活”来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单学历史，学地理，学政治，以至学理化生物，都需要“死”去“活”来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339640" y="404640"/>
            <a:ext cx="4800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Tahoma"/>
                <a:ea typeface="隶书"/>
              </a:rPr>
              <a:t>五、过度学习法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9280" y="1630440"/>
            <a:ext cx="8425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本来用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0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分钟能记住的材料，再加上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分钟的时间去强记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——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形成一种“过度”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从而抵消遗忘的影响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当然，过度的程度也有个限度，如果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达到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50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％以上，则会出现“报酬递减规律”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589120" y="620280"/>
            <a:ext cx="5943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ahoma"/>
                <a:ea typeface="隶书"/>
              </a:rPr>
              <a:t>六、题不二错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4000" y="1773360"/>
            <a:ext cx="828036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复习时做错了题，一旦搞明白，绝不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过。失败是成功之母，从失败中得到的多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从成功中得到的少，都是这个意思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2000" y="188640"/>
            <a:ext cx="76676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ahoma"/>
                <a:ea typeface="隶书"/>
              </a:rPr>
              <a:t>七、状元支招“我为什么犯错？”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362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2100" spc="-1" strike="noStrike">
                <a:solidFill>
                  <a:srgbClr val="ffffff"/>
                </a:solidFill>
                <a:latin typeface="黑体"/>
                <a:ea typeface="黑体"/>
              </a:rPr>
              <a:t>我一直认为自己能够在高考中取得好成绩，是因为我对学习中所犯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ffff"/>
                </a:solidFill>
                <a:latin typeface="黑体"/>
                <a:ea typeface="黑体"/>
              </a:rPr>
              <a:t>错误的高度重视。我有好几本错题集，只要是犯过的错误都被我认认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ffff"/>
                </a:solidFill>
                <a:latin typeface="黑体"/>
                <a:ea typeface="黑体"/>
              </a:rPr>
              <a:t>真真记载下来，以备总结经验教训。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2100" spc="-1" strike="noStrike">
                <a:solidFill>
                  <a:srgbClr val="ffffff"/>
                </a:solidFill>
                <a:latin typeface="黑体"/>
                <a:ea typeface="黑体"/>
              </a:rPr>
              <a:t>我记录的错题不外分三种类型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cc00"/>
              </a:buClr>
              <a:buSzPct val="120000"/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ff66"/>
                </a:solidFill>
                <a:latin typeface="黑体"/>
                <a:ea typeface="黑体"/>
              </a:rPr>
              <a:t>一种是特别愚蠢的错误、特别简单的错误，例如在粗心大意的时候把</a:t>
            </a:r>
            <a:r>
              <a:rPr b="1" lang="zh-CN" sz="2100" spc="-1" strike="noStrike">
                <a:solidFill>
                  <a:srgbClr val="ffff66"/>
                </a:solidFill>
                <a:latin typeface="黑体"/>
                <a:ea typeface="黑体"/>
              </a:rPr>
              <a:t>1+1</a:t>
            </a:r>
            <a:r>
              <a:rPr b="1" lang="zh-CN" sz="2100" spc="-1" strike="noStrike">
                <a:solidFill>
                  <a:srgbClr val="ffff66"/>
                </a:solidFill>
                <a:latin typeface="黑体"/>
                <a:ea typeface="黑体"/>
              </a:rPr>
              <a:t>算成</a:t>
            </a:r>
            <a:r>
              <a:rPr b="1" lang="zh-CN" sz="2100" spc="-1" strike="noStrike">
                <a:solidFill>
                  <a:srgbClr val="ffff66"/>
                </a:solidFill>
                <a:latin typeface="黑体"/>
                <a:ea typeface="黑体"/>
              </a:rPr>
              <a:t>3</a:t>
            </a:r>
            <a:r>
              <a:rPr b="1" lang="zh-CN" sz="2100" spc="-1" strike="noStrike">
                <a:solidFill>
                  <a:srgbClr val="ffff66"/>
                </a:solidFill>
                <a:latin typeface="黑体"/>
                <a:ea typeface="黑体"/>
              </a:rPr>
              <a:t>；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cc00"/>
              </a:buClr>
              <a:buSzPct val="120000"/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ff66"/>
                </a:solidFill>
                <a:latin typeface="黑体"/>
                <a:ea typeface="黑体"/>
              </a:rPr>
              <a:t>另一种是对难度较大的题目所犯的错误，拿到题目一点思路都没有，不知道解题该从何下手，但是一看答案却恍然大悟；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cc00"/>
              </a:buClr>
              <a:buSzPct val="120000"/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ff66"/>
                </a:solidFill>
                <a:latin typeface="黑体"/>
                <a:ea typeface="黑体"/>
              </a:rPr>
              <a:t>第三种就是题目难度中等，按道理有能力做对，但是却做错了。</a:t>
            </a:r>
            <a:br>
              <a:rPr sz="2100"/>
            </a:br>
            <a:r>
              <a:rPr b="1" lang="zh-CN" sz="2100" spc="-1" strike="noStrike">
                <a:solidFill>
                  <a:srgbClr val="ffffff"/>
                </a:solidFill>
                <a:latin typeface="黑体"/>
                <a:ea typeface="黑体"/>
              </a:rPr>
              <a:t>　　掌握了自己犯错的类型，我就为防范错误做好准备。我比较重视一些概念上的错误，我仔细分析过试卷，可以说一半以上的错误都是因为审题不清造成的。因此在复习中每当遇到自己所犯错误，首先分析是否由于审题不清造成，如果是，就要找出其中诱使你审题不清的小陷阱，熟悉之后就不容易掉进去了。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95640" y="99720"/>
            <a:ext cx="632448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ahoma"/>
                <a:ea typeface="隶书"/>
              </a:rPr>
              <a:t>八、绝不“一错再错”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61440" y="11430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对待错题的态度和方法不同，学习效果会有很大的差别。　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对于学习中的错误，我有一个心得，绝不能一错再错！我把错题记下来后，会非常认真地对待。 把错题集中记录到一个本子上，一方面便于集中查阅自己犯过的错误，另一方面便于翻看。看到曾经出现过的问题，应该随时翻看课本里面相应的内容，这样边记边看效果会更显著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各科学的好坏程度不一样，出错程度肯定不同，错误越多，说明对这一科的掌握还存在很大不足，需要投入更多的精力。在高三复习化学时，由于化学的概念比较多，所以在我的错题集里记录下来的错题比别的学科要多一些。正是通过分析这些错题，使高考时化学成绩有了明显提高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临近考试的时候，我把几个错题本集中在一起，每个学科的错误都被我重新集中扫视了一遍，并以最佳状态做好了防范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做错题集之初，可能看不到立竿见影的效果，但是坚持一边记录，一边翻阅课本，找准出错原因，强化正确的知识，在潜移默化中培养一种良好的思维方式。以后再看到类似的题，就会联想到曾经犯过的错误，及时找到正确的答题方向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4000" y="315720"/>
            <a:ext cx="793116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ahoma"/>
                <a:ea typeface="隶书"/>
              </a:rPr>
              <a:t>　九、及时改错，不让错误陪我过夜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80720" y="1485720"/>
            <a:ext cx="9070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r>
              <a:rPr b="1" lang="zh-CN" sz="2300" spc="-1" strike="noStrike">
                <a:solidFill>
                  <a:srgbClr val="ffffff"/>
                </a:solidFill>
                <a:latin typeface="黑体"/>
                <a:ea typeface="黑体"/>
              </a:rPr>
              <a:t>对于错题，我是一个绝对的急性子，如果知道有什么错误，我不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黑体"/>
                <a:ea typeface="黑体"/>
              </a:rPr>
              <a:t>会把它放到第二天再去解决。在及时改错的时候，我注意做到：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cc00"/>
                </a:solidFill>
                <a:latin typeface="黑体"/>
                <a:ea typeface="黑体"/>
              </a:rPr>
              <a:t>   </a:t>
            </a:r>
            <a:r>
              <a:rPr b="1" lang="zh-CN" sz="2300" spc="-1" strike="noStrike">
                <a:solidFill>
                  <a:srgbClr val="ffcc00"/>
                </a:solidFill>
                <a:latin typeface="黑体"/>
                <a:ea typeface="黑体"/>
              </a:rPr>
              <a:t>一是不绕过，二是不拖拉，三是分析总结。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SzPct val="120000"/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300" spc="-1" strike="noStrike">
                <a:solidFill>
                  <a:srgbClr val="ffcc00"/>
                </a:solidFill>
                <a:latin typeface="黑体"/>
                <a:ea typeface="黑体"/>
              </a:rPr>
              <a:t>一不绕过</a:t>
            </a:r>
            <a:r>
              <a:rPr b="1" lang="zh-CN" sz="2300" spc="-1" strike="noStrike">
                <a:solidFill>
                  <a:srgbClr val="ffffff"/>
                </a:solidFill>
                <a:latin typeface="黑体"/>
                <a:ea typeface="黑体"/>
              </a:rPr>
              <a:t>，就是正视错误，不讳疾忌医，不为自己的错误找借口，绝不能不懂装懂，害羞胆怯地自欺欺人。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SzPct val="120000"/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300" spc="-1" strike="noStrike">
                <a:solidFill>
                  <a:srgbClr val="ffcc00"/>
                </a:solidFill>
                <a:latin typeface="黑体"/>
                <a:ea typeface="黑体"/>
              </a:rPr>
              <a:t>二不拖拉</a:t>
            </a:r>
            <a:r>
              <a:rPr b="1" lang="zh-CN" sz="2300" spc="-1" strike="noStrike">
                <a:solidFill>
                  <a:srgbClr val="ffffff"/>
                </a:solidFill>
                <a:latin typeface="黑体"/>
                <a:ea typeface="黑体"/>
              </a:rPr>
              <a:t>，遇到错题，当场解决，不要隔一段时间再去解决，因为经过一段时间的间隔，很可能造成遗忘，让你想不起自己当初怎样犯的错。因此及时改错很有必要。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SzPct val="120000"/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300" spc="-1" strike="noStrike">
                <a:solidFill>
                  <a:srgbClr val="ffcc00"/>
                </a:solidFill>
                <a:latin typeface="黑体"/>
                <a:ea typeface="黑体"/>
              </a:rPr>
              <a:t>三是分析总结</a:t>
            </a:r>
            <a:r>
              <a:rPr b="1" lang="zh-CN" sz="2300" spc="-1" strike="noStrike">
                <a:solidFill>
                  <a:srgbClr val="ffffff"/>
                </a:solidFill>
                <a:latin typeface="黑体"/>
                <a:ea typeface="黑体"/>
              </a:rPr>
              <a:t>，对于每一处错误都要经过认真的分析，研究出错的原因，找准症结，及时改错。</a:t>
            </a:r>
            <a:br>
              <a:rPr sz="2300"/>
            </a:br>
            <a:br>
              <a:rPr sz="2300"/>
            </a:br>
            <a:r>
              <a:rPr b="1" lang="zh-CN" sz="2300" spc="-1" strike="noStrike">
                <a:solidFill>
                  <a:srgbClr val="ffffff"/>
                </a:solidFill>
                <a:latin typeface="黑体"/>
                <a:ea typeface="黑体"/>
              </a:rPr>
              <a:t>    记错题本最大的好处就是它针对你的弱点，看完之后觉得很充实，该解决的问题我都解决了。觉得自己就不害怕了。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867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5c"/>
                </a:solidFill>
                <a:latin typeface="Arial"/>
                <a:ea typeface="隶书"/>
              </a:rPr>
              <a:t>“</a:t>
            </a:r>
            <a:r>
              <a:rPr b="1" lang="zh-CN" sz="3200" spc="-1" strike="noStrike">
                <a:solidFill>
                  <a:srgbClr val="e4005c"/>
                </a:solidFill>
                <a:latin typeface="Arial"/>
                <a:ea typeface="隶书"/>
              </a:rPr>
              <a:t>强科有弱项，弱科有强项”。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771280" y="1196640"/>
            <a:ext cx="584532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考试的几个科目上，一个人有强有弱，是太正常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复习的策略，就是扬强扶弱。有的同学是只补弱的，忽视了强的；有的同学是放弃弱的专攻强的。从整体看，都未见明智。中考高考都是“团体赛”，要的是全局的胜利而不能是顾此失彼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强的里面不要有“水分”（避免浮躁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弱的里面还要有突破（增强自信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77956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5c"/>
                </a:solidFill>
                <a:latin typeface="Arial"/>
                <a:ea typeface="隶书"/>
              </a:rPr>
              <a:t>复习迎考最后的二十天里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438280" y="14130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考生既不能太紧张，又不能太松懈。此时应少做难题和新题，不要动摇自己的自信心。回过头来把课本再看一遍，熟悉基本概念、基本原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把复习的重点放在基础知识上，使情绪得到优化，没有遗憾地度过考前二十天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708280" y="64296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5c"/>
                </a:solidFill>
                <a:latin typeface="隶书"/>
                <a:ea typeface="隶书"/>
              </a:rPr>
              <a:t>确定可望也可及的目标</a:t>
            </a:r>
            <a:br>
              <a:rPr sz="4000"/>
            </a:b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438280" y="1371240"/>
            <a:ext cx="6400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最后二十天的复习安排中，应每一小段时间给自己定一个目标，而且目标连续务实，更重要的是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每天每小时为一个又一个目标而努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在心理上做合理的定位，主要途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通过历次考试的成绩，合理定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这直接关系着复习策略和应考时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答题心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24000" y="2781000"/>
            <a:ext cx="43196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海阔凭鱼跃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天高任鸟飞</a:t>
            </a:r>
            <a:br>
              <a:rPr sz="5400"/>
            </a:b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42560" y="4868640"/>
            <a:ext cx="764388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隶书"/>
              </a:rPr>
              <a:t>梦想、追寻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隶书"/>
              </a:rPr>
              <a:t>…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隶书"/>
              </a:rPr>
              <a:t>..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隶书"/>
              </a:rPr>
              <a:t>每个人都有无限的发展潜能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635200" y="26460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5c"/>
                </a:solidFill>
                <a:latin typeface="Arial"/>
                <a:ea typeface="隶书"/>
              </a:rPr>
              <a:t>考前二十天的两件重要任务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54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是回归课本，利用好笔记，通过对教材中的重点知识的重现，系统化、网络化，做到“知彼知己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是在回归课本的同时注意配合做一些模拟题，不过这时不要太在乎得分，主要是保持做题状态和速度。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556000" y="55368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  <a:ea typeface="隶书"/>
              </a:rPr>
              <a:t>议一议</a:t>
            </a:r>
            <a:endParaRPr b="0" lang="en-US" sz="4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为什么有的同学平时复习得好好的，一到考试就“撂挑子”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的同学小考的时候成绩不错，一到重要的考试就发挥失常，不该错的题偏偏就弄错了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我们认为，面对考试，有些策略不得不重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2627280" y="33336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66"/>
                </a:solidFill>
                <a:latin typeface="Tahoma"/>
                <a:ea typeface="华文行楷"/>
              </a:rPr>
              <a:t>祝你成功</a:t>
            </a:r>
            <a:r>
              <a:rPr b="0" lang="zh-CN" sz="6000" spc="-1" strike="noStrike">
                <a:solidFill>
                  <a:srgbClr val="ffff66"/>
                </a:solidFill>
                <a:latin typeface="Tahoma"/>
                <a:ea typeface="华文行楷"/>
              </a:rPr>
              <a:t>！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1371600" y="1828800"/>
            <a:ext cx="7467480" cy="5029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8" presetSubtype="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3500"/>
                            </p:stCondLst>
                            <p:childTnLst>
                              <p:par>
                                <p:cTn id="196" nodeType="afterEffect" fill="hold" presetClass="entr" presetID="15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4" dur="1" fill="hold"/>
                                  <p:tgtEl>
                                    <p:spTgt spid="22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11280" y="1125360"/>
            <a:ext cx="79214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走向成功 </a:t>
            </a:r>
            <a:r>
              <a:rPr b="1" i="1" lang="en-US" sz="4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!!</a:t>
            </a:r>
            <a:r>
              <a:rPr b="1" i="1" lang="en-US" sz="54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47280" y="2133720"/>
            <a:ext cx="7380360" cy="33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掌握知识与运用知识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                  ——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考试成功的硬件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考前与考中心态的调整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                  ——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考试成功的软件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re you ready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5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610920" y="1484280"/>
            <a:ext cx="82818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黑体"/>
                <a:ea typeface="黑体"/>
              </a:rPr>
              <a:t>随着期中考试的临近，如何节省时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黑体"/>
                <a:ea typeface="黑体"/>
              </a:rPr>
              <a:t>间、提高学习效率，已经成为每一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黑体"/>
                <a:ea typeface="黑体"/>
              </a:rPr>
              <a:t>个考生所关心的问题。这也是科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黑体"/>
                <a:ea typeface="黑体"/>
              </a:rPr>
              <a:t>的学习方法的核心所在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16000" y="228240"/>
            <a:ext cx="739152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隶书"/>
                <a:ea typeface="隶书"/>
              </a:rPr>
              <a:t>“</a:t>
            </a:r>
            <a:r>
              <a:rPr b="1" lang="zh-CN" sz="4400" spc="-1" strike="noStrike">
                <a:solidFill>
                  <a:srgbClr val="ffcc00"/>
                </a:solidFill>
                <a:latin typeface="隶书"/>
                <a:ea typeface="隶书"/>
              </a:rPr>
              <a:t>敢试才能行，敢争才能赢”</a:t>
            </a:r>
            <a:r>
              <a:rPr b="0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1280" y="1486080"/>
            <a:ext cx="79214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试一试，争一争”是一种积极参与的心态，是敢于拼搏，敢于胜利的精神状态，是一种挑战的气势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考试要有一个良好的心态，要有勇气。无论是复习还是在考场上，都需要积极的情绪和饱满精神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我们需要兴奋而不是沉闷， 需要勇敢而不是怯懦。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　　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60120" y="533160"/>
            <a:ext cx="742788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400" spc="-1" strike="noStrike">
                <a:solidFill>
                  <a:srgbClr val="ffcc00"/>
                </a:solidFill>
                <a:latin typeface="隶书"/>
                <a:ea typeface="隶书"/>
              </a:rPr>
              <a:t>态度决定一切</a:t>
            </a:r>
            <a:r>
              <a:rPr b="1" lang="en-US" sz="4400" spc="-1" strike="noStrike">
                <a:solidFill>
                  <a:srgbClr val="ffcc00"/>
                </a:solidFill>
                <a:latin typeface="隶书"/>
                <a:ea typeface="隶书"/>
              </a:rPr>
              <a:t>,</a:t>
            </a:r>
            <a:r>
              <a:rPr b="1" lang="zh-CN" sz="4400" spc="-1" strike="noStrike">
                <a:solidFill>
                  <a:srgbClr val="ffcc00"/>
                </a:solidFill>
                <a:latin typeface="隶书"/>
                <a:ea typeface="隶书"/>
              </a:rPr>
              <a:t>希望就在前方</a:t>
            </a:r>
            <a:br>
              <a:rPr sz="40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064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黑体"/>
                <a:ea typeface="黑体"/>
              </a:rPr>
              <a:t>学习是什么？</a:t>
            </a:r>
            <a:r>
              <a:rPr b="1" lang="zh-CN" sz="30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r>
              <a:rPr b="1" lang="zh-CN" sz="3000" spc="-1" strike="noStrike">
                <a:solidFill>
                  <a:srgbClr val="ffffff"/>
                </a:solidFill>
                <a:latin typeface="黑体"/>
                <a:ea typeface="黑体"/>
              </a:rPr>
              <a:t>不是单纯的记忆问题，更大程度上是一种个人能力的提升，是一个人慢慢优秀起来的过程。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黑体"/>
                <a:ea typeface="黑体"/>
              </a:rPr>
              <a:t>学习是一种</a:t>
            </a:r>
            <a:r>
              <a:rPr b="1" lang="zh-CN" sz="3000" spc="-1" strike="noStrike">
                <a:solidFill>
                  <a:srgbClr val="ffcc00"/>
                </a:solidFill>
                <a:latin typeface="黑体"/>
                <a:ea typeface="黑体"/>
              </a:rPr>
              <a:t>训练思维能力</a:t>
            </a:r>
            <a:r>
              <a:rPr b="1" lang="zh-CN" sz="3000" spc="-1" strike="noStrike">
                <a:solidFill>
                  <a:srgbClr val="ffffff"/>
                </a:solidFill>
                <a:latin typeface="黑体"/>
                <a:ea typeface="黑体"/>
              </a:rPr>
              <a:t>和</a:t>
            </a:r>
            <a:r>
              <a:rPr b="1" lang="zh-CN" sz="3000" spc="-1" strike="noStrike">
                <a:solidFill>
                  <a:srgbClr val="ffcc00"/>
                </a:solidFill>
                <a:latin typeface="黑体"/>
                <a:ea typeface="黑体"/>
              </a:rPr>
              <a:t>提高个人素养</a:t>
            </a:r>
            <a:r>
              <a:rPr b="1" lang="zh-CN" sz="3000" spc="-1" strike="noStrike">
                <a:solidFill>
                  <a:srgbClr val="ffffff"/>
                </a:solidFill>
                <a:latin typeface="黑体"/>
                <a:ea typeface="黑体"/>
              </a:rPr>
              <a:t>的过程。很难设想一个胸无点墨的人能让人觉得有多深的涵养。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黑体"/>
                <a:ea typeface="黑体"/>
              </a:rPr>
              <a:t>我们的社会需要的是优秀人才，会不会学习就是一个衡量你是否是人才的标准。你要明白你所学的一切都会在将来成为你的一笔财富。</a:t>
            </a:r>
            <a:r>
              <a:rPr b="0" lang="zh-CN" sz="30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Tahoma"/>
                <a:ea typeface="隶书"/>
              </a:rPr>
              <a:t>一、</a:t>
            </a:r>
            <a:r>
              <a:rPr b="1" lang="zh-CN" sz="4400" spc="-1" strike="noStrike">
                <a:solidFill>
                  <a:srgbClr val="ffcc00"/>
                </a:solidFill>
                <a:latin typeface="Tahoma"/>
                <a:ea typeface="隶书"/>
              </a:rPr>
              <a:t>“六先六后”学习法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4963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黑体"/>
                <a:ea typeface="黑体"/>
              </a:rPr>
              <a:t>心理学家根据多年来的研究，总结出“六先六后”的学习方法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先计划后学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先预习后听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先复习后做作业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先打好基础后灵活思维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五、先独立思考后请教别人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六、先调整心态后参加考试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50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500"/>
                            </p:stCondLst>
                            <p:childTnLst>
                              <p:par>
                                <p:cTn id="1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339640" y="259920"/>
            <a:ext cx="6553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ahoma"/>
                <a:ea typeface="隶书"/>
              </a:rPr>
              <a:t>二、复习五步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424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66"/>
                </a:solidFill>
                <a:latin typeface="黑体"/>
                <a:ea typeface="黑体"/>
              </a:rPr>
              <a:t>一、地毯式扫荡。</a:t>
            </a:r>
            <a:r>
              <a:rPr b="1" lang="zh-CN" sz="2200" spc="-1" strike="noStrike">
                <a:solidFill>
                  <a:srgbClr val="ffffff"/>
                </a:solidFill>
                <a:latin typeface="黑体"/>
                <a:ea typeface="黑体"/>
              </a:rPr>
              <a:t>先把该复习的基础知识全面过一遍。追求的是尽可能全面不要有遗漏。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66"/>
                </a:solidFill>
                <a:latin typeface="黑体"/>
                <a:ea typeface="黑体"/>
              </a:rPr>
              <a:t>二、融会贯通。</a:t>
            </a:r>
            <a:r>
              <a:rPr b="1" lang="zh-CN" sz="2200" spc="-1" strike="noStrike">
                <a:solidFill>
                  <a:srgbClr val="ffffff"/>
                </a:solidFill>
                <a:latin typeface="黑体"/>
                <a:ea typeface="黑体"/>
              </a:rPr>
              <a:t>找到知识之间的联系。把一章章、一节节的知识之间的联系找到。追求的是从局部到全局，从全局中把握局部。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66"/>
                </a:solidFill>
                <a:latin typeface="黑体"/>
                <a:ea typeface="黑体"/>
              </a:rPr>
              <a:t>三、知识的运用。</a:t>
            </a:r>
            <a:r>
              <a:rPr b="1" lang="zh-CN" sz="2200" spc="-1" strike="noStrike">
                <a:solidFill>
                  <a:srgbClr val="ffffff"/>
                </a:solidFill>
                <a:latin typeface="黑体"/>
                <a:ea typeface="黑体"/>
              </a:rPr>
              <a:t>做题，做各种各样的题。力求通过多种形式的解题去练习运用知识。掌握各种解题思路，通过解题锻炼分析问题解决问题的能力。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66"/>
                </a:solidFill>
                <a:latin typeface="黑体"/>
                <a:ea typeface="黑体"/>
              </a:rPr>
              <a:t>四、捡“渣子”。</a:t>
            </a:r>
            <a:r>
              <a:rPr b="1" lang="zh-CN" sz="2200" spc="-1" strike="noStrike">
                <a:solidFill>
                  <a:srgbClr val="ffffff"/>
                </a:solidFill>
                <a:latin typeface="黑体"/>
                <a:ea typeface="黑体"/>
              </a:rPr>
              <a:t>即查漏补缺。通过复习的反复，一方面强化知识，强化记忆，一方面寻找差错，弥补遗漏。求得更全面更深入的把握知识提高能力。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66"/>
                </a:solidFill>
                <a:latin typeface="黑体"/>
                <a:ea typeface="黑体"/>
              </a:rPr>
              <a:t>五、“翻饼烙饼”。</a:t>
            </a:r>
            <a:r>
              <a:rPr b="1" lang="zh-CN" sz="2200" spc="-1" strike="noStrike">
                <a:solidFill>
                  <a:srgbClr val="ffffff"/>
                </a:solidFill>
                <a:latin typeface="黑体"/>
                <a:ea typeface="黑体"/>
              </a:rPr>
              <a:t>复习犹如“烙饼”，需要翻几个个儿才能熟透，否则就要夹生。记忆也需要强化，不反复强化也难以记牢。因此，复习总得两三遍才能完成。　　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1447920" y="1042560"/>
            <a:ext cx="75168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集中注意力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——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专注精神的培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做自己的主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——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习惯是可以改变的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结构化学习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——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编织知识的网络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“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树碑立标法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——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提高阅读效率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1T12:04:10Z</dcterms:created>
  <dc:creator>zwgh - www.k12zy.com</dc:creator>
  <dc:description>中小学教育资源交流中心  www.k12zy.com  免费教案、课件、试题、论文、素材等教育资源下载。</dc:description>
  <cp:keywords>主题班会课件(分28大类): http://shop62905894.taobao.com</cp:keywords>
  <dc:language>en-US</dc:language>
  <cp:lastModifiedBy>User</cp:lastModifiedBy>
  <dcterms:modified xsi:type="dcterms:W3CDTF">2013-04-13T14:33:47Z</dcterms:modified>
  <cp:revision>104</cp:revision>
  <dc:subject>主题班会课件(分28大类): http://shop62905894.taobao.com</dc:subject>
  <dc:title>主题班会课件(分28大类): http://shop62905894.taobao.com</dc:title>
</cp:coreProperties>
</file>