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.jpeg" ContentType="image/jpeg"/>
  <Override PartName="/ppt/media/camera.wav" ContentType="audio/x-wav"/>
  <Override PartName="/ppt/media/image11.png" ContentType="image/png"/>
  <Override PartName="/ppt/media/image2.wmf" ContentType="image/x-wmf"/>
  <Override PartName="/ppt/media/chimes.wav" ContentType="audio/x-wav"/>
  <Override PartName="/ppt/media/image5.wmf" ContentType="image/x-wmf"/>
  <Override PartName="/ppt/media/image6.jpeg" ContentType="image/jpeg"/>
  <Override PartName="/ppt/media/image7.wmf" ContentType="image/x-wmf"/>
  <Override PartName="/ppt/media/image3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34808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隶书"/>
              </a:rPr>
              <a:t>教育是心与心的交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457200"/>
            <a:ext cx="7924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csmx.com/about_idea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1080"/>
            <a:ext cx="8351640" cy="184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高考复习方法与心理训（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制订高考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4197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2205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五年、十年要达到的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18795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565360"/>
            <a:ext cx="388620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命不止，奋斗不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人生关键时刻，我要去拼搏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有出息的人靠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国家靠本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虚度此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7280" y="2492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高三年度的奋斗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13716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057400"/>
            <a:ext cx="5105160" cy="420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奋斗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考理想的大学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到丰富的科学知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于我们的民族和国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展示我非凡的才华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精神是了不起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专注于学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一定会做出使自己感到吃惊的成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637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近期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76360" y="137484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2060640"/>
            <a:ext cx="5029200" cy="329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顽强的毅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征服世界上任何一座高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段时间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科我要进步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力争在班上前进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期中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（末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考试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成绩要让别人感到吃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6286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天的具体安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9920" y="838080"/>
            <a:ext cx="189360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92360" y="14842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2398680"/>
            <a:ext cx="50292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是公正的法官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有抓住今天，才有希望的明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今天的事今天干完，才有愉快的明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天如此，我的人生目标定能实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268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现在，立即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95840" cy="268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35280" y="13032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1989000"/>
            <a:ext cx="510516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，当务之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立即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做拖延的懒虫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集中精力做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（作业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……（做完什么事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做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……（做完什么事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罢休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，关系到我是否有辉煌的人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7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制订高考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37339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1337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将来到底干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目前为什么学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前的学习对我将来的发展有哪些益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正当兴趣爱好到底应该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近期最迫切的一个愿望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现在怎样做才能成为一个对社会有用的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下心来认真思索并以积极的态度回答以下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8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02080" y="1143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如何确定高考目标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28600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制订和实现高考目标有以下三个步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明白自己要求达到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不断调控自己的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　对实现目标进行自我肯定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1840" y="5105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训练的具体做法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76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坚信自己有能力实现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225108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5280" y="8841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对自己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16462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1341360"/>
            <a:ext cx="5105160" cy="466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着巨大的智慧和潜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足够的能力实现自己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我选择良好的方法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勤奋努力，坚持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能出色地完成预定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动起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今天的学习搞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天都如此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高考目标一定能实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162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大声说出自信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79640" cy="335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63640" y="1773360"/>
            <a:ext cx="47246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用有力、清晰、充满自信的语言，大声说出肯定和鼓励自己的话，效果会更大。如果不能大声说出，就小声或默默地说出肯定自己的话，也会有效果。如“我要考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2193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浮现目标达到后的形象和愉快情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1850760" cy="239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844640"/>
            <a:ext cx="5410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在头脑中呈现目标达到后的生动形象和情境，使自己充满信心，满怀喜悦，这样就能激发出意识和潜意识的巨大力量。如头脑中常浮现考取理想大学时的情境和喜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我激励要发自内心，要诚心诚意，坚信不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5410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应付自己，不能三心二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3657600"/>
            <a:ext cx="1828800" cy="19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与实际学习相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590920"/>
            <a:ext cx="60195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要将激发出来的巨大力量用于实际行动中，通过勤奋学习去实现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2157480" cy="215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20574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Times New Roman"/>
              </a:rPr>
              <a:t>关于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07280" y="1447920"/>
            <a:ext cx="2736720" cy="49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情况变化，确立新的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19520"/>
            <a:ext cx="5410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根据新的任务，想出新的肯定性言词，不断补充和修改自我肯定的言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676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天至少练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590920"/>
            <a:ext cx="6172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例如，早上起床后，午饭后和晚上睡觉前，每天不少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向意识和潜意识灌输自我肯定的言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914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坚持长期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676520"/>
            <a:ext cx="6477120" cy="18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坚持训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才能初见成效，若长期坚持自我肯定训练，效果会更好、更稳定。特别是在遇到困难和挫折或信心不足与心情不佳时，更要坚持自我肯定训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考取清华、北大的不少同学的经验是坚持进行获得成功的自我肯定训练，从而增强了心理素质，促进了身心健康发展，取得了高考的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79800" y="1143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用什么样的语言表达你的目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514600"/>
            <a:ext cx="8534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使用“我要”、“我一定”、“我是”等肯定性正面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目标要具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语句简练，内容具体明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使用第一人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36640" y="990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如何监控你的目标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学习是一个动态的可控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89548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过程的自我监控主要分为三个方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学习活动的事先计划和安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自己实际学习活动的监察、评价、反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以上基础上对学习活动进行调节、修正、控制或补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1752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我监控的环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514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一般来讲，高三学生所进行的学习过程有六个环节，对于每个环节都必须进行自我监控，以保证学习任务的顺利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2514600"/>
            <a:ext cx="601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学习计划有无长计划、短安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学习的合理性、可行性和科学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监控自己执行计划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计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：制订学习计划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52480" y="2286000"/>
            <a:ext cx="586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18108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自己是否做了课前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18108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预习中是否有侧重点，预习的方法是　否恰当，是否注意到学科的特点，是　否做了预习笔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18108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是否达到预习的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6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：课前预习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198108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课前是否全身放松（特别是大脑）。是否以愉悦的心情准备听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听课时是否做到“五到”（心到、眼到、耳到、口到、手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听课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采用有效的方法监控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在课堂提问和课堂讲座时开动脑筋，积极思考，主动举手发言，同时还要检查课堂练习是否当堂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052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：专心听讲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7" name="chimes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628640"/>
            <a:ext cx="8351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确定了高考目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感到目标是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如何确定自己的高考目标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用什么样的语言表达你的目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如何监控你的目标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7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8288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590920"/>
            <a:ext cx="4800600" cy="225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节课对我很重要，很有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命是以时间为单位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听好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决不走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此刻关系到我的一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33720" y="2666880"/>
            <a:ext cx="51814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复习是否做到及时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价复习的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时调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828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：及时复习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7621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295280"/>
            <a:ext cx="4800600" cy="512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习这段内容太重要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把时间利用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，我最浪费不起的就是时间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之内复习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精力集中，决不分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我的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证明我能做到自我监控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的分配应当精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每月、每周、每天和每小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段时间都有它的特殊任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905120"/>
            <a:ext cx="655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独立、按时完成作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作业的程序是否合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复习后做作业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真审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解题思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答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仔细检查，发现错误及时纠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：独立作业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chimes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52388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作业的效果是否达到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深了对知识的理解和记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到了一题多解、一解多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复习准备了资料，培养了能力，发展了智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题目进行归纳总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随时反馈、调整：以上几点如没有做到，应及时改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chimes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13716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20968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啊！今天的作业太有趣了！太重要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是一个有毅力的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之内完成作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决不走神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62320" y="2057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：系统总结的自我监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2895480"/>
            <a:ext cx="67816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有课外学习的计划、目标及时间安排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有观察的兴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学习效果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七：课外学习的自我监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5" name="chimes.wav"/>
      </p:stSnd>
    </p:sndAc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78320" y="10666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有能力对自己进行监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514600"/>
            <a:ext cx="7010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自我识别心理素质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制订学习的总体设想和学期实施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锻炼学习毅力，增强自控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62320" y="2819520"/>
            <a:ext cx="47242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时姿势要端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择学习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节学习安排，作息要定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地点相对固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540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善于质疑和思考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1981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集中注意力训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你是否有能力对自己进行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性格外向的人怎样监控自己的学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性格内向的人怎样监控自己的学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学习偏科的人如何进行自我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怎样对自己的粗心大意进行监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81080" y="14479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266688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全神贯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分神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积极思考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2286000"/>
            <a:ext cx="6019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有长远的目标，不要被眼前利益的诱惑和周　　   围的不良环境所干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失意和失败面前不退却，要有战胜自我的信　　   心和勇气。坚信“你行我也行”，反复提醒自己　　　“不要灰心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制定计划，抓紧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意识地培养抗干扰的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时进行自我检查和自我反馈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371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锻炼学习毅力，增强自控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05120" y="12193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981080"/>
            <a:ext cx="480060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静的湖面，炼不出精壮的水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逸的环境，造不出时代的伟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志气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顽强的毅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自控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愈艰难，就愈要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做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Ｘ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性格类型特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295280"/>
          <a:ext cx="8001000" cy="5040360"/>
        </p:xfrm>
        <a:graphic>
          <a:graphicData uri="http://schemas.openxmlformats.org/drawingml/2006/table">
            <a:tbl>
              <a:tblPr/>
              <a:tblGrid>
                <a:gridCol w="1371600"/>
                <a:gridCol w="2476440"/>
                <a:gridCol w="1486080"/>
                <a:gridCol w="2666880"/>
              </a:tblGrid>
              <a:tr h="690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向性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向性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孤独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沉默寡言、谨慎消极孤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交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爽朗、积极、能言善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思考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善于思考、深入钻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行动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说干就干、具有现实的、发展的观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丧失自信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卑感重、自责、有强烈的自责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于自信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瞧不起别人、过高地估计自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安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矩、清高、小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天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宏大量、大方、不拘小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冷静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心谨慎、沉着、稳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感情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敏感、喜怒哀乐变化无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76520" y="2743200"/>
            <a:ext cx="5943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加强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好学深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求得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有错必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523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外向型性格的学习监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3124080"/>
            <a:ext cx="678204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8244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自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8244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胸大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824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独立钻研</a:t>
            </a:r>
            <a:r>
              <a:rPr b="1" lang="zh-CN" sz="2400" spc="-1" strike="noStrike">
                <a:solidFill>
                  <a:srgbClr val="993366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6720" y="16765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内向型性格的自我监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95280" y="2362320"/>
            <a:ext cx="66294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目标激发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准备形成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优势引导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意志强化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成功激励兴趣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219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对学习偏科的自我监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终身目标：做一个有出息的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高考目标：考上ＸＸ大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现在的目标：做完ＸＸ作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它能体现我的人生价值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目标激发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现在起我真的喜欢你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将兴高采烈地去阅读书中的一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将愉快地完成学习计划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准备形成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最大的优势：ＸＸ方面就是行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这种优势用在ＸＸ（学科）上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成绩同样能上升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8360" y="1143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优势引导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20574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　　美国研究人员做过一项调查，他对一所大学的毕业生是否有明确、特殊的个人发展目标进行调查，发现只有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3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有这种目标。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20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年后，该研究员再对他们进行调查，发现这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3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所 获得的成就之和比其他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97%</a:t>
            </a:r>
            <a:r>
              <a:rPr b="0" lang="zh-CN" sz="3600" spc="-1" strike="noStrike">
                <a:solidFill>
                  <a:srgbClr val="0f0767"/>
                </a:solidFill>
                <a:latin typeface="华文行楷"/>
                <a:ea typeface="华文行楷"/>
              </a:rPr>
              <a:t>的人所获得的成就之和还要多。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914400"/>
            <a:ext cx="61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确定了高考目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2895480"/>
            <a:ext cx="586764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顽强的意志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怕困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做豪杰，要刚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做事的倔强，是人生的美德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生最大的光荣不在于永不仆地，而在于屡仆屡起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8360" y="1143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用意志强化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2895480"/>
            <a:ext cx="58676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近来我进步很大，在ＸＸ方面我不断取得胜利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坚持下去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会越来越走近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48360" y="1143000"/>
            <a:ext cx="24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成功激励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49040" y="990720"/>
            <a:ext cx="342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对粗心大意的监控方法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057400"/>
            <a:ext cx="7026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高学习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度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不良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完成ＸＸ作业对我太重要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小心谨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贵在坚持，成在坚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一定要坚持到底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4920" y="114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高学习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2971800"/>
            <a:ext cx="6629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闭目，想像学习意义和奋斗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时全身紧张，握拳，收下腹，收肛门，收小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心中默念：我一定在ＸＸ分钟完成ＸＸ（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睁开眼，开始行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42680" y="112068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971800"/>
            <a:ext cx="4800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精力集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不分心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保证在ＸＸ分钟完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5760" y="1120680"/>
            <a:ext cx="24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度集中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2133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2971800"/>
            <a:ext cx="4800600" cy="237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近来克服了不少坏习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经有了长足的进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坚持到底，发奋努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信心克服不良习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2680" y="112068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克服不良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1828800"/>
            <a:ext cx="6629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目标不仅是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只有制订自己在不同阶段明确的奋斗目标，还要落实到今天和现在，并配合心理训练，才能不断激励自己，克服困难，去实现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6680" y="838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是否感到目标是空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934320" y="4267080"/>
            <a:ext cx="1752480" cy="1856160"/>
            <a:chOff x="6934320" y="4267080"/>
            <a:chExt cx="1752480" cy="18561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6934320" y="4267080"/>
              <a:ext cx="175248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080" y="566352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目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  <p:sndAc>
      <p:stSnd>
        <p:snd r:embed="rId3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明确终生努力方向和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773360"/>
            <a:ext cx="723888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每天对自己说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遍，坚持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43640" y="3213000"/>
            <a:ext cx="2285640" cy="3183840"/>
            <a:chOff x="6443640" y="3213000"/>
            <a:chExt cx="2285640" cy="31838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6570720" y="3213000"/>
              <a:ext cx="1631520" cy="30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3640" y="5999040"/>
              <a:ext cx="22856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  <p:sndAc>
      <p:stSnd>
        <p:snd r:embed="rId3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486560" cy="577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志者常立志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志者立长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想学习好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要志气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有志气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做一个有出息的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胸中有了大目标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泰山压顶不弯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当科学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将知识 和能力贡献给国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要做一个伟大人物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余由命运决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标已确定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只有勇往直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8:39:36Z</dcterms:created>
  <dc:creator>wangyuan</dc:creator>
  <dc:description/>
  <cp:keywords>主题班会课件(分28大类): http://shop62905894.taobao.com</cp:keywords>
  <dc:language>en-US</dc:language>
  <cp:lastModifiedBy>User</cp:lastModifiedBy>
  <dcterms:modified xsi:type="dcterms:W3CDTF">2013-04-13T14:53:51Z</dcterms:modified>
  <cp:revision>157</cp:revision>
  <dc:subject>主题班会课件(分28大类): http://shop62905894.taobao.com</dc:subject>
  <dc:title>主题班会课件(分28大类): http://shop62905894.taobao.com</dc:title>
</cp:coreProperties>
</file>