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6B4-D6B8-4FB3-BC30-B4112EFB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FA4-2C4C-4816-BD2D-F4B1E60B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55D-707E-4F73-B71D-BA40549C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FFE-6DB5-4343-8A82-3F86D0AB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FE4-C990-4C1C-994B-BD37B13E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6C4B-5490-45F7-9C52-D57C778B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101-85E3-47EE-AC24-892F8DE1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38B-3E98-48B3-B13C-3E60D82C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313-0C31-4190-AFD5-68989F93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41B-2BC6-4B35-BA17-504768C3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E3A-5672-4785-8717-A7C39363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1C4-6541-4E5D-BFA5-0A15DF2E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4DE3-2175-4BE2-8E7B-FE4EF5A364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29440" y="2286000"/>
            <a:ext cx="2914560" cy="457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4062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00000" y="3933720"/>
            <a:ext cx="720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仿宋"/>
              </a:rPr>
              <a:t>考场心态调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仿宋"/>
              <a:ea typeface="华文仿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" y="33170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Arial"/>
                <a:ea typeface="华文新魏"/>
              </a:rPr>
              <a:t> 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华文新魏"/>
              </a:rPr>
              <a:t>积极的自我暗示，可把高考心态调整到最佳状态。下列十条自我暗示语言，可帮助考生实现心态平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25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1483560"/>
            <a:ext cx="7272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我曾经赢过，还会再赢！</a:t>
            </a:r>
            <a:br>
              <a:rPr sz="4000"/>
            </a:br>
            <a:r>
              <a:rPr b="0" lang="zh-CN" sz="1800" spc="-1" strike="noStrike">
                <a:solidFill>
                  <a:srgbClr val="ff66ff"/>
                </a:solidFill>
                <a:latin typeface="Arial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57800" y="4059360"/>
            <a:ext cx="38862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3877560"/>
            <a:ext cx="6983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适度紧张是好事，别神经兮兮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ff66ff"/>
                </a:solidFill>
                <a:latin typeface="Arial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03640" y="1483560"/>
            <a:ext cx="54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考前失眠莫心慌，顺其自然由它去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.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　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296388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26920" y="4669560"/>
            <a:ext cx="7272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华文新魏"/>
                <a:ea typeface="华文新魏"/>
              </a:rPr>
              <a:t>         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坚持纵比不横比，车走车辙马走马路。</a:t>
            </a:r>
            <a:br>
              <a:rPr sz="4000"/>
            </a:br>
            <a:r>
              <a:rPr b="0" lang="zh-CN" sz="1800" spc="-1" strike="noStrike">
                <a:solidFill>
                  <a:srgbClr val="ff66ff"/>
                </a:solidFill>
                <a:latin typeface="Arial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038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1500840"/>
            <a:ext cx="7272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华文新魏"/>
                <a:ea typeface="华文新魏"/>
              </a:rPr>
              <a:t>         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浏览试卷胸中有数，循序渐进心绪平和。</a:t>
            </a:r>
            <a:br>
              <a:rPr sz="4000"/>
            </a:br>
            <a:r>
              <a:rPr b="0" lang="zh-CN" sz="1800" spc="-1" strike="noStrike">
                <a:solidFill>
                  <a:srgbClr val="ff66ff"/>
                </a:solidFill>
                <a:latin typeface="Arial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3933720"/>
            <a:ext cx="42861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59280" y="4309200"/>
            <a:ext cx="59036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选项仔细作答缜密，一旦确认不再回首。 </a:t>
            </a:r>
            <a:br>
              <a:rPr sz="4000"/>
            </a:b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9625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1717200"/>
            <a:ext cx="7272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华文新魏"/>
              </a:rPr>
              <a:t>遇到难题，要难都难，不必慌乱！</a:t>
            </a:r>
            <a:r>
              <a:rPr b="0" lang="zh-CN" sz="1800" spc="-1" strike="noStrike">
                <a:solidFill>
                  <a:srgbClr val="ff66ff"/>
                </a:solidFill>
                <a:latin typeface="Arial"/>
                <a:ea typeface="宋体"/>
              </a:rPr>
              <a:t>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ff66ff"/>
                </a:solidFill>
                <a:latin typeface="Arial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564000" y="3365640"/>
          <a:ext cx="5580000" cy="34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3365640"/>
                    <a:ext cx="558000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4075920"/>
            <a:ext cx="7272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高考又不是人生的惟一，状元中还有复读生呢。 </a:t>
            </a:r>
            <a:br>
              <a:rPr sz="4000"/>
            </a:b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03280" y="4020120"/>
            <a:ext cx="7272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考不上名牌还有重点，保“本”就更没啥问题。 </a:t>
            </a:r>
            <a:br>
              <a:rPr sz="4000"/>
            </a:b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2114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644640"/>
            <a:ext cx="8351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高考应试像体育竞技一样，硬件讲实力，软件讲心态。能否在考场上正常发挥或超常发挥，关键取决于大家的应试心态是否平稳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290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4643280"/>
            <a:ext cx="4495680" cy="2214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47640" y="326448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狭路相逢勇者胜，答出学会的就是成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4132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2781000"/>
            <a:ext cx="61912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ff"/>
                </a:solidFill>
                <a:latin typeface="Tahoma"/>
                <a:ea typeface="华文行楷"/>
              </a:rPr>
              <a:t>高考应考</a:t>
            </a:r>
            <a:br>
              <a:rPr sz="8000"/>
            </a:br>
            <a:br>
              <a:rPr sz="3200"/>
            </a:br>
            <a:r>
              <a:rPr b="0" lang="zh-CN" sz="3200" spc="-1" strike="noStrike">
                <a:solidFill>
                  <a:srgbClr val="ff00ff"/>
                </a:solidFill>
                <a:latin typeface="Tahoma"/>
                <a:ea typeface="华文行楷"/>
              </a:rPr>
              <a:t>              </a:t>
            </a:r>
            <a:r>
              <a:rPr b="0" lang="zh-CN" sz="8000" spc="-1" strike="noStrike">
                <a:solidFill>
                  <a:srgbClr val="ff00ff"/>
                </a:solidFill>
                <a:latin typeface="Tahoma"/>
                <a:ea typeface="华文行楷"/>
              </a:rPr>
              <a:t>特别提醒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280" y="1916280"/>
            <a:ext cx="896472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提早出门留余地    交通阻塞善变通磨刀不误砍柴工　备好文具不含糊拿到试卷莫抢答　题目眼熟更小心怯场先缓一口气　回过神来再答题先易后难解试题　尽量做到不留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268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2923920"/>
            <a:ext cx="59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Tahoma"/>
                <a:ea typeface="华文行楷"/>
              </a:rPr>
              <a:t>高考抢分</a:t>
            </a:r>
            <a:r>
              <a:rPr b="0" lang="zh-CN" sz="6600" spc="-1" strike="noStrike">
                <a:solidFill>
                  <a:srgbClr val="ff00ff"/>
                </a:solidFill>
                <a:latin typeface="Tahoma"/>
                <a:ea typeface="华文行楷"/>
              </a:rPr>
              <a:t>要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5521320"/>
            <a:ext cx="91440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9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64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方正姚体"/>
                <a:ea typeface="方正姚体"/>
              </a:rPr>
              <a:t>进入考场莫心慌，适度紧张极正常，</a:t>
            </a:r>
            <a:br>
              <a:rPr sz="4000"/>
            </a:br>
            <a:r>
              <a:rPr b="1" lang="zh-CN" sz="4000" spc="-1" strike="noStrike">
                <a:solidFill>
                  <a:srgbClr val="ff00ff"/>
                </a:solidFill>
                <a:latin typeface="方正姚体"/>
                <a:ea typeface="方正姚体"/>
              </a:rPr>
              <a:t>看清题目再下笔，先易后难巧安排。</a:t>
            </a:r>
            <a:br>
              <a:rPr sz="4000"/>
            </a:br>
            <a:r>
              <a:rPr b="1" lang="zh-CN" sz="4000" spc="-1" strike="noStrike">
                <a:solidFill>
                  <a:srgbClr val="ff00ff"/>
                </a:solidFill>
                <a:latin typeface="方正姚体"/>
                <a:ea typeface="方正姚体"/>
              </a:rPr>
              <a:t>易题切莫丢分数，难题力争不空白。</a:t>
            </a:r>
            <a:br>
              <a:rPr sz="4000"/>
            </a:br>
            <a:r>
              <a:rPr b="1" lang="zh-CN" sz="4000" spc="-1" strike="noStrike">
                <a:solidFill>
                  <a:srgbClr val="ff00ff"/>
                </a:solidFill>
                <a:latin typeface="方正姚体"/>
                <a:ea typeface="方正姚体"/>
              </a:rPr>
              <a:t>答题规范多拿分，条理清楚是关键。</a:t>
            </a:r>
            <a:br>
              <a:rPr sz="4000"/>
            </a:br>
            <a:r>
              <a:rPr b="1" lang="zh-CN" sz="4000" spc="-1" strike="noStrike">
                <a:solidFill>
                  <a:srgbClr val="ff00ff"/>
                </a:solidFill>
                <a:latin typeface="方正姚体"/>
                <a:ea typeface="方正姚体"/>
              </a:rPr>
              <a:t>计算单位要统一，切莫未知当已知。</a:t>
            </a:r>
            <a:br>
              <a:rPr sz="4000"/>
            </a:br>
            <a:r>
              <a:rPr b="1" lang="zh-CN" sz="4000" spc="-1" strike="noStrike">
                <a:solidFill>
                  <a:srgbClr val="ff00ff"/>
                </a:solidFill>
                <a:latin typeface="方正姚体"/>
                <a:ea typeface="方正姚体"/>
              </a:rPr>
              <a:t>书写准确不笔误，得出结果要分析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5519880"/>
            <a:ext cx="914400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67280" y="2349360"/>
            <a:ext cx="4689360" cy="3875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067280" y="2351160"/>
            <a:ext cx="4689360" cy="3862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067280" y="2349360"/>
            <a:ext cx="4689360" cy="3875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038480" y="2362320"/>
            <a:ext cx="4689720" cy="3875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908280"/>
            <a:ext cx="57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同学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扬起自信的风帆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勇敢面对挑战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425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925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825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725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35640" y="4205160"/>
            <a:ext cx="3708360" cy="2652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54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一、充满自信进考场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48428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新魏"/>
              </a:rPr>
              <a:t>信心充盈永远是高考成功的最大筹码。每一位考生都应该这样积极暗示自己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2708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高考临场与平时考试一样，没什么可担忧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21040" y="508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我能成功，我一定能成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6480" y="429264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只要把平时学会的都答出来就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是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30200" y="3500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别人都不紧张，我若紧张不就太可笑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40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500"/>
                            </p:stCondLst>
                            <p:childTnLst>
                              <p:par>
                                <p:cTn id="46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6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100"/>
                            </p:stCondLst>
                            <p:childTnLst>
                              <p:par>
                                <p:cTn id="58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6000"/>
          </a:blip>
          <a:srcRect l="0" t="4402" r="0" b="0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8352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开考前有意识地去想想主干知识与重要定律，使思绪专注在学科之中，这样不仅能避免“杂念”在发卷前侵入大脑，且会帮你及时进入状态。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提醒自己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：虽说开考时总会心慌那么一阵子，一旦做出几道题之后，情绪便会立马平稳下来。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765000"/>
            <a:ext cx="7058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二、开考前学会给自己预热</a:t>
            </a:r>
            <a:r>
              <a:rPr b="0" lang="zh-CN" sz="4400" spc="-1" strike="noStrike">
                <a:solidFill>
                  <a:srgbClr val="ff66ff"/>
                </a:solidFill>
                <a:latin typeface="华文新魏"/>
                <a:ea typeface="华文新魏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2637000"/>
            <a:ext cx="849636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           诚望大家记住四句话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冷静思考寻找感觉，大胆猜测完整认定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选项仔细作答缜密，一旦确认不再回首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循序渐进步步向前，依据实力灵活跳跃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心态坦然发挥正常，沉着应战节省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1268280"/>
            <a:ext cx="518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三、高考当平时，</a:t>
            </a:r>
            <a:br>
              <a:rPr sz="4400"/>
            </a:br>
            <a:r>
              <a:rPr b="0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               答卷如练习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36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287208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　</a:t>
            </a:r>
            <a:r>
              <a:rPr b="0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考场上遇到难题，你可暗示自己：“要难都难，大家一块难，慌什么！”每当这个时候，谁能稳住自己谁就会以好的状态继续前行，谁心慌谁就会发挥失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          </a:t>
            </a:r>
            <a:r>
              <a:rPr b="0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此外，面对难题，亦可采取“退而求其次”的策略：能做几步就尽力做几步。如果该难题在短时间内“拿”不下来，还可采用绕过难题“回头再说”的办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69228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四、遭遇难题，要作冷静思考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4543560"/>
            <a:ext cx="3295800" cy="2314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92360" y="1485720"/>
            <a:ext cx="7234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要镇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误已成事实，内疚于事无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要豁达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“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城一池”得失不定输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要理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考场不问对与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切换准备下一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此乃明智之举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49360"/>
            <a:ext cx="792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五、大考失误常有，大将风度面对</a:t>
            </a:r>
            <a:r>
              <a:rPr b="0" lang="zh-CN" sz="4400" spc="-1" strike="noStrike">
                <a:solidFill>
                  <a:srgbClr val="ff66ff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1950480"/>
            <a:ext cx="856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特别提醒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每年高考，总有许多考生因为情绪紧张而造成自我感觉“失常”，常常以为自己某一科考得奇差无比，然而分数出来后结果却并非如此。所以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在考试期间，不要去判断考试情况。</a:t>
            </a:r>
            <a:r>
              <a:rPr b="0" lang="zh-CN" sz="1800" spc="-1" strike="noStrike">
                <a:solidFill>
                  <a:srgbClr val="99ff99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92720" y="2057400"/>
            <a:ext cx="2951280" cy="4629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4062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900000" y="3933720"/>
            <a:ext cx="720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仿宋"/>
              </a:rPr>
              <a:t>考场心理暗示秘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仿宋"/>
              <a:ea typeface="华文仿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7:04:55Z</dcterms:created>
  <dc:creator>xuyp</dc:creator>
  <dc:description/>
  <cp:keywords>主题班会课件(分28大类): http://shop62905894.taobao.com</cp:keywords>
  <dc:language>en-US</dc:language>
  <cp:lastModifiedBy>User</cp:lastModifiedBy>
  <dcterms:modified xsi:type="dcterms:W3CDTF">2013-04-13T14:58:33Z</dcterms:modified>
  <cp:revision>83</cp:revision>
  <dc:subject>主题班会课件(分28大类): http://shop62905894.taobao.com</dc:subject>
  <dc:title>主题班会课件(分28大类): http://shop62905894.taobao.com</dc:title>
</cp:coreProperties>
</file>