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482-E983-44D0-B529-1ABBD9C4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229-E5AF-48C8-8AD6-1CBCFEF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99B-200A-4957-A2F1-96C09A63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45E-F803-40A5-9352-0EA40226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D3B-6710-4745-9E6D-02CF90B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A56-BD40-4033-BABB-E369C66E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E70-AFBA-4B33-AFC0-AE5DEE72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58B-C496-4D06-AD3E-46697B8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4E7-219B-4C60-B21F-A61BE322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554-A46B-48E1-9627-1B3A207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EA6-3623-4D14-9121-93AA086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268-64FF-44DD-BEF4-756752F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5A55-FA7A-479D-B9DB-00899A62CB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i.baidu.com/yanfanlong/album/item/f6fc4124ac883b3c8644f9fc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i.baidu.com/cniw/album/item/1d0eb145777a5a2bcefca3c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abaoku.com/sucai/dongwu/benma/web/013am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0310116.com/index.php/info_13487_2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河南宏力学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刘向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37492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23749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37492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237492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3749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237492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4360" y="2374920"/>
            <a:ext cx="15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7960" y="2389320"/>
            <a:ext cx="148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沉着冷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镇定从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坚持到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决不言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61680" y="404640"/>
            <a:ext cx="16426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王者风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84720" y="-65160"/>
            <a:ext cx="31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阿弥陀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如来佛祖保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24200" y="247680"/>
            <a:ext cx="32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阿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主耶稣保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56000" y="11592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安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真主穆罕默德保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71840" y="306360"/>
            <a:ext cx="32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星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心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79480" y="360360"/>
            <a:ext cx="29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马到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124760" y="430200"/>
            <a:ext cx="8506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一飞冲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50880" y="220500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宏力学校——永远的温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90440" y="-27000"/>
            <a:ext cx="952488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920" y="2556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一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永远的纯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临考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休息时间不能增加太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要保持稳定的作息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饮食不宜突然增加营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天保持适量体育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高度重视饮食身体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准备好眼镜文具等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兴奋点调整为高考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通过想象强化成功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6680" y="209088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二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活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2680" y="42372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三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勤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71760" y="8100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三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攀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87600" y="512640"/>
            <a:ext cx="47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高三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班——永远的放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临考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天都要有必要的动手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研读内化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0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年各科高考真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翻阅思考琢磨各科纠错笔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重在回忆浏览过电影式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天想象进入各科应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熟悉考时的用笔和学习用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静心专心信心平常心从容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日白天：熟悉考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所在考场离居住地点有多远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用什么方式抵达比较迅速安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在路上要花多少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己在哪个教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己在哪个座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考桌状况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与自己原有的学习环境有哪些相同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厕所及其他服务设施在哪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日夜：睡个好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尽量像平时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可以散步、轻微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晚饭后不可喝茶或咖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睡前可以看会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绝不要提前睡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不可随意喝安眠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睡不着的时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物理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睡前洗热水澡，热水泡脚，喝热牛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白云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想象自己躺在一块草坪上，头顶上是一片蓝天，想象大片白云，厚厚的，白白的，然后它慢慢落在你身上。现在就想象你被白云包裹着，你的身体跟着白云慢慢向上飘，感觉自己越来越轻，忽忽悠悠，越来越轻，浑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海浪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想象躺在海边，蓝色大海，金色沙滩，躺在沙滩上，感觉到下面软软的、细细的、热热的。太阳照在你的身上，感觉全身温暖；然后再感觉海浪铺天盖地，你会感到海水很凉，也会感到很咸；然后海浪慢慢退下去，然后又上来，就这样反复的。这叫做精神按摩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数数疗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要这样来数，要慢一点，一下一下，最快也就不超过一秒钟，一、二、三、四、五，然后就不要再往下数，倒过来数五、四、三、二、一，按照很慢的节奏。这样单调的刺激，你会不感到累，不会着急。如果你不停地数下去，你要数到几千几百几十，你的脑子会越来越兴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闭眼强睡法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只要闭上眼睛，就会断断续续睡很多觉。即使觉得一晚没睡觉，第二天考试也不会受很多影响，因为大脑潜力很大，二十几个小时不睡觉，照样可以工作，你不会因为前一夜没有睡好觉，就考不好试，这是不可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日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早饭四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干净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份量适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能量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易于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饮水两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量不宜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可喝冰镇饮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衣着两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宜穿新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穿平时喜欢的旧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8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点以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0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和别人讨论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听别人议论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再去想已考学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轻松有技巧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翻阅下一学科笔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坚持到最后一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32:25Z</dcterms:created>
  <dc:creator>番茄花园</dc:creator>
  <dc:description/>
  <dc:language>en-US</dc:language>
  <cp:lastModifiedBy>User</cp:lastModifiedBy>
  <dcterms:modified xsi:type="dcterms:W3CDTF">2013-04-13T15:09:38Z</dcterms:modified>
  <cp:revision>1</cp:revision>
  <dc:subject/>
  <dc:title>幻灯片 1</dc:title>
</cp:coreProperties>
</file>