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2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469-D8A0-4DDA-A737-CA5E20DD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DE4-F8C7-4FF4-BE5B-D6729B7B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74B-2B0F-4D2B-AB49-F78B80DA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AAC-F124-40C4-AE57-7AF178FB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6FC-0BEB-4749-A3FE-DFB2D99F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63A-7CD2-4F2F-8399-656A7CBE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0F0-5569-4819-A57A-502EE8B6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B8E-EC6D-4C68-A2DA-F0BADBE3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C7C-4676-4B1F-B9F8-E9431458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8E65-283F-428D-8CAD-06014B94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C8E-8EE7-4D67-BE34-F0D25F40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A60-8997-4F3F-B576-DE95AAB8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9EDA-F30A-4F8F-B63A-7B317E4580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1416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99"/>
                </a:solidFill>
                <a:latin typeface="Arial"/>
                <a:ea typeface="华文新魏"/>
              </a:rPr>
              <a:t>我们年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6699"/>
                </a:solidFill>
                <a:latin typeface="Arial"/>
              </a:rPr>
              <a:t>我们年轻，我们有青春的激昂；我们向往“海阔凭鱼跃，天高任鸟飞”的所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6699"/>
                </a:solidFill>
                <a:latin typeface="Arial"/>
              </a:rPr>
              <a:t>那么，一路风雨走过来，应该有所选择，有所放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6699"/>
                </a:solidFill>
                <a:latin typeface="Arial"/>
              </a:rPr>
              <a:t>在心灵的驿站休息时，不妨检查一下自己的行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76520" y="2432160"/>
            <a:ext cx="5715000" cy="4425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63160" y="99072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、要有目标和追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66880" y="2389320"/>
            <a:ext cx="4572000" cy="4468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27360" y="1143000"/>
            <a:ext cx="440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、经常保持微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79640" y="131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3228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715000" cy="3989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47920" y="114300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、学会和别人一块分享喜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乐于助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58672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并保持自己的一颗童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3440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学会和各种人愉快的相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6386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380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保持幽默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要能处乱不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2485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学会宽恕他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有几个知心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3880" y="217188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350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因为我们年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352680"/>
            <a:ext cx="6019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因为我们 年轻，年轻不应该平平淡淡，年轻是跳动的火焰，激情燃烧是唯一的语言和豪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3803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常和别人保持合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从中获得乐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35845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享受你的天伦之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81080" y="192420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保持高度的自信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880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尊重弱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1496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有空来家中坐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33720" y="2819520"/>
            <a:ext cx="571500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238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558145"/>
                </a:solidFill>
                <a:latin typeface="Arial"/>
                <a:ea typeface="方正姚体"/>
              </a:rPr>
              <a:t>一朵成功的花都是由许多苦雨   血泥和强烈的暴风雨的环境培养成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581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58145"/>
                </a:solidFill>
                <a:latin typeface="Arial"/>
                <a:ea typeface="方正姚体"/>
              </a:rPr>
              <a:t>                       —</a:t>
            </a:r>
            <a:r>
              <a:rPr b="1" lang="zh-CN" sz="3600" spc="-1" strike="noStrike">
                <a:solidFill>
                  <a:srgbClr val="558145"/>
                </a:solidFill>
                <a:latin typeface="Arial"/>
                <a:ea typeface="方正姚体"/>
              </a:rPr>
              <a:t>冼星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581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58145"/>
                </a:solidFill>
                <a:latin typeface="Arial"/>
                <a:ea typeface="方正姚体"/>
              </a:rPr>
              <a:t>       </a:t>
            </a:r>
            <a:r>
              <a:rPr b="1" lang="zh-CN" sz="3600" spc="-1" strike="noStrike">
                <a:solidFill>
                  <a:srgbClr val="558145"/>
                </a:solidFill>
                <a:latin typeface="Arial"/>
                <a:ea typeface="方正姚体"/>
              </a:rPr>
              <a:t>人，只要有一种 信念，有所追求，什么艰苦都能忍受，什么环境也都能适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581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58145"/>
                </a:solidFill>
                <a:latin typeface="Arial"/>
                <a:ea typeface="方正姚体"/>
              </a:rPr>
              <a:t>                          —</a:t>
            </a:r>
            <a:r>
              <a:rPr b="1" lang="zh-CN" sz="3600" spc="-1" strike="noStrike">
                <a:solidFill>
                  <a:srgbClr val="558145"/>
                </a:solidFill>
                <a:latin typeface="Arial"/>
                <a:ea typeface="方正姚体"/>
              </a:rPr>
              <a:t>丁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16621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Arial"/>
              </a:rPr>
              <a:t>如果没有翅膀，就和梦一起飞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56768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99"/>
                </a:solidFill>
                <a:latin typeface="Arial"/>
                <a:ea typeface="楷体_GB2312"/>
              </a:rPr>
              <a:t>理想是需要的，是我们前进的方向，反过来也必须从现实的努力中才能实现理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99"/>
                </a:solidFill>
                <a:latin typeface="Arial"/>
                <a:ea typeface="楷体_GB2312"/>
              </a:rPr>
              <a:t>                     ——</a:t>
            </a:r>
            <a:r>
              <a:rPr b="0" lang="zh-CN" sz="3600" spc="-1" strike="noStrike">
                <a:solidFill>
                  <a:srgbClr val="ff6699"/>
                </a:solidFill>
                <a:latin typeface="Arial"/>
                <a:ea typeface="楷体_GB2312"/>
              </a:rPr>
              <a:t>周恩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743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66680"/>
            <a:ext cx="7848720" cy="48006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过去的我们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是甜蜜的负担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今后的我们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将甜蜜负担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226280" y="5384880"/>
            <a:ext cx="191772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的未来不是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三是我们高中生活的最关键的一年，它必将是我们人生中最美好的珍藏，我们静下心来，背起“勤奋”“自信”“坚持”“互助”的行囊，就一定能战胜一切困难。高考不会压倒我们，只要我们树立信心，把握自己，超越曾经，“我们的未来不是梦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Arial"/>
                <a:ea typeface="华文行楷"/>
              </a:rPr>
              <a:t>高三的道路是不平坦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99ff"/>
                </a:solidFill>
                <a:latin typeface="华文新魏"/>
                <a:ea typeface="华文新魏"/>
              </a:rPr>
              <a:t>谁要是怕走这崎岖的山道，谁就只好留在山下</a:t>
            </a:r>
            <a:r>
              <a:rPr b="0" lang="zh-CN" sz="4800" spc="-1" strike="noStrike">
                <a:solidFill>
                  <a:srgbClr val="ffcc00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" dur="1" fill="hold"/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行楷"/>
              </a:rPr>
              <a:t>感悟高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      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高三，需要一份如水的心境，如山的意志，如火的热情，决不退缩，决不低头，决不畏惧，决不言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    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高三，我们要把高傲的忍耐置于心中，我们辛酸的工作不白费，崇高理想的追求不会落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20600"/>
            <a:ext cx="777240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600" spc="-1" strike="noStrike">
              <a:solidFill>
                <a:srgbClr val="ff0000"/>
              </a:solidFill>
              <a:latin typeface="Arial"/>
              <a:ea typeface="华文行楷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实高三不应该是痛苦的，应是充满欢笑和热情的，为自己的前途而奋斗。高三，在欢笑和汗水中挥洒青春，在勤奋和热情中迈向明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三是我们生命中不可多得的一份财富。我们应该珍惜这虽苦却乐在最后的美好时光。跨过这道门槛，外面的世界将精彩纷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痛并快乐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69200" y="304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ahoma"/>
                <a:ea typeface="华文行楷"/>
              </a:rPr>
              <a:t>感悟高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MingLiU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MingLiU"/>
              </a:rPr>
              <a:t>有坎坷，而后有攀登者的快乐，有挫折，而后有奋斗者的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MingLiU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MingLiU"/>
              </a:rPr>
              <a:t>苦难是磨练意志和力量的砺石。有志者用奋斗的汗水淘尽了挫折的泥沙，留下一颗闪光的金粒，那就是成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99072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努力吧！成功会属于你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既然我们选择了远方，就应该抛弃“烦躁”，留下“平心静气”，直面高三“痛并快乐”的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既然我们相信“阳光总在风雨后”，就应该抛弃“虎头蛇尾”，背起“坚持忍耐”到达自己远方的天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既然我们大家一起走来 ，我们应该手拉着手，互相鼓励，互相帮助，一起欣赏明日的霞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3560" y="304920"/>
            <a:ext cx="423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99"/>
                </a:solidFill>
                <a:latin typeface="Times New Roman"/>
                <a:ea typeface="华文行楷"/>
              </a:rPr>
              <a:t>有所选择  有所放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914400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良好的自我形象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开放、客观、肯定自己、悦纳自己、自信、自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健康的情绪情感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绪稳定、坦率、自然、乐观、有调适能力，能满足合理的自我需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、协调的人际关系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待人真诚，尊重宽容，坦诚相处，能沟通，拥有良好的人际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正常的智能状态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智力正常、思维敏捷，有自我洞察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ff00"/>
                </a:solidFill>
                <a:latin typeface="华文新魏"/>
                <a:ea typeface="华文新魏"/>
              </a:rPr>
              <a:t>、整合的人格品质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行一致，表里如一，乐观的人生态度，幽默感、创造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积极的社会适应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勇于改变，灵活有弹性，合理评估现实，客观面对现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46640" y="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华文新魏"/>
              </a:rPr>
              <a:t>心理健康的标志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86200" y="380880"/>
            <a:ext cx="4800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用无可消逝的心书写饱满却不真实的梦境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在我的幸福来到之前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中的冰棒上出现了仙女的花田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那一刻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芳草萋迷的香气围绕着我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小心翼翼的仰起脸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在真正云淡风轻的日子里…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-&lt;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幸福的味道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3933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快乐的十八种技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5:25:02Z</dcterms:created>
  <dc:creator>微软用户</dc:creator>
  <dc:description/>
  <cp:keywords>主题班会课件(分28大类): http://shop62905894.taobao.com</cp:keywords>
  <dc:language>en-US</dc:language>
  <cp:lastModifiedBy>User</cp:lastModifiedBy>
  <dcterms:modified xsi:type="dcterms:W3CDTF">2013-04-13T15:26:54Z</dcterms:modified>
  <cp:revision>1</cp:revision>
  <dc:subject>主题班会课件(分28大类): http://shop62905894.taobao.com</dc:subject>
  <dc:title>主题班会课件(分28大类): http://shop62905894.taobao.com</dc:title>
</cp:coreProperties>
</file>