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4CC-6228-4E85-976A-3CFB9999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895-54BE-4369-9BF7-6A40789A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B0-CB7D-4B97-A2FF-A2EFEFA7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0ED-6349-4D2D-BBDD-9A21072E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0EE-5A8C-486A-95AC-451C827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43D-7A1E-4932-B3B5-0C50EB0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3FD-7445-4837-9D3C-E976FA9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627-B24F-4699-985E-FE14B643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A6E-A110-44F4-8710-1BA4DD6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D11-EEB1-458A-B0F9-0E0F8E6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33F-73AD-4DCF-95CA-D5426E9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31E-828D-48B3-8CD1-E8966C5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2D46-1527-4C20-8FB3-7BA981D7B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09680"/>
            <a:ext cx="6858000" cy="8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让优秀成为一种习惯</a:t>
            </a:r>
            <a:endParaRPr b="1" lang="en-US" sz="6000" spc="1" strike="noStrike">
              <a:ln w="12600">
                <a:solidFill>
                  <a:srgbClr val="00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44197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---------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高三（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说过五步学习法吗？你不妨试试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，课前自学，对于不理解的地方做好标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步，课堂领悟，掌握基本原理的来龙去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步，课后回顾，加深课堂理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步，检验巩固，做到脱离课本，独立思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五步，经常总结，能够用自己的语言表述所学的知识并加以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也是学习的基本过程，问问自己，有没有做到？千万不要小看这几个步骤，也不要怕麻烦，这是无数成功学子的经验之谈。要知道，一旦你坚持这样做了，你就是已经在转动“飞轮”，接下来的学习就会变得高效而轻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学习？简单一句话，就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养成习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找到令自己满意的方法，并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坚持下去，成为习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你就过了第二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三关：你需要不断调整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都有自己的梦想，在梦想中描绘着自己的将来的生活。开始时，我们会满腔热情。然而“事情永远不会百分之百地像我们预计的那样”，总会遇到种种问题，你一旦屈服、妥协，刚刚“旋转的飞轮”就会慢慢停止转动，直到有一天，你无奈地发现梦想和现实是那么的遥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，都有很多架飞机从我们头顶飞过，飞机上的乘客也坚信他们会到达自己的目的地。然而，你知道吗？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5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飞行时间里，飞机都是偏离航道飞行的，也就是说，没有人控制，飞机几乎一起飞就偏离了航道。区别就在于飞机是由飞行员负责方向的。飞行员有预定的目标，他清楚飞机会被气流吹得偏离航道，所以他监控着飞机的飞行方向，不时地进行调整，最终到达他的目的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也是这样，你所要做的不过是不断地调整自己——向着自己预定的方向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确，优秀是一种习惯，但，首先，你必须习惯于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关：是什么阻碍着我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是惰性，是缺乏勇气，还是不够自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关：找到适合自己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课前自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课堂领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课后回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检验巩固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经常总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关：你需要不断调整自己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925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925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925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1925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1925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155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1155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1155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1155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3520" y="2514600"/>
            <a:ext cx="8191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让优秀成为高三（</a:t>
            </a:r>
            <a:r>
              <a:rPr b="1" lang="en-US" sz="4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3</a:t>
            </a:r>
            <a:r>
              <a:rPr b="1" lang="zh-CN" sz="4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）的习惯！</a:t>
            </a:r>
            <a:endParaRPr b="1" lang="en-US" sz="4800" spc="1" strike="noStrike">
              <a:ln w="12600">
                <a:solidFill>
                  <a:srgbClr val="00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一定熟悉这样的现象：骑自行车的时候，刚开始是不是很费力气？而一旦骑起来以后，就会感到轻松多了。汽车在发动的时候很慢的，而后速度会越来越快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就是“飞轮效应”。为了使静止的飞轮转动起来，一开始我们必须使很大的力气，一圈一圈反复地推，每转一圈都很费力，但是每一圈的努力都不会白费，飞轮会转动得越来越快。达到某一临界点后，你无须再费更大的力气，飞轮依旧会快速转动，而且不停地转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每个人都想出色，都想让自己发展得更快些，但却往往输在起点上。正如“飞轮效应”一样，一开始我们必须付出数倍的努力，而你一旦开始，就会有一定的惯性推动着你去行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希腊哲学家亚里士多德说“优秀是一种习惯”而要想让优秀成为一种习惯。你需要通过下面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三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一关：是什么阻碍着我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轮一开始转动是很困难的，那么是什么阻碍着？看看下面的故事吧，或许能给我们一些启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6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懒惰的年轻人，四处寻访能够克服凡事提不起劲的原因，最后终于找到一位大师。大师听完年轻人的来意后，便带着他来到一个火车头旁边。大师将一个木块卡住火车头的轮子，然后让年轻人启动火车。蒸汽火车头马力已全部开启了，可是火车头就是不动。接着，大师拿起了木块，火车头立即动了起来，缓缓加速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师笑着对年轻人说“就这个小小的木块，让这个时速可达一百公里以上的火车头寸步难行。年轻人，你内心的火车头被什么样的小木块阻挡住了呢？除了你自己之外，没有任何人能帮你拿掉你的惰性，当然也包括我在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人听了大师的话，内心大受震撼。从此以后，他不断地行动，决不让自己停顿下来，不仅克服了自己的惰性，更创造了无比惊人的庞大的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呀，又是什么挡住了我们追求卓越的道路？是惰性，是缺乏勇气，还是不够自信？你把挡住自己的小木块拿掉了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是这样，那么，恭喜你，你已通过了第一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二关：找到适合自己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不会像转动飞轮那样简单，更需要智慧和毅力，你需要找到适合自己的一套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主题班会课件(分28大类): http://shop62905894.taobao.com</cp:keywords>
  <dc:language>en-US</dc:language>
  <cp:lastModifiedBy>User</cp:lastModifiedBy>
  <dcterms:modified xsi:type="dcterms:W3CDTF">2013-04-13T14:39:44Z</dcterms:modified>
  <cp:revision>1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