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gif" ContentType="image/gif"/>
  <Override PartName="/ppt/media/image10.jpeg" ContentType="image/jpeg"/>
  <Override PartName="/ppt/media/image28.jpeg" ContentType="image/jpeg"/>
  <Override PartName="/ppt/media/image34.jpeg" ContentType="image/jpeg"/>
  <Override PartName="/ppt/media/image18.gif" ContentType="image/gif"/>
  <Override PartName="/ppt/media/image13.jpeg" ContentType="image/jpeg"/>
  <Override PartName="/ppt/media/image8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5.png" ContentType="image/png"/>
  <Override PartName="/ppt/media/image33.jpeg" ContentType="image/jpeg"/>
  <Override PartName="/ppt/media/image6.png" ContentType="image/png"/>
  <Override PartName="/ppt/media/image7.jpeg" ContentType="image/jpeg"/>
  <Override PartName="/ppt/media/image5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15.jpeg" ContentType="image/jpeg"/>
  <Override PartName="/ppt/media/image16.png" ContentType="image/png"/>
  <Override PartName="/ppt/media/image17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BA7-5986-431A-874E-AE9C2B5A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910-CEAD-4396-8BD8-0FEA91FC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072-4F78-499B-B77F-4C571091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D5A-5F34-49A7-ABA6-D8653858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3F5-C481-44C6-B79C-04C52E79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68F-2837-4E27-A7C0-59429040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38A-744A-4A2F-8CCC-CA87339E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B8F-E25D-4900-BC3D-DE24D235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6E3-692B-419D-9137-F1C742ED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8C8-5840-460E-9F82-4EB8C2D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53C-D6EB-4B90-980E-DDA2E90F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A77-8699-4515-A84C-B137BA01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CFFC-3A05-4BD1-A27E-D4B629A0D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2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.pn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8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1484280"/>
            <a:ext cx="43941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df1c07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中宋"/>
              </a:rPr>
              <a:t>梦想照进现实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df1c07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3" name=""/>
          <p:cNvSpPr/>
          <p:nvPr/>
        </p:nvSpPr>
        <p:spPr>
          <a:xfrm>
            <a:off x="4608360" y="501336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5396"/>
                </a:solidFill>
                <a:latin typeface="Arial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e75396"/>
                </a:solidFill>
                <a:latin typeface="Arial"/>
                <a:ea typeface="华文行楷"/>
              </a:rPr>
              <a:t>高三（４）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5892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1500" autoRev="1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17136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7640" y="476280"/>
            <a:ext cx="4248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华文彩云"/>
              </a:rPr>
              <a:t>家庭组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一个家庭里，有一个人是祖父，一个是祖母，两个是爸爸，两个是妈妈，四个是孩子，三个是孙子（女），一个哥哥，两个是妹妹，两个是儿子，两个是女儿，一个是岳父，一个是岳母，还有一个是媳妇。如果一共只有三代人，那这个家庭到底有多少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4365720"/>
            <a:ext cx="38163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共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个人：一对夫妻、他们的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个孩子（两女一男）以及丈夫的父亲和母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810240" cy="5950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0" y="580536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华文彩云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24480" y="5238720"/>
            <a:ext cx="4619520" cy="16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692280"/>
            <a:ext cx="46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朋友一生一起走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那些日子不再有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一句话一辈子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一生情一杯酒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朋友不曾孤单过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一声朋友你会懂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还有伤还有痛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还要走还有我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5300640"/>
            <a:ext cx="74880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在剩下的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28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天里，让我们一起微笑着度过眼前的难关！！谁也不抛弃谁。高三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班与我们同进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692360" y="3213000"/>
            <a:ext cx="69850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扬帆吧！！启程到成功彼岸！！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3646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177336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4149720"/>
            <a:ext cx="734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5396"/>
                </a:solidFill>
                <a:latin typeface="Arial"/>
                <a:ea typeface="华文行楷"/>
              </a:rPr>
              <a:t>十八岁，是个追梦的季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5396"/>
                </a:solidFill>
                <a:latin typeface="Arial"/>
                <a:ea typeface="华文行楷"/>
              </a:rPr>
              <a:t>十八岁，是个不需等待的年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5440" y="2708280"/>
            <a:ext cx="14212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5334d8"/>
                </a:solidFill>
                <a:latin typeface="Arial"/>
                <a:ea typeface="隶书"/>
              </a:rPr>
              <a:t>有位哲人说过，世界上一切的成功，一切的财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34d8"/>
                </a:solidFill>
                <a:latin typeface="Arial"/>
                <a:ea typeface="隶书"/>
              </a:rPr>
              <a:t>都始于一个意念，始于我们心中的梦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35280" y="765000"/>
            <a:ext cx="583236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大声地喊出你的梦想吧！！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3049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4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67440" y="0"/>
            <a:ext cx="3076560" cy="242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43280" y="1700280"/>
            <a:ext cx="5543640" cy="3411360"/>
          </a:xfrm>
          <a:prstGeom prst="cloudCallout">
            <a:avLst>
              <a:gd name="adj1" fmla="val -46504"/>
              <a:gd name="adj2" fmla="val 45393"/>
            </a:avLst>
          </a:prstGeom>
          <a:solidFill>
            <a:srgbClr val="ebb3e0">
              <a:alpha val="17000"/>
            </a:srgbClr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95640" y="2565360"/>
            <a:ext cx="36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我的目标是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...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651640" y="5229360"/>
            <a:ext cx="3024000" cy="106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651640" y="5229360"/>
            <a:ext cx="3024000" cy="1092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796000" y="5229360"/>
            <a:ext cx="2736720" cy="8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724360" y="5229360"/>
            <a:ext cx="2808360" cy="993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5508720" y="5232240"/>
            <a:ext cx="3024000" cy="100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508720" y="5300640"/>
            <a:ext cx="295092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5508720" y="5300640"/>
            <a:ext cx="2950920" cy="944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3"/>
          <a:stretch/>
        </p:blipFill>
        <p:spPr>
          <a:xfrm>
            <a:off x="5435640" y="5300640"/>
            <a:ext cx="30240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4"/>
          <a:stretch/>
        </p:blipFill>
        <p:spPr>
          <a:xfrm>
            <a:off x="435600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5"/>
          <a:stretch/>
        </p:blipFill>
        <p:spPr>
          <a:xfrm>
            <a:off x="5435640" y="5300640"/>
            <a:ext cx="302400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6"/>
          <a:stretch/>
        </p:blipFill>
        <p:spPr>
          <a:xfrm>
            <a:off x="5580000" y="5300640"/>
            <a:ext cx="280836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00720" y="522936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83960" y="2894400"/>
            <a:ext cx="4546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916280"/>
            <a:ext cx="4356000" cy="4725720"/>
          </a:xfrm>
          <a:prstGeom prst="wedgeRoundRectCallout">
            <a:avLst>
              <a:gd name="adj1" fmla="val -41981"/>
              <a:gd name="adj2" fmla="val 61217"/>
              <a:gd name="adj3" fmla="val 16667"/>
            </a:avLst>
          </a:prstGeom>
          <a:solidFill>
            <a:srgbClr val="ffffff">
              <a:alpha val="6000"/>
            </a:srgbClr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205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65544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65544"/>
                </a:solidFill>
                <a:latin typeface="Arial"/>
                <a:ea typeface="华文中宋"/>
              </a:rPr>
              <a:t>成功其实很简单。心怀梦想，然后努力经营自己的梦想，不管别人说什么，你都永不放弃。你要坚信：世界上没有什么能被保证，只有我们能梦想的，我们就一定能实现</a:t>
            </a:r>
            <a:r>
              <a:rPr b="1" lang="zh-CN" sz="2800" spc="-1" strike="noStrike">
                <a:solidFill>
                  <a:srgbClr val="f65544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867280" y="458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098920" y="692280"/>
            <a:ext cx="606960" cy="5400720"/>
          </a:xfrm>
          <a:prstGeom prst="rect">
            <a:avLst/>
          </a:prstGeom>
          <a:blipFill rotWithShape="0">
            <a:blip r:embed="rId4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黑体"/>
              </a:rPr>
              <a:t>我们不妨把自己的目标写在台面上，时刻激励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530064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20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种动物如果没有对手，就会变得死气沉沉。同样的，一个人如果没有对手，那他会甘于平庸，养成惰性。一个群体如果没有对手，就会因为相互依赖而丧失活力，丧失生机。拥有一个强劲的对手，是一种福份。因为强劲的对手会让你时刻有种危机四伏的感觉，会激起你更旺盛的精神和斗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407664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方正舒体"/>
              </a:rPr>
              <a:t>在我们班，有你的竞争对手吗？你认为他（她）有什么长处？你有什么是比不上他（她）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067280" y="5805360"/>
            <a:ext cx="4464000" cy="649080"/>
            <a:chOff x="4067280" y="5805360"/>
            <a:chExt cx="4464000" cy="649080"/>
          </a:xfrm>
        </p:grpSpPr>
        <p:sp>
          <p:nvSpPr>
            <p:cNvPr id="81" name=""/>
            <p:cNvSpPr/>
            <p:nvPr/>
          </p:nvSpPr>
          <p:spPr>
            <a:xfrm>
              <a:off x="4067280" y="5805360"/>
              <a:ext cx="647640" cy="649080"/>
            </a:xfrm>
            <a:prstGeom prst="star5">
              <a:avLst/>
            </a:prstGeom>
            <a:blipFill rotWithShape="0">
              <a:blip r:embed="rId3"/>
              <a:srcRect/>
              <a:stretch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83640" y="5805360"/>
              <a:ext cx="647640" cy="649080"/>
            </a:xfrm>
            <a:prstGeom prst="star5">
              <a:avLst/>
            </a:prstGeom>
            <a:blipFill rotWithShape="0">
              <a:blip r:embed="rId4"/>
              <a:srcRect/>
              <a:stretch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07280" y="5805360"/>
              <a:ext cx="647640" cy="649080"/>
            </a:xfrm>
            <a:prstGeom prst="star5">
              <a:avLst/>
            </a:prstGeom>
            <a:blipFill rotWithShape="0">
              <a:blip r:embed="rId5"/>
              <a:srcRect/>
              <a:stretch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22920" y="5805360"/>
              <a:ext cx="648000" cy="649080"/>
            </a:xfrm>
            <a:prstGeom prst="star5">
              <a:avLst/>
            </a:prstGeom>
            <a:blipFill rotWithShape="0">
              <a:blip r:embed="rId6"/>
              <a:srcRect/>
              <a:stretch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3280" y="5805360"/>
              <a:ext cx="648000" cy="649080"/>
            </a:xfrm>
            <a:prstGeom prst="star5">
              <a:avLst/>
            </a:prstGeom>
            <a:blipFill rotWithShape="0">
              <a:blip r:embed="rId7"/>
              <a:srcRect/>
              <a:stretch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3059280" y="5950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9396360" y="620640"/>
            <a:ext cx="33307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55640" y="765000"/>
            <a:ext cx="345600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轻松一刻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00000" y="2492280"/>
            <a:ext cx="235440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思维游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1509480" y="3860640"/>
            <a:ext cx="473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5320" y="3860640"/>
            <a:ext cx="478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54200" y="3860640"/>
            <a:ext cx="470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40240" y="3860640"/>
            <a:ext cx="514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 Black"/>
                <a:hlinkClick r:id="rId5" action="ppaction://hlinksldjump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3095640" cy="360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692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鸡乎？蛋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70028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cd07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cd07f"/>
                </a:solidFill>
                <a:latin typeface="Arial"/>
              </a:rPr>
              <a:t>先有鸡还是先有蛋”，这古老的问题你能回答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3141720"/>
            <a:ext cx="45370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96e0b"/>
                </a:solidFill>
                <a:latin typeface="Arial"/>
              </a:rPr>
              <a:t>蛋。问题并没有问是不是鸡蛋，而是根据古生物研究，恐龙和其他爬行动物早在鸟类出现之前就存在了。数亿年前的蛋化石已经被发现。所以蛋当然比鸡先出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59120" y="55897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华文彩云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3076560" cy="502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333360"/>
            <a:ext cx="532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4646"/>
                </a:solidFill>
                <a:latin typeface="Arial"/>
              </a:rPr>
              <a:t>最后一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假如你是一家科幻小说杂志的编辑，你读到一篇小说是这样开头的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 last man on earth sat alone in his room.Suddenly  there was a knock at the door!”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上的最后一个人独自坐在他的房间里。突然，传来一阵敲门声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你改第一句里的一个词，以强调在敲门前，这个人是地球上唯一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5084640"/>
            <a:ext cx="3816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3cd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可以指人或男人）改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否则，可能是这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一个妻子甚至很多女儿，是她们在敲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6760" y="54673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华文彩云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-17136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907920"/>
            <a:ext cx="410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横摆的火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华文新魏"/>
              </a:rPr>
              <a:t>移动最少的火柴，使之成为一个意义的单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88000" y="3213000"/>
            <a:ext cx="431640" cy="432000"/>
            <a:chOff x="4788000" y="3213000"/>
            <a:chExt cx="431640" cy="432000"/>
          </a:xfrm>
        </p:grpSpPr>
        <p:sp>
          <p:nvSpPr>
            <p:cNvPr id="109" name=""/>
            <p:cNvSpPr/>
            <p:nvPr/>
          </p:nvSpPr>
          <p:spPr>
            <a:xfrm>
              <a:off x="4788000" y="321300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788000" y="3429000"/>
              <a:ext cx="43164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292360" y="3213000"/>
            <a:ext cx="432000" cy="431640"/>
            <a:chOff x="5292360" y="3213000"/>
            <a:chExt cx="432000" cy="431640"/>
          </a:xfrm>
        </p:grpSpPr>
        <p:sp>
          <p:nvSpPr>
            <p:cNvPr id="112" name=""/>
            <p:cNvSpPr/>
            <p:nvPr/>
          </p:nvSpPr>
          <p:spPr>
            <a:xfrm>
              <a:off x="5508360" y="321300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292360" y="3213000"/>
              <a:ext cx="43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92720" y="3644640"/>
              <a:ext cx="43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940360" y="3213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56360" y="3213000"/>
            <a:ext cx="433440" cy="431640"/>
            <a:chOff x="6156360" y="3213000"/>
            <a:chExt cx="433440" cy="431640"/>
          </a:xfrm>
        </p:grpSpPr>
        <p:sp>
          <p:nvSpPr>
            <p:cNvPr id="117" name=""/>
            <p:cNvSpPr/>
            <p:nvPr/>
          </p:nvSpPr>
          <p:spPr>
            <a:xfrm flipH="1">
              <a:off x="6156360" y="3213000"/>
              <a:ext cx="43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227640" y="3213000"/>
              <a:ext cx="36036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6360" y="3644640"/>
              <a:ext cx="43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04000" y="3284640"/>
            <a:ext cx="576000" cy="431640"/>
            <a:chOff x="6804000" y="3284640"/>
            <a:chExt cx="576000" cy="431640"/>
          </a:xfrm>
        </p:grpSpPr>
        <p:sp>
          <p:nvSpPr>
            <p:cNvPr id="121" name=""/>
            <p:cNvSpPr/>
            <p:nvPr/>
          </p:nvSpPr>
          <p:spPr>
            <a:xfrm>
              <a:off x="6804000" y="3284640"/>
              <a:ext cx="5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04000" y="3284640"/>
              <a:ext cx="2462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50240" y="3284640"/>
              <a:ext cx="2462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859280" y="4437000"/>
            <a:ext cx="2737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2720" cy="385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5280" y="501336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74760" y="53244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华文彩云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6:40:56Z</dcterms:created>
  <dc:creator>MC SYSTEM</dc:creator>
  <dc:description/>
  <dc:language>en-US</dc:language>
  <cp:lastModifiedBy>User</cp:lastModifiedBy>
  <dcterms:modified xsi:type="dcterms:W3CDTF">2013-04-13T14:47:58Z</dcterms:modified>
  <cp:revision>13</cp:revision>
  <dc:subject/>
  <dc:title>幻灯片 1</dc:title>
</cp:coreProperties>
</file>