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3FAA-9827-4AE0-9111-DD02BDFA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5AE5-FB5B-48B3-94AA-86F37301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2AA-C1E3-41B0-9573-EF4DE8AE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697-16A2-48A3-AACD-E6C93012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791C-7BFF-40FB-9789-F46C8938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0C37-2703-44D5-BD25-46FB8672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6AF5-8B8B-4BB1-BE74-4D497CF5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900A-274E-4608-BEF6-EA38C5CB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9DB8-EB41-41E4-BD96-DFDBA74B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A709-EAF6-45F2-A139-DAEB9886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4392-6ED4-4C51-816B-A500D771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FECA-2D5B-4437-B5B2-7B207B38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05D1-BC3B-4C78-AF7A-5821F546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84AE-3B24-440D-BC22-280B1444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0248-6B77-4F48-B721-8558517E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0F34-3384-463C-9ECE-AB35701C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A479-F654-4CDE-8792-744B06D8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624-8A03-41CC-B7B8-C85DE851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E22A-BD5C-4B58-BA10-6062C374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25D-8BE9-4043-ABA3-1D0DD6C4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F21-DCBE-4980-A796-2FEC72B0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4DD-3190-4DF3-B907-B14B54AE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2C3-F758-4E23-BB83-4895BF98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7A0-637A-4179-9232-3776267E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CB52-E83C-4931-A46A-F6987F7942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CEE9-2D62-4E1F-873C-4407D3E6D81C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58560" y="1052640"/>
            <a:ext cx="7561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9600" spc="-1" strike="noStrike">
                <a:solidFill>
                  <a:srgbClr val="ffff00"/>
                </a:solidFill>
                <a:latin typeface="华文行楷"/>
                <a:ea typeface="华文行楷"/>
              </a:rPr>
              <a:t>让每一天都变成金子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76360" y="4365720"/>
            <a:ext cx="678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华文行楷"/>
                <a:ea typeface="华文行楷"/>
              </a:rPr>
              <a:t>----</a:t>
            </a:r>
            <a:r>
              <a:rPr b="1" i="1" lang="zh-CN" sz="2800" spc="-1" strike="noStrike">
                <a:solidFill>
                  <a:srgbClr val="66ff33"/>
                </a:solidFill>
                <a:latin typeface="华文行楷"/>
                <a:ea typeface="华文行楷"/>
              </a:rPr>
              <a:t>高三（</a:t>
            </a:r>
            <a:r>
              <a:rPr b="1" i="1" lang="en-US" sz="2800" spc="-1" strike="noStrike">
                <a:solidFill>
                  <a:srgbClr val="66ff33"/>
                </a:solidFill>
                <a:latin typeface="华文行楷"/>
                <a:ea typeface="华文行楷"/>
              </a:rPr>
              <a:t>1</a:t>
            </a:r>
            <a:r>
              <a:rPr b="1" i="1" lang="zh-CN" sz="2800" spc="-1" strike="noStrike">
                <a:solidFill>
                  <a:srgbClr val="66ff33"/>
                </a:solidFill>
                <a:latin typeface="华文行楷"/>
                <a:ea typeface="华文行楷"/>
              </a:rPr>
              <a:t>）期末考前复习动员主题班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692360" y="33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二、仔细制定一个考前复习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1052640"/>
            <a:ext cx="7199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到这时，有些同学就感到焦头烂额，不知道该怎么复习、复习哪科好。我提醒你首先要制定一个临考复习计划，有了这个计划，后期复习任务的完成，才有了具体的时间和空间，也就可以结束忙乱无序的紧张心态，使你的心情平静下来。如果复习没计划，西打一捶，东打一棒，肯定事倍功半。在安排计划时，要考虑以下几个问题：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科老师都有计划，老师经历过很多次考试，肯定比你有经验，要参照老师的计划安排，结合自身情况制订一个既与老师计划一致又符合自己实际的计划来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计划时要把时间划分好。临考前的时间大致分为两部分：一部分归教师支配，一部分归自己支配。在跟着老师复习的时间内一定要力争学会，把它看成是考前的“最后一次”见面，不要再寄希望于以后自己再找时间复习，因为事实上已没有这个“时间”了。在自己支配的学习时间内，要认真安排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86920" y="1125360"/>
            <a:ext cx="762012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三、有效利用复习时间</a:t>
            </a:r>
            <a:br>
              <a:rPr sz="2000"/>
            </a:b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了复习计划，就要有效地利用时间。离期末考试只有三周的时间了，时间对于我们来说相当重要，所以我们要以迎接期末考试的复习为重心。那么怎样才能在有限的时间内做更多的事情？我认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依靠学习技能，可以提高学习效率，这样就能完成更多的任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充分利用往往被浪费或认为无足轻重的小块时间，这样就能获得比别人更多的时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通过自我控制，保持旺盛的战斗力，充满激情的让每一天都变成金子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8560" y="765000"/>
            <a:ext cx="788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四、讲究复习方法，提高复习效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何讲究复习方法，在复习中要突出“四要”和“三练”。“四要”就是：第一，对面知识和概念的来龙去脉要搞清楚。既要注重结果，更要注重过程，以能力立意的试题往往是知识和概念的迁移，只有把过程搞清楚，才能在知识迁移中融会贯通，举一反三。第二，对知识和概念的易混点也就是难点要归纳类比。即要辩别易混点的区别与内在联系，建议同学们尽量找出自己的疑难问题，记录在册，及时找老师和同学解决。第三，对知识和概念的重要问题也就是主干知识要构建学科知识体系。即要归纳总结，经常对知识进行疏理，使学科知识结构网络逐步清晰。第四，对知识和概念的运用要依据学科思维方式去思考和分析，掌握学科的思维方式和思想方法，考试答题规范有序，避免不合符规范而扣分，该得的分没有得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练”就是：一练“审题”与“破题”的方法。要善于在以能力立意的问题中捕捉隐含条件，找到解决问题的关健。二练“开放性”与“多角度”的思维方法，一个问题要善于从多角度多侧面去分析，使知识“迁移”和“再生”。三练“经典题例”，课本上或课堂上老师讲到的典型题例往往是经典的题目，是重难点的剖析，应特别注意分析的思路和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特别提醒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8560" y="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0066ff"/>
                </a:solidFill>
                <a:latin typeface="新宋体"/>
                <a:ea typeface="新宋体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新宋体"/>
                <a:ea typeface="新宋体"/>
              </a:rPr>
              <a:t>、在复习阶段一定要注意各科时间上的合理分配，要齐头并进。一花独秀不是春，百花齐放春满园。各科要均衡发展，每门功课都要复习到位，不能对优势学科掉以轻心，也不能对薄弱学科失去信心。只是不同层次的功课，对你要求各不相同，复习的目标和策略做到相应变化。</a:t>
            </a:r>
            <a:br>
              <a:rPr sz="2800"/>
            </a:br>
            <a:r>
              <a:rPr b="1" lang="en-US" sz="2800" spc="-1" strike="noStrike">
                <a:solidFill>
                  <a:srgbClr val="0066ff"/>
                </a:solidFill>
                <a:latin typeface="新宋体"/>
                <a:ea typeface="新宋体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新宋体"/>
                <a:ea typeface="新宋体"/>
              </a:rPr>
              <a:t>、效率第一，适可而止。效率是成功的关键，追求一定时间内的效率是学习的目标，尤其是课堂效率，课堂是学习的主战场，效率是学习的主线。能一节课完成的任务，决不拖到下一节。能一分钟做完的事决不用两分钟。但劳累决不能过度，决不能学到自己头疼时还学。只要是学到感觉要疼，脑子要管了，就要大胆休息，或变换学习科目及方式</a:t>
            </a:r>
            <a:r>
              <a:rPr b="0" lang="zh-CN" sz="2800" spc="-1" strike="noStrike">
                <a:solidFill>
                  <a:srgbClr val="0066ff"/>
                </a:solidFill>
                <a:latin typeface="新宋体"/>
                <a:ea typeface="新宋体"/>
              </a:rPr>
              <a:t>。</a:t>
            </a:r>
            <a:br>
              <a:rPr sz="2800"/>
            </a:br>
            <a:r>
              <a:rPr b="0" lang="zh-CN" sz="2800" spc="-1" strike="noStrike">
                <a:solidFill>
                  <a:srgbClr val="0066ff"/>
                </a:solidFill>
                <a:latin typeface="新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1989000"/>
            <a:ext cx="568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、互帮互学，共同受益。学习是一个自我完善的过程，也应是一种集体协作的过程。所谓水涨船高，个人成绩的取得，实际上是集体共同进步的结果。好问能使人受益匪浅，多向老师请教，多与同学交流，整天把自己局限于个人狭小的思维空间上，得不偿失。多鼓励同学，鼓舞别人的过程自己也受到了鼓励。高兴了，与同学共享，一个人的快乐变成两个人的快乐；痛苦了，与朋友说说，两个人承担一个痛苦要轻松得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63640" y="620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、任何单一的活动持续时间过长，都会引起人的厌倦疲劳，注意力分散，从而降低学习效率。所以要不断变化学习内容和学习方式，避免单科独进，方法单一，使各科内容的交替进行，耳眼口手脑并用，听说读写算并进，学习方式多样化。换新的方式学习新的内容时，对原有的学习来说实质上就是一种休息，这样高效地利用时间，可以更快更好地获取知识。 </a:t>
            </a:r>
            <a:br>
              <a:rPr sz="2400"/>
            </a:b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、心静如水，别浮躁，贵在坚持。要立志把凳子坐穿。我要说，谁坐到最后，谁就会胜利，谁坚持到最后，谁就会成功。快到考试了，连凳子都坐不住，还想得高分？要有任外边翻江蹈海，我自岿然不动的气魄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32000" y="549360"/>
            <a:ext cx="761976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、集中精力，心无旁骛。我们都学过荀子的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劝学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，其中说到：“蚓无爪牙之利，筋骨之强，上食埃土，下饮黄泉，用心一也。”这里讲的就是学习要专心致志的道理。考前时间不很多了，别在计较那些小事，别把心思用在学习之外的事情上，生气、打架、谈恋爱，都没时间。</a:t>
            </a:r>
            <a:br>
              <a:rPr sz="2400"/>
            </a:b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同学们，考试不难，关键在技巧，技巧不多，关键把握好，发挥技巧，心态更重要，心态好就必须吃好、睡好、玩好、信心好、心情好。当前到了最关键的时刻，一切都在显示我们已进入到考前备战状态。关键的时刻每个同学都要相信自己，顶得住，站得稳，按照学校部署，稳扎稳打，用实际行动去争取本来属于自己的成功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228600"/>
            <a:ext cx="5029200" cy="3200400"/>
          </a:xfrm>
          <a:prstGeom prst="cloudCallout">
            <a:avLst>
              <a:gd name="adj1" fmla="val 45800"/>
              <a:gd name="adj2" fmla="val 511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52280"/>
            <a:ext cx="4419720" cy="3505320"/>
          </a:xfrm>
          <a:prstGeom prst="cloudCallout">
            <a:avLst>
              <a:gd name="adj1" fmla="val 67203"/>
              <a:gd name="adj2" fmla="val 602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同学们：成功在向我们招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加油啊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47640" y="47628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友情提醒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184464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今天距离</a:t>
            </a:r>
            <a:r>
              <a:rPr b="1" lang="zh-CN" sz="4800" spc="-1" strike="noStrike">
                <a:solidFill>
                  <a:srgbClr val="cc0066"/>
                </a:solidFill>
                <a:latin typeface="华文行楷"/>
                <a:ea typeface="华文行楷"/>
              </a:rPr>
              <a:t>无锡市期末统考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仅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2720" y="3341520"/>
            <a:ext cx="59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微软简综艺"/>
                <a:ea typeface="微软简综艺"/>
              </a:rPr>
              <a:t>20</a:t>
            </a:r>
            <a:r>
              <a:rPr b="1" lang="zh-CN" sz="8000" spc="-1" strike="noStrike">
                <a:solidFill>
                  <a:srgbClr val="ff3300"/>
                </a:solidFill>
                <a:latin typeface="微软简综艺"/>
                <a:ea typeface="微软简综艺"/>
              </a:rPr>
              <a:t>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3500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8410"/>
                </a:moveTo>
                <a:lnTo>
                  <a:pt x="8224" y="8410"/>
                </a:lnTo>
                <a:lnTo>
                  <a:pt x="12645" y="3797"/>
                </a:lnTo>
                <a:lnTo>
                  <a:pt x="12645" y="17810"/>
                </a:lnTo>
                <a:lnTo>
                  <a:pt x="8224" y="13197"/>
                </a:lnTo>
                <a:lnTo>
                  <a:pt x="3794" y="13197"/>
                </a:lnTo>
                <a:close/>
              </a:path>
              <a:path fill="darken" w="21600" h="21607">
                <a:moveTo>
                  <a:pt x="14299" y="10804"/>
                </a:moveTo>
                <a:lnTo>
                  <a:pt x="17806" y="10804"/>
                </a:lnTo>
              </a:path>
              <a:path fill="darken" w="21600" h="21607">
                <a:moveTo>
                  <a:pt x="14299" y="8410"/>
                </a:moveTo>
                <a:lnTo>
                  <a:pt x="17806" y="5642"/>
                </a:lnTo>
              </a:path>
              <a:path fill="darken" w="21600" h="21607">
                <a:moveTo>
                  <a:pt x="14299" y="13197"/>
                </a:moveTo>
                <a:lnTo>
                  <a:pt x="17806" y="15965"/>
                </a:lnTo>
              </a:path>
            </a:pathLst>
          </a:cu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33336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你是否知道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4365720"/>
            <a:ext cx="7489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你的进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         </a:t>
            </a: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是家长和老师最大的骄傲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79640" y="206064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你拼搏的身后是我们默默关注的目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916360" y="836640"/>
            <a:ext cx="53276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雄鹰就要搏击长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骏马就要驰骋千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7200" y="304920"/>
            <a:ext cx="7885080" cy="52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00"/>
                </a:solidFill>
                <a:latin typeface="华文隶书"/>
                <a:ea typeface="华文隶书"/>
              </a:rPr>
              <a:t>我们最棒    自信向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00"/>
                </a:solidFill>
                <a:latin typeface="华文隶书"/>
                <a:ea typeface="华文隶书"/>
              </a:rPr>
              <a:t> </a:t>
            </a:r>
            <a:r>
              <a:rPr b="1" i="1" lang="zh-CN" sz="6000" spc="-1" strike="noStrike">
                <a:solidFill>
                  <a:srgbClr val="ffff00"/>
                </a:solidFill>
                <a:latin typeface="华文隶书"/>
                <a:ea typeface="华文隶书"/>
              </a:rPr>
              <a:t>团结自强   共创辉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402920" y="1484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衷心祝愿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每一位同学在期末考试取得优秀的成绩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19320" y="685800"/>
            <a:ext cx="7924680" cy="44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黑体"/>
                <a:ea typeface="黑体"/>
              </a:rPr>
              <a:t>为</a:t>
            </a:r>
            <a:r>
              <a:rPr b="1" lang="en-US" sz="8800" spc="-1" strike="noStrike">
                <a:solidFill>
                  <a:srgbClr val="ff3300"/>
                </a:solidFill>
                <a:latin typeface="黑体"/>
                <a:ea typeface="黑体"/>
              </a:rPr>
              <a:t>50</a:t>
            </a:r>
            <a:r>
              <a:rPr b="1" lang="zh-CN" sz="8800" spc="-1" strike="noStrike">
                <a:solidFill>
                  <a:srgbClr val="ff3300"/>
                </a:solidFill>
                <a:latin typeface="黑体"/>
                <a:ea typeface="黑体"/>
              </a:rPr>
              <a:t>分而战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这就是我们考前的任务和目标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1640" y="2565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正确的认识和积极的</a:t>
            </a:r>
            <a:br>
              <a:rPr sz="4800"/>
            </a:b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态度最重要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68640" y="84240"/>
            <a:ext cx="379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110m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栏刘翔：亚洲人的神化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双人皮划艇孟关良和杨文军：在浪尖寻突破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0600" y="-104760"/>
            <a:ext cx="488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69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公斤举重张国政：宁可断腰，也要金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2781000"/>
            <a:ext cx="71611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944800" y="1628640"/>
            <a:ext cx="6199200" cy="522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89440" cy="5013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12040" y="260280"/>
            <a:ext cx="286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女排姑娘：我们回来了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02920" y="3644640"/>
            <a:ext cx="762012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善于分解目标是达成目标的重要手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31640" y="1412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一、有一个明确的目标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3T07:24:32Z</dcterms:created>
  <dc:creator>liusibo</dc:creator>
  <dc:description/>
  <dc:language>en-US</dc:language>
  <cp:lastModifiedBy>User</cp:lastModifiedBy>
  <dcterms:modified xsi:type="dcterms:W3CDTF">2013-04-13T15:10:48Z</dcterms:modified>
  <cp:revision>93</cp:revision>
  <dc:subject/>
  <dc:title>几个小故事</dc:title>
</cp:coreProperties>
</file>