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4291-6447-4C93-90DC-9C0F597DF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DD72-E88E-4977-BC83-C929B3047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E318-E9A9-43F1-8118-5A6DA3FB0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C015-1284-4A88-9FF1-2774D99CA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EE83-8615-453F-A24D-7BA6CE757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D307-D13C-4C6B-84FE-60280049D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49A6-A61C-4CF3-A2F5-38F448433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9BE0-7FBB-48F0-9465-CF54B83A8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13B1-A0FF-41A5-96A3-C5436E8E5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8409-C0DA-4D5F-A12C-29B06BD6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D3F5-2914-4154-851A-F834C405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02BB-D5AA-4BFA-9D99-37DF21B9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060D-4C4E-4D2D-9B06-94D34130D0A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file:///usr/lib/libreoffice/share/gallery/sounds/applause.wav" TargetMode="External"/><Relationship Id="rId2" Type="http://schemas.microsoft.com/office/2007/relationships/media" Target="file:///usr/lib/libreoffice/share/gallery/sounds/applause.wav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0" y="1052640"/>
            <a:ext cx="891540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华文行楷"/>
              </a:rPr>
              <a:t>完善自我     坚定信念</a:t>
            </a:r>
            <a:endParaRPr b="1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华文行楷"/>
              </a:rPr>
              <a:t>拼搏自我    梦圆 </a:t>
            </a: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华文行楷"/>
              </a:rPr>
              <a:t>0  9</a:t>
            </a:r>
            <a:endParaRPr b="1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3" name=""/>
          <p:cNvSpPr/>
          <p:nvPr/>
        </p:nvSpPr>
        <p:spPr>
          <a:xfrm>
            <a:off x="684360" y="4869000"/>
            <a:ext cx="74880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6722E-B722-403D-AC38-968F07AB66B3}" type="datetime3">
              <a:rPr b="1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2026年7月31日</a:t>
            </a:fld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239840" y="533520"/>
            <a:ext cx="118584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它一生的年龄可达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70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岁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135320" y="380880"/>
            <a:ext cx="420228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老鹰是世界上寿命最长的鸟类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176520" y="228600"/>
            <a:ext cx="261828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华文中宋"/>
              </a:rPr>
              <a:t>要活那么长的寿命，它在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华文中宋"/>
              </a:rPr>
              <a:t>40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华文中宋"/>
              </a:rPr>
              <a:t>岁时必须做出困难却重要的决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476200" y="228600"/>
            <a:ext cx="66780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当老鹰活到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40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岁时，它的爪子开始老化，无法有效地抓住猎物。 它的啄变得又长又弯，几乎碰到胸膛。它的翅膀变得十分沉重，因为它的羽毛长得又浓又厚。使得飞翔十分吃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41960" y="1268280"/>
            <a:ext cx="6678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它只有两种选择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: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等死，或经过一个十分痛苦的更新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80880" y="380880"/>
            <a:ext cx="83059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中宋"/>
              </a:rPr>
              <a:t>鹰必须很努力地飞到山顶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中宋"/>
              </a:rPr>
              <a:t>在悬崖上筑巢。停留在那里，不得飞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80880" y="2286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024400" y="0"/>
            <a:ext cx="72900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老鹰首先用它的喙击打岩石，直到完全脱落。然后静静地等候新的喙长出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290920" y="228600"/>
            <a:ext cx="72900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它会用新长出的喙把指甲一根一根的拔出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8110080" y="457200"/>
            <a:ext cx="72900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当新的指甲长出来后，它们便把羽毛一根一根的拔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80880" y="38088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华文中宋"/>
              </a:rPr>
              <a:t>5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华文中宋"/>
              </a:rPr>
              <a:t>个月以后，新的羽毛长出来了。 </a:t>
            </a:r>
            <a:br>
              <a:rPr sz="3600"/>
            </a:b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华文中宋"/>
              </a:rPr>
              <a:t>老鹰开始飞翔。 重新得力再过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华文中宋"/>
              </a:rPr>
              <a:t>30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华文中宋"/>
              </a:rPr>
              <a:t>年的岁月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28600" y="228600"/>
            <a:ext cx="89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中宋"/>
              </a:rPr>
              <a:t>在我们的生命中，有时候我们必须做出困难的决定。开始一个更新的过程。正象我们的高考备考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中宋"/>
              </a:rPr>
              <a:t>,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中宋"/>
              </a:rPr>
              <a:t>我们必须经常的反思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中宋"/>
              </a:rPr>
              <a:t>,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中宋"/>
              </a:rPr>
              <a:t>向高考看齐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中宋"/>
              </a:rPr>
              <a:t>.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中宋"/>
              </a:rPr>
              <a:t>以高考的要求来进行复习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中宋"/>
              </a:rPr>
              <a:t>.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中宋"/>
              </a:rPr>
              <a:t>不断的改进提高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中宋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477120" y="260280"/>
            <a:ext cx="237492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我们必须把对高考不利的习惯，懒散的习惯，统统改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!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使我们可以重新飞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-542160" y="0"/>
            <a:ext cx="292356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只要我们愿意放下旧的包袱，愿意锻炼培养好的习惯，我们就能发挥我们的潜能，创造新的未来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79280" y="0"/>
            <a:ext cx="8610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从上面的故事中，我们大家想到了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1628640"/>
            <a:ext cx="83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黑体"/>
                <a:ea typeface="黑体"/>
              </a:rPr>
              <a:t>超越，需要不断的反思；完善自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0920" y="234936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黑体"/>
              </a:rPr>
              <a:t>超越，需要持续的努力；坚定信念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0920" y="314172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黑体"/>
              </a:rPr>
              <a:t>超越，需要坚强的毅力；拼搏精神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4005360"/>
            <a:ext cx="8280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超越，需要认真的品格；梦圆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0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990720" y="457200"/>
            <a:ext cx="7162560" cy="594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今朝鼓干劲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六月荷香飘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45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0117080" y="5300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5228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5"/>
                </p:tgtEl>
              </p:cMediaNode>
            </p:audio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起唱《超越梦想 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21920" y="907920"/>
            <a:ext cx="872172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8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超越梦想</a:t>
            </a:r>
            <a:br>
              <a:rPr sz="4000"/>
            </a:b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当圣火第一次点燃是希望在跟随</a:t>
            </a:r>
            <a:br>
              <a:rPr sz="4000"/>
            </a:b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当终点已不再永久是心灵在体会</a:t>
            </a:r>
            <a:br>
              <a:rPr sz="4000"/>
            </a:b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不在乎等待几多轮回</a:t>
            </a:r>
            <a:br>
              <a:rPr sz="4000"/>
            </a:b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不在乎欢笑伴着泪水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1"/>
          </p:cNvPr>
          <p:cNvSpPr/>
          <p:nvPr/>
        </p:nvSpPr>
        <p:spPr>
          <a:xfrm>
            <a:off x="7164360" y="5445000"/>
            <a:ext cx="1224000" cy="574920"/>
          </a:xfrm>
          <a:custGeom>
            <a:avLst/>
            <a:gdLst>
              <a:gd name="textAreaLeft" fmla="*/ 37080 w 1224000"/>
              <a:gd name="textAreaRight" fmla="*/ 1186920 w 1224000"/>
              <a:gd name="textAreaTop" fmla="*/ 37080 h 574920"/>
              <a:gd name="textAreaBottom" fmla="*/ 537840 h 574920"/>
            </a:gdLst>
            <a:ahLst/>
            <a:rect l="textAreaLeft" t="textAreaTop" r="textAreaRight" b="textAreaBottom"/>
            <a:pathLst>
              <a:path w="45971" h="21600">
                <a:moveTo>
                  <a:pt x="0" y="0"/>
                </a:moveTo>
                <a:lnTo>
                  <a:pt x="45971" y="0"/>
                </a:lnTo>
                <a:lnTo>
                  <a:pt x="45971" y="21600"/>
                </a:lnTo>
                <a:lnTo>
                  <a:pt x="0" y="21600"/>
                </a:lnTo>
                <a:close/>
              </a:path>
              <a:path fill="lightenLess" w="45971" h="21600">
                <a:moveTo>
                  <a:pt x="0" y="0"/>
                </a:moveTo>
                <a:lnTo>
                  <a:pt x="45971" y="0"/>
                </a:lnTo>
                <a:lnTo>
                  <a:pt x="44571" y="1400"/>
                </a:lnTo>
                <a:lnTo>
                  <a:pt x="1400" y="1400"/>
                </a:lnTo>
                <a:close/>
              </a:path>
              <a:path fill="darken" w="45971" h="21600">
                <a:moveTo>
                  <a:pt x="45971" y="0"/>
                </a:moveTo>
                <a:lnTo>
                  <a:pt x="45971" y="21600"/>
                </a:lnTo>
                <a:lnTo>
                  <a:pt x="44571" y="20200"/>
                </a:lnTo>
                <a:lnTo>
                  <a:pt x="44571" y="1400"/>
                </a:lnTo>
                <a:close/>
              </a:path>
              <a:path fill="darkenLess" w="45971" h="21600">
                <a:moveTo>
                  <a:pt x="459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71" y="20200"/>
                </a:lnTo>
                <a:close/>
              </a:path>
              <a:path fill="lighten" w="459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971" h="21600">
                <a:moveTo>
                  <a:pt x="15979" y="8406"/>
                </a:moveTo>
                <a:lnTo>
                  <a:pt x="20409" y="8406"/>
                </a:lnTo>
                <a:lnTo>
                  <a:pt x="24831" y="3794"/>
                </a:lnTo>
                <a:lnTo>
                  <a:pt x="24831" y="17806"/>
                </a:lnTo>
                <a:lnTo>
                  <a:pt x="20409" y="13194"/>
                </a:lnTo>
                <a:lnTo>
                  <a:pt x="15979" y="13194"/>
                </a:lnTo>
                <a:close/>
              </a:path>
              <a:path fill="darken" w="45971" h="21600">
                <a:moveTo>
                  <a:pt x="26484" y="10800"/>
                </a:moveTo>
                <a:lnTo>
                  <a:pt x="29992" y="10800"/>
                </a:lnTo>
              </a:path>
              <a:path fill="darken" w="45971" h="21600">
                <a:moveTo>
                  <a:pt x="26484" y="8406"/>
                </a:moveTo>
                <a:lnTo>
                  <a:pt x="29992" y="5639"/>
                </a:lnTo>
              </a:path>
              <a:path fill="darken" w="45971" h="21600">
                <a:moveTo>
                  <a:pt x="26484" y="13194"/>
                </a:moveTo>
                <a:lnTo>
                  <a:pt x="29992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3860640"/>
            <a:ext cx="583416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超越梦想一起飞</a:t>
            </a:r>
            <a:br>
              <a:rPr sz="4000"/>
            </a:b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你我需要真心面对</a:t>
            </a:r>
            <a:br>
              <a:rPr sz="4000"/>
            </a:b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让生命回味这一刻</a:t>
            </a:r>
            <a:br>
              <a:rPr sz="4000"/>
            </a:b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让岁月铭记这一回</a:t>
            </a:r>
            <a:br>
              <a:rPr sz="4000"/>
            </a:b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2987640" y="2997360"/>
            <a:ext cx="3710160" cy="185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再见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2514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66"/>
                </a:solidFill>
                <a:latin typeface="Times New Roman"/>
              </a:rPr>
              <a:t>刘翔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05920" y="6248520"/>
            <a:ext cx="838080" cy="380880"/>
          </a:xfrm>
          <a:custGeom>
            <a:avLst/>
            <a:gdLst>
              <a:gd name="textAreaLeft" fmla="*/ 24480 w 838080"/>
              <a:gd name="textAreaRight" fmla="*/ 813600 w 8380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504" h="21600">
                <a:moveTo>
                  <a:pt x="16745" y="7301"/>
                </a:moveTo>
                <a:lnTo>
                  <a:pt x="17659" y="7301"/>
                </a:lnTo>
                <a:lnTo>
                  <a:pt x="18042" y="7667"/>
                </a:lnTo>
                <a:lnTo>
                  <a:pt x="27251" y="7667"/>
                </a:lnTo>
                <a:lnTo>
                  <a:pt x="27808" y="8224"/>
                </a:lnTo>
                <a:lnTo>
                  <a:pt x="27808" y="8772"/>
                </a:lnTo>
                <a:lnTo>
                  <a:pt x="29653" y="8772"/>
                </a:lnTo>
                <a:lnTo>
                  <a:pt x="30019" y="8224"/>
                </a:lnTo>
                <a:lnTo>
                  <a:pt x="30758" y="8224"/>
                </a:lnTo>
                <a:lnTo>
                  <a:pt x="30758" y="13376"/>
                </a:lnTo>
                <a:lnTo>
                  <a:pt x="30019" y="13376"/>
                </a:lnTo>
                <a:lnTo>
                  <a:pt x="29653" y="12828"/>
                </a:lnTo>
                <a:lnTo>
                  <a:pt x="27808" y="12828"/>
                </a:lnTo>
                <a:lnTo>
                  <a:pt x="27808" y="14107"/>
                </a:lnTo>
                <a:lnTo>
                  <a:pt x="18225" y="14107"/>
                </a:lnTo>
                <a:lnTo>
                  <a:pt x="18225" y="9877"/>
                </a:lnTo>
                <a:lnTo>
                  <a:pt x="18042" y="9877"/>
                </a:lnTo>
                <a:lnTo>
                  <a:pt x="17659" y="10243"/>
                </a:lnTo>
                <a:lnTo>
                  <a:pt x="16745" y="1024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627280" y="1628640"/>
            <a:ext cx="4969080" cy="395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190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拼搏！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4360" y="286920"/>
            <a:ext cx="77756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33"/>
                </a:solidFill>
                <a:latin typeface="Arial"/>
              </a:rPr>
              <a:t>刘翔摘金全过程（雅典奥运会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784836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第一轮结束：放开跑、放松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第二轮结束：我不在乎他（约翰逊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相信自已、把握住自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再接再砺、没有遗憾，拼一是一个，玩命，打仗，不能掉以轻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证明自己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----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最后的胜利；更多、更多的奇迹等待自己去创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15687" r="11507" b="0"/>
          <a:stretch/>
        </p:blipFill>
        <p:spPr>
          <a:xfrm>
            <a:off x="0" y="0"/>
            <a:ext cx="9144000" cy="5732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352680" y="5486400"/>
            <a:ext cx="5105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5791320"/>
            <a:ext cx="9144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刘翔夺得奥运会冠军并打破奥运会纪录，实现自己的梦想。那么，我们如何去实现我们的梦想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315200" y="4343400"/>
            <a:ext cx="1676520" cy="1371600"/>
          </a:xfrm>
          <a:custGeom>
            <a:avLst/>
            <a:gdLst>
              <a:gd name="textAreaLeft" fmla="*/ 88920 w 1676520"/>
              <a:gd name="textAreaRight" fmla="*/ 1587600 w 167652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6401" h="21600">
                <a:moveTo>
                  <a:pt x="0" y="0"/>
                </a:moveTo>
                <a:lnTo>
                  <a:pt x="26401" y="0"/>
                </a:lnTo>
                <a:lnTo>
                  <a:pt x="26401" y="21600"/>
                </a:lnTo>
                <a:lnTo>
                  <a:pt x="0" y="21600"/>
                </a:lnTo>
                <a:close/>
              </a:path>
              <a:path fill="lightenLess" w="26401" h="21600">
                <a:moveTo>
                  <a:pt x="0" y="0"/>
                </a:moveTo>
                <a:lnTo>
                  <a:pt x="26401" y="0"/>
                </a:lnTo>
                <a:lnTo>
                  <a:pt x="25001" y="1400"/>
                </a:lnTo>
                <a:lnTo>
                  <a:pt x="1400" y="1400"/>
                </a:lnTo>
                <a:close/>
              </a:path>
              <a:path fill="darken" w="26401" h="21600">
                <a:moveTo>
                  <a:pt x="26401" y="0"/>
                </a:moveTo>
                <a:lnTo>
                  <a:pt x="26401" y="21600"/>
                </a:lnTo>
                <a:lnTo>
                  <a:pt x="25001" y="20200"/>
                </a:lnTo>
                <a:lnTo>
                  <a:pt x="25001" y="1400"/>
                </a:lnTo>
                <a:close/>
              </a:path>
              <a:path fill="darkenLess" w="26401" h="21600">
                <a:moveTo>
                  <a:pt x="264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01" y="20200"/>
                </a:lnTo>
                <a:close/>
              </a:path>
              <a:path fill="lighten" w="264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01" h="21600">
                <a:moveTo>
                  <a:pt x="6194" y="7301"/>
                </a:moveTo>
                <a:lnTo>
                  <a:pt x="7108" y="7301"/>
                </a:lnTo>
                <a:lnTo>
                  <a:pt x="7491" y="7667"/>
                </a:lnTo>
                <a:lnTo>
                  <a:pt x="16699" y="7667"/>
                </a:lnTo>
                <a:lnTo>
                  <a:pt x="17256" y="8224"/>
                </a:lnTo>
                <a:lnTo>
                  <a:pt x="17256" y="8772"/>
                </a:lnTo>
                <a:lnTo>
                  <a:pt x="19101" y="8772"/>
                </a:lnTo>
                <a:lnTo>
                  <a:pt x="19467" y="8224"/>
                </a:lnTo>
                <a:lnTo>
                  <a:pt x="20207" y="8224"/>
                </a:lnTo>
                <a:lnTo>
                  <a:pt x="20207" y="13376"/>
                </a:lnTo>
                <a:lnTo>
                  <a:pt x="19467" y="13376"/>
                </a:lnTo>
                <a:lnTo>
                  <a:pt x="19101" y="12828"/>
                </a:lnTo>
                <a:lnTo>
                  <a:pt x="17256" y="12828"/>
                </a:lnTo>
                <a:lnTo>
                  <a:pt x="17256" y="14107"/>
                </a:lnTo>
                <a:lnTo>
                  <a:pt x="7673" y="14107"/>
                </a:lnTo>
                <a:lnTo>
                  <a:pt x="7673" y="9877"/>
                </a:lnTo>
                <a:lnTo>
                  <a:pt x="7491" y="9877"/>
                </a:lnTo>
                <a:lnTo>
                  <a:pt x="7108" y="10243"/>
                </a:lnTo>
                <a:lnTo>
                  <a:pt x="61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360" y="286920"/>
            <a:ext cx="77756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33"/>
                </a:solidFill>
                <a:latin typeface="Arial"/>
              </a:rPr>
              <a:t>刘翔摘金全过程（雅典奥运会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784836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第一轮结束：放开跑、放松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第二轮结束：我不在乎他（约翰逊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相信自已、把握住自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再接再砺、没有遗憾，拼一是一个，玩命，打仗，不能掉以轻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证明自己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----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最后的胜利；更多、更多的奇迹等待自己去创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20720" y="286920"/>
            <a:ext cx="7704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Arial"/>
              </a:rPr>
              <a:t>对照自我，看看我的十次考试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06436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第一次：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第二次：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第三次：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第四次：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第十次：成功来证明自我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!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胜利一定属于自我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成功的秘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成功靠的是智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成功更靠不怕失败的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执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坚持自己的梦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超越梦想需要执着、需要努力和拼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贵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坚持、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坚持、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坚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面让我们再来看一个鹰的故事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70866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下面，让我们来听一个鹰的故事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800600" y="266688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华文中宋"/>
              </a:rPr>
              <a:t>雄鹰再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8305920" y="6172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447920" y="5029200"/>
            <a:ext cx="32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华文中宋"/>
              </a:rPr>
              <a:t>雄鹰再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4-13T14:52:0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