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704-30F3-4461-94DE-CA9DDFBE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E1C-15F5-4189-9773-2262BCA4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120-B307-4984-BCCA-A722405C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1E0-3958-4EBE-B399-D4538B95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6DA-829F-46FF-842A-0E329E49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A647-81B9-45F6-8088-951C1F7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2D81-A868-45C6-B9B5-86188D8E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9EDB-AA7B-4DB4-8812-FD9BD0D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D84C-8949-42C5-B987-5F8E8675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2D75-49C3-4FB2-A389-AD4B22E0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3148-CE9F-47BE-A191-999E9E45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C8D-FDB5-4C34-827A-CBD30DD4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0717-F37D-4175-BC89-B8BADC9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9A6F-D3F4-4C5E-8BA7-27A1BA27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4EBB-8166-44D2-9ABA-8C604250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504B-AD73-4F35-934F-22D28697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F6CD-0583-46F5-889C-A9641B37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7BE2-E5D6-4FFA-8E6D-FD2407D3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66A0-1432-4F08-9C03-D0C310AB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1A8D1-63B9-4CC4-8A8B-9BB5891E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B186-F16D-43A8-ADB1-172131AB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B27F-89C2-4752-8425-2AE8D73C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BF2-C1F0-48BB-9512-0BA79CC4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A20B-CEB0-437D-A970-EAF62DD0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9D56-87FA-4DEE-820F-44ECD49B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F68B-6BB4-423C-B607-391E97FC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F20D-F6EE-4919-8E3C-C5590B7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5501-2189-4919-835A-46D6607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16E4-3570-4DF8-AB19-F23F4D6D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AFEB-A550-4DEA-95FC-E746A2F3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76B-2415-4AEE-B3B4-0B90F7C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C03-EFEE-496F-9E41-69666B35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25C-E416-43B5-92C1-F6040DE4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5DB-3294-407B-9828-AD5C3AB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C49-6032-49B8-B47B-89ACF4E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857-718C-4B33-9822-04AD5033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1D48-47E6-4798-BA5C-637AD9D65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EE2F-1237-4CCB-A8CB-F72032B3AB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637E-C0AA-4961-8005-A4A891E55F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 rot="5400000">
            <a:off x="3994920" y="1628280"/>
            <a:ext cx="4464360" cy="273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latin typeface="黑体"/>
              </a:rPr>
              <a:t>调整心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latin typeface="黑体"/>
              </a:rPr>
              <a:t>笑对高三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latin typeface="黑体"/>
              <a:ea typeface="黑体"/>
            </a:endParaRPr>
          </a:p>
        </p:txBody>
      </p:sp>
      <p:sp>
        <p:nvSpPr>
          <p:cNvPr id="545" name=""/>
          <p:cNvSpPr/>
          <p:nvPr/>
        </p:nvSpPr>
        <p:spPr>
          <a:xfrm>
            <a:off x="4211640" y="5445000"/>
            <a:ext cx="41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高三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200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奥运会获冠军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者采访他得出的著名的论断：“最单纯的心最能创造奇迹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中写道：“刘翔赛前什么都没想，只是想发挥水平。他站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道，面对决赛，惟一想的是听裁判的枪声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9640" y="2492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邢慧娜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:2004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得到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10000m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奥运会冠军后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她说：她跑完万米后的第一个刹那，以为这又是一次训练，第二个刹那才想到这是奥运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8360" y="4149720"/>
            <a:ext cx="8136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刘伟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获七届世乒赛冠军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三届与王涛获混双冠军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记者采访她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她这样说：“一开始打球，觉得是在用手打球，随着水平的提高，感觉就是用身体在打球，再后来，就要用脑子打球了。到拿了世界冠军以后，我再和世界上的顶尖选手交手时，觉得必须用心打球，这也许就是最高境界吧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316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位百丈禅师，他的一个弟子问他说：“如何才能成佛？”大师说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：“放下！放下你的一切执著于成佛的念头，放下你的总是执著于成佛的那颗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5640" y="33577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我们来说，赢得高考、成绩、名次等这些存在于自己心中的时候，往往也会成为自己内在的渴望超越自我的一种原动力，但是，人一旦执著于此，往往又会成为自己前进路上的一个沉重的包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540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大师的禅语诠释最好的是一个登山者。这个登山者在一次登山中，首次不使用氧气，成功登上了世界最高峰——珠穆朗玛峰。他下山后，人们纷纷问他成功登顶的秘密，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他说：“这没有什么秘密，我知道大脑是一个重要的耗氧源，科学家曾告诉我们：各种思想在大脑中相互撞击时，竟要消耗我们吸入全部氧气的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40%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。所以，为了减少对氧气的消耗，我只有‘向前走’这一个念头，至于其他的任何想法我都把它们统统从脑子里抛掉。没有了任何的杂念，我就等于放下了一个背在身上的巨大包袱！轻松地 向前，这就是我成功的全部秘密。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个登山者是聪明的，渴望在不带氧气的情况下成为成功登上珠峰的第一人，当初在训练中，这肯定一直是炽烈燃烧在他心中的一个最美丽的梦想。然而，在向峰顶冲刺的时候，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他放下了一切的荣辱和功利之心，放下了死亡时刻会威胁生命的恐惧之心，胸中只留下一个愿望：向前，向前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成功了，他不但为所有的登山者留下了宝贵的经验，同时，也把一粒智慧的种子，播进了世间每一个渴望获得成功之人的心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做任务事情都应该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简单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投入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应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快乐单纯地学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怎么快乐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每天保持</a:t>
            </a: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微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让自己有个</a:t>
            </a: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美丽的心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!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大学毕业生找工作找了很久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始终无法找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是他的学历不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不是他的能力不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还是大学的优秀毕业生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他苦着脸找到了一个职业咨询专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专家一看到他就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笑得太难看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回去练习一下怎么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来找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个学生就回去练了一个星期再来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对着专家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笑得很难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专家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这叫笑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笑得我心里发毛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再回去练习一个星期的笑再来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他又回去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星期后他又来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次他很自然地和专家握了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且问了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客套完了之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专家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可以去应聘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带上你优秀的材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个学生说你还没教我怎么做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专家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相信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要你象现在一样笑着去应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一定成功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将信将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正已经失败这么多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在乎这一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找了一家自己想去的公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微笑着走进了经理办公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经理握了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始说自己的简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头说到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都很真诚地微笑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完之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经理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被应聘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是我见过的一个最有阳光的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微笑让我觉得天是蓝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阳光明媚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54064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笑有感染力，它不仅可以让你自己的心情变得开朗，还可以让你周围的人有阴天看到阳光的感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87280" y="3141720"/>
            <a:ext cx="68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所以，我们应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                      </a:t>
            </a: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常微笑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539640" y="112536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每一个高三学子的正确心态是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763640" y="2852640"/>
            <a:ext cx="468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笑对高三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不能决定命运的长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你可以拓展它的宽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不能改变面貌，但你可以展现笑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不能左右天气，但你可以改变心情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不能预知明天，但你可以掌握今天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不能样样顺利，但你可以事事顺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汪国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微笑着走向生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微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着走向高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论高考以什么方式回敬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我以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平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一条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欢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奔流的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小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我以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崎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一座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大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庄严地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思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我以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幸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一只凌空飞翔的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燕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我以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不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一根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劲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得起千锤万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cc"/>
                </a:solidFill>
                <a:uFillTx/>
                <a:latin typeface="Arial"/>
              </a:rPr>
              <a:t>什么也改变不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cc"/>
                </a:solidFill>
                <a:uFillTx/>
                <a:latin typeface="Arial"/>
              </a:rPr>
              <a:t>我对高考的热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cc"/>
                </a:solidFill>
                <a:uFillTx/>
                <a:latin typeface="Arial"/>
              </a:rPr>
              <a:t>我微笑着走向火热的高考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216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473440" cy="42530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 rot="5400000">
            <a:off x="5075280" y="2348640"/>
            <a:ext cx="453564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一帆风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高三学生的心理上，都存在着这样那样的问题。比如自我感觉过于良好；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牢骚多，一切都是别人不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学习上不敢自暴其愚，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不能吃苦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想短期效应；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不为他人着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将个人利益看得过重；缺乏服从意识；不会做任何的自我批评等等。再比如，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无缘无故地烦恼，无缘无故地看人不顺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无缘无故地感觉绝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别人可能就撞了自己一下，恨不得一顿老拳把对方打死等等，这是心态不端正的一种折射，是心理问题太多的一种发泄，但是，这种发泄只能是害人害己，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既损害了自己赖以生存的环境的和谐，也恶化了自己的心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是向往成功的人所不足取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40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到了高三，每个同学都有一定的压力，都想考上一所理想的大学，这是很正常的想法。但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把压力当成一种包袱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对自己的期望值过高，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一旦遇到困难就焦虑、不安，甚至失眠、头疼，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马上想到的就是“我的前途完了”，以至于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使自己失去信心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这是不足取的。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高三是一面镜子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如果对它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它也对你笑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如果对它哭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它也对你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68403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所以，我说，高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1332000" y="328464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r>
              <a:rPr b="0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心态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"/>
          <p:cNvSpPr/>
          <p:nvPr/>
        </p:nvSpPr>
        <p:spPr>
          <a:xfrm>
            <a:off x="3419640" y="3284640"/>
            <a:ext cx="2089080" cy="647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决 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796000" y="321300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540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一头驴的故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只老驴在和主人上山干活的时候不小心掉进了一口枯井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枯井很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驴大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人根本没办法将老驴救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虽然他很伤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也无能为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到驴为他家做了很多事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不禁伤心落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坐在井边很久之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决定就将老驴安葬在这口枯井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他开始往枯井里铲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铲土下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驴叫得很凄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人也很揪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他还是铲下了第二铲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果没听到驴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铲还是没听到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想驴可能放弃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着死神的到来了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难过地眼泪直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铲下一铲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的心就痛一下……………眼看快填满井了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突然一声驴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他吓了一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驴居然从井中跳了出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往井中一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来自已铲到井里的土居然都成了驴的垫脚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驴自救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人满心欢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。。。。。。。。。。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69228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603000" y="836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积极健康的心态是提高复习效率的重要保证，也是高考成功的关键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炎热的夏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旅行者在沙漠中艰难的行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他的水壶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半壶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旅行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会怎么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4000" y="2349360"/>
            <a:ext cx="8208720" cy="19447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皮鞋推销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要到非洲一个小岛上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行你 的皮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你到了那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却发现整个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岛没有一个人穿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怎样向你 的上司反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4724280"/>
            <a:ext cx="8208720" cy="93528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考试中，你 遇到了不会做的题目时，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会怎么想呢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540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人在生活中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应该有乐观的心态，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当我们遇到困难的时候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不应暗自哀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更不应将困难扩大化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而应尽力通过各种途径寻求解决问题的方法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cc"/>
                </a:solidFill>
                <a:latin typeface="Arial"/>
              </a:rPr>
              <a:t>应该懂得从积极角度思考</a:t>
            </a:r>
            <a:r>
              <a:rPr b="0" lang="zh-CN" sz="5400" spc="-1" strike="noStrike">
                <a:solidFill>
                  <a:srgbClr val="0066cc"/>
                </a:solidFill>
                <a:latin typeface="Arial"/>
              </a:rPr>
              <a:t>问题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539640" y="620640"/>
            <a:ext cx="777240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骆驼的心态，狮子的心态，婴儿的心态</a:t>
            </a:r>
            <a:endParaRPr b="0" i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骆驼心态就是一种信念的执著与顽强，就是对希望与成功的顽强向往。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狮子心态，就是有那种勇者无敌的气概，即使折戟沉沙，也在所不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95280" y="4797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婴儿心态，意味着简化自己，就是使走向高考的每个日子里，把心灵回归到天真、单纯的本初心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5:14:32Z</dcterms:created>
  <dc:creator>微软用户</dc:creator>
  <dc:description/>
  <dc:language>en-US</dc:language>
  <cp:lastModifiedBy>User</cp:lastModifiedBy>
  <dcterms:modified xsi:type="dcterms:W3CDTF">2013-04-13T15:25:52Z</dcterms:modified>
  <cp:revision>1</cp:revision>
  <dc:subject/>
  <dc:title>幻灯片 1</dc:title>
</cp:coreProperties>
</file>