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whoosh.wav" ContentType="audio/x-wav"/>
  <Override PartName="/ppt/media/image12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DB10-BE24-432A-9CB3-C613384E8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BF8E-0712-4788-A1DE-DE687193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9D07-5D5E-4920-AAC3-2912EA514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2E89-6041-4D43-B892-8CD918CA2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B90F-13AB-4208-A90A-854BFD424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A885-9BDC-4E3E-825E-18AA9C04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210E-DE99-4F77-AB16-838A5567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20632-FE93-4C79-BB4F-1B3B5928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DF12-8029-4F03-BAFA-19093636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AD5B-5020-4169-9AEA-CD8E68A1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07D2-316A-45AD-A1B9-78352F30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9316-1B53-487C-993C-B3B90EC1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4D0B-FC11-4BC0-A42C-23AD6B58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3514-FDA3-4F87-A25E-A6A09780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EF4E-3158-4D25-90D6-F9CCA1E0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1FA4-2E2B-4F52-A815-E3C62C378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3BCE-AC7D-4E17-8FD7-55F411FBC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FE0AE-AF51-460C-8DD1-11CC439C8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26CD6-AABF-4A5F-96D1-EF794E8E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5A639-CF4C-4CC0-B660-3B41EC4A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A9B1C-C5F6-4B51-9B48-470314C9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C7553-CAE7-4861-913C-E57E98A3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A117-1203-410A-BEAD-EA6B1E83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727A0-0ED2-4629-BD3F-26F7595E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72BCE-C34F-453D-AB96-CD93B86E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CED8B-5660-42A0-B4D1-ECD943F0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19A02-5253-484B-BD64-C27C8429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3F8A7-83DE-43D9-A7C1-EA43B3EB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F4CED-FBB3-4D70-B2DB-6A1D77D8E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46498-3128-4BCB-BA6F-825297270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AB50-A1AA-48EC-AABB-41145537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DCE0-CF80-4A0B-ABF8-AB28CD5A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5CAD-6977-44A9-91EF-71BDDF84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880B-2D73-475C-AE27-3B5200CE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0BBF-77EE-4781-A937-0F58C866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E785-7734-44CA-B1CE-6DC5E06F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094F-2F13-4E6C-AD5A-07F76DE8C7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1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0D3B-F0B4-4518-AE14-B0BB7A577AE4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2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410F-3841-4EE9-A676-2ED229F60041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6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6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6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6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6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6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6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6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26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61560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99"/>
                </a:solidFill>
                <a:latin typeface="Arial"/>
                <a:ea typeface="华文新魏"/>
              </a:rPr>
              <a:t>我们年轻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zh-CN" sz="3200" spc="-1" strike="noStrike">
                <a:solidFill>
                  <a:srgbClr val="ff6699"/>
                </a:solidFill>
                <a:latin typeface="Verdana"/>
              </a:rPr>
              <a:t>我们年轻，我们有青春的激昂；我们向往“海阔凭鱼跃，天高任鸟飞”的所在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99"/>
                </a:solidFill>
                <a:latin typeface="Verdana"/>
              </a:rPr>
              <a:t>        </a:t>
            </a:r>
            <a:r>
              <a:rPr b="0" lang="zh-CN" sz="3200" spc="-1" strike="noStrike">
                <a:solidFill>
                  <a:srgbClr val="ff6699"/>
                </a:solidFill>
                <a:latin typeface="Verdana"/>
              </a:rPr>
              <a:t>那么，一路风雨走过来，应该有所选择，有所放弃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99"/>
                </a:solidFill>
                <a:latin typeface="Verdana"/>
              </a:rPr>
              <a:t>        </a:t>
            </a:r>
            <a:r>
              <a:rPr b="0" lang="zh-CN" sz="3200" spc="-1" strike="noStrike">
                <a:solidFill>
                  <a:srgbClr val="ff6699"/>
                </a:solidFill>
                <a:latin typeface="Verdana"/>
              </a:rPr>
              <a:t>在心灵的驿站休息时，不妨检查一下自己的行囊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676520" y="2432160"/>
            <a:ext cx="5715000" cy="44258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863160" y="990720"/>
            <a:ext cx="89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Tahoma"/>
              </a:rPr>
              <a:t>1</a:t>
            </a:r>
            <a:r>
              <a:rPr b="0" lang="zh-CN" sz="4400" spc="-1" strike="noStrike">
                <a:solidFill>
                  <a:srgbClr val="ccecff"/>
                </a:solidFill>
                <a:latin typeface="Tahoma"/>
              </a:rPr>
              <a:t>、要有目标和追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666880" y="2389320"/>
            <a:ext cx="4572000" cy="44686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727360" y="1143000"/>
            <a:ext cx="440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Tahoma"/>
              </a:rPr>
              <a:t>2</a:t>
            </a:r>
            <a:r>
              <a:rPr b="0" lang="zh-CN" sz="4400" spc="-1" strike="noStrike">
                <a:solidFill>
                  <a:srgbClr val="ccecff"/>
                </a:solidFill>
                <a:latin typeface="Tahoma"/>
              </a:rPr>
              <a:t>、经常保持微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79640" y="1316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032280" y="14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5715000" cy="39895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447920" y="1143000"/>
            <a:ext cx="73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Tahoma"/>
              </a:rPr>
              <a:t>3</a:t>
            </a:r>
            <a:r>
              <a:rPr b="0" lang="zh-CN" sz="4400" spc="-1" strike="noStrike">
                <a:solidFill>
                  <a:srgbClr val="ccecff"/>
                </a:solidFill>
                <a:latin typeface="Tahoma"/>
              </a:rPr>
              <a:t>、学会和别人一块分享喜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4</a:t>
            </a: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、乐于助人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586728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5</a:t>
            </a: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、并保持自己的一颗童心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505320" y="2286000"/>
            <a:ext cx="3440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6</a:t>
            </a: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、学会和各种人愉快的相处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56386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590920" y="1066680"/>
            <a:ext cx="4114800" cy="50292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380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7</a:t>
            </a: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、保持幽默感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8</a:t>
            </a: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、要能处乱不惊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2485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9</a:t>
            </a: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、学会宽恕他人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17220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10</a:t>
            </a: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、有几个知心朋友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523880" y="2171880"/>
            <a:ext cx="624852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03500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华文新魏"/>
              </a:rPr>
              <a:t>因为我们年轻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523880" y="3352680"/>
            <a:ext cx="6019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华文行楷"/>
              </a:rPr>
              <a:t>因为我们 年轻，年轻不应该平平淡淡，年轻是跳动的火焰，激情燃烧是唯一的语言和豪情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38036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11</a:t>
            </a: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、常和别人保持合作</a:t>
            </a: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并从中获得乐趣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343400" y="2133720"/>
            <a:ext cx="35845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12</a:t>
            </a: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、享受你的天伦之乐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981080" y="1924200"/>
            <a:ext cx="617220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13</a:t>
            </a: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、保持高度的自信心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895480" y="2057400"/>
            <a:ext cx="38800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14</a:t>
            </a: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、尊重弱者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11496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17</a:t>
            </a: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、有空来家中坐坐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133720" y="2819520"/>
            <a:ext cx="5715000" cy="34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2388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zh-CN" sz="3600" spc="-1" strike="noStrike">
                <a:solidFill>
                  <a:srgbClr val="558145"/>
                </a:solidFill>
                <a:latin typeface="Verdana"/>
                <a:ea typeface="方正姚体"/>
              </a:rPr>
              <a:t>一朵成功的花都是由许多苦雨   血泥和强烈的暴风雨的环境培养成的。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58145"/>
                </a:solidFill>
                <a:latin typeface="Verdana"/>
                <a:ea typeface="方正姚体"/>
              </a:rPr>
              <a:t>                       —</a:t>
            </a:r>
            <a:r>
              <a:rPr b="1" lang="zh-CN" sz="3600" spc="-1" strike="noStrike">
                <a:solidFill>
                  <a:srgbClr val="558145"/>
                </a:solidFill>
                <a:latin typeface="Verdana"/>
                <a:ea typeface="方正姚体"/>
              </a:rPr>
              <a:t>冼星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58145"/>
                </a:solidFill>
                <a:latin typeface="Verdana"/>
                <a:ea typeface="方正姚体"/>
              </a:rPr>
              <a:t>       </a:t>
            </a:r>
            <a:r>
              <a:rPr b="1" lang="zh-CN" sz="3600" spc="-1" strike="noStrike">
                <a:solidFill>
                  <a:srgbClr val="558145"/>
                </a:solidFill>
                <a:latin typeface="Verdana"/>
                <a:ea typeface="方正姚体"/>
              </a:rPr>
              <a:t>人，只要有一种 信念，有所追求，什么艰苦都能忍受，什么环境也都能适应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58145"/>
                </a:solidFill>
                <a:latin typeface="Verdana"/>
                <a:ea typeface="方正姚体"/>
              </a:rPr>
              <a:t>                          —</a:t>
            </a:r>
            <a:r>
              <a:rPr b="1" lang="zh-CN" sz="3600" spc="-1" strike="noStrike">
                <a:solidFill>
                  <a:srgbClr val="558145"/>
                </a:solidFill>
                <a:latin typeface="Verdana"/>
                <a:ea typeface="方正姚体"/>
              </a:rPr>
              <a:t>丁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629040" y="277920"/>
            <a:ext cx="166212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ccecff"/>
                </a:solidFill>
                <a:latin typeface="Arial"/>
              </a:rPr>
              <a:t>如果没有翅膀，就和梦一起飞翔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61760" y="688680"/>
            <a:ext cx="567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99"/>
                </a:solidFill>
                <a:latin typeface="Verdana"/>
                <a:ea typeface="楷体_GB2312"/>
              </a:rPr>
              <a:t>理想是需要的，是我们前进的方向，反过来也必须从现实的努力中才能实现理想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99"/>
                </a:solidFill>
                <a:latin typeface="Verdana"/>
                <a:ea typeface="楷体_GB2312"/>
              </a:rPr>
              <a:t>                     ——</a:t>
            </a:r>
            <a:r>
              <a:rPr b="0" lang="zh-CN" sz="3600" spc="-1" strike="noStrike">
                <a:solidFill>
                  <a:srgbClr val="ff6699"/>
                </a:solidFill>
                <a:latin typeface="Verdana"/>
                <a:ea typeface="楷体_GB2312"/>
              </a:rPr>
              <a:t>周恩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274320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     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066680"/>
            <a:ext cx="7848720" cy="480060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过去的我们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是甜蜜的负担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今后的我们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将甜蜜负担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..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7226280" y="5384880"/>
            <a:ext cx="191772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810720"/>
            <a:ext cx="822960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我们的未来不是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高三是我们高中生活的最关键的一年，它必将是我们人生中最美好的珍藏，我们静下心来，背起“勤奋”“自信”“坚持”“互助”的行囊，就一定能战胜一切困难。高考不会压倒我们，只要我们树立信心，把握自己，超越曾经，“我们的未来不是梦！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33ff"/>
                </a:solidFill>
                <a:latin typeface="Arial"/>
                <a:ea typeface="华文行楷"/>
              </a:rPr>
              <a:t>高三的道路是不平坦的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837720" y="327672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99ff"/>
                </a:solidFill>
                <a:latin typeface="华文新魏"/>
                <a:ea typeface="华文新魏"/>
              </a:rPr>
              <a:t>谁要是怕走这崎岖的山道，谁就只好留在山下</a:t>
            </a:r>
            <a:r>
              <a:rPr b="0" lang="zh-CN" sz="4800" spc="-1" strike="noStrike">
                <a:solidFill>
                  <a:srgbClr val="ffcc00"/>
                </a:solidFill>
                <a:latin typeface="华文新魏"/>
                <a:ea typeface="华文新魏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" dur="1" fill="hold"/>
                                  <p:tgtEl>
                                    <p:spTgt spid="2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11280"/>
            <a:ext cx="77724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华文行楷"/>
              </a:rPr>
              <a:t>感悟高三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1      </a:t>
            </a:r>
            <a:r>
              <a:rPr b="0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高三，需要一份如水的心境，如山的意志，如火的热情，决不退缩，决不低头，决不畏惧，决不言败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2    </a:t>
            </a:r>
            <a:r>
              <a:rPr b="0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高三，我们要把高傲的忍耐置于心中，我们辛酸的工作不白费，崇高理想的追求不会落空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122400"/>
            <a:ext cx="7772400" cy="109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6600" spc="-1" strike="noStrike">
              <a:solidFill>
                <a:srgbClr val="ff0000"/>
              </a:solidFill>
              <a:latin typeface="Arial"/>
              <a:ea typeface="华文行楷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其实高三不应该是痛苦的，应是充满欢笑和热情的，为自己的前途而奋斗。高三，在欢笑和汗水中挥洒青春，在勤奋和热情中迈向明天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4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高三是我们生命中不可多得的一份财富。我们应该珍惜这虽苦却乐在最后的美好时光。跨过这道门槛，外面的世界将精彩纷呈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5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痛并快乐着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2869200" y="3049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ahoma"/>
                <a:ea typeface="华文行楷"/>
              </a:rPr>
              <a:t>感悟高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762120" y="2439720"/>
            <a:ext cx="7772400" cy="28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MingLiU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MingLiU"/>
              </a:rPr>
              <a:t>有坎坷，而后有攀登者的快乐，有挫折，而后有奋斗者的幸福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Verdana"/>
                <a:ea typeface="MingLiU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MingLiU"/>
              </a:rPr>
              <a:t>苦难是磨练意志和力量的砺石。有志者用奋斗的汗水淘尽了挫折的泥沙，留下一颗闪光的金粒，那就是成功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1447920" y="990720"/>
            <a:ext cx="601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Times New Roman"/>
              </a:rPr>
              <a:t>努力吧！成功会属于你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ecff"/>
                </a:solidFill>
                <a:latin typeface="华文新魏"/>
                <a:ea typeface="华文新魏"/>
              </a:rPr>
              <a:t>既然我们选择了远方，就应该抛弃“烦躁”，留下“平心静气”，直面高三“痛并快乐”的生活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ecff"/>
                </a:solidFill>
                <a:latin typeface="华文新魏"/>
                <a:ea typeface="华文新魏"/>
              </a:rPr>
              <a:t>既然我们相信“阳光总在风雨后”，就应该抛弃“虎头蛇尾”，背起“坚持忍耐”到达自己远方的天空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ecff"/>
                </a:solidFill>
                <a:latin typeface="华文新魏"/>
                <a:ea typeface="华文新魏"/>
              </a:rPr>
              <a:t>既然我们大家一起走来 ，我们应该手拉着手，互相鼓励，互相帮助，一起欣赏明日的霞光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2743560" y="304920"/>
            <a:ext cx="423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99"/>
                </a:solidFill>
                <a:latin typeface="Times New Roman"/>
                <a:ea typeface="华文行楷"/>
              </a:rPr>
              <a:t>有所选择  有所放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914400"/>
            <a:ext cx="914400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良好的自我形象：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开放、客观、肯定自己、悦纳自己、自信、自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、健康的情绪情感：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情绪稳定、坦率、自然、乐观、有调适能力，能满足合理的自我需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6600cc"/>
                </a:solidFill>
                <a:latin typeface="华文新魏"/>
                <a:ea typeface="华文新魏"/>
              </a:rPr>
              <a:t>、协调的人际关系：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待人真诚，尊重宽容，坦诚相处，能沟通，拥有良好的人际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正常的智能状态：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智力正常、思维敏捷，有自我洞察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ff00"/>
                </a:solidFill>
                <a:latin typeface="华文新魏"/>
                <a:ea typeface="华文新魏"/>
              </a:rPr>
              <a:t>、整合的人格品质：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言行一致，表里如一，乐观的人生态度，幽默感、创造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积极的社会适应：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勇于改变，灵活有弹性，合理评估现实，客观面对现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46640" y="0"/>
            <a:ext cx="34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cc"/>
                </a:solidFill>
                <a:latin typeface="Times New Roman"/>
                <a:ea typeface="华文新魏"/>
              </a:rPr>
              <a:t>心理健康的标志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886200" y="380880"/>
            <a:ext cx="4800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用无可消逝的心书写饱满却不真实的梦境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在我的幸福来到之前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手中的冰棒上出现了仙女的花田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那一刻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芳草萋迷的香气围绕着我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小心翼翼的仰起脸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…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在真正云淡风轻的日子里…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                             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-&lt;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幸福的味道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26920" y="393372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快乐的十八种技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2T16:55:33Z</dcterms:created>
  <dc:creator>微软用户</dc:creator>
  <dc:description/>
  <cp:keywords>主题班会课件(分28大类): http://shop62905894.taobao.com</cp:keywords>
  <dc:language>en-US</dc:language>
  <cp:lastModifiedBy>User</cp:lastModifiedBy>
  <dcterms:modified xsi:type="dcterms:W3CDTF">2013-04-13T14:51:40Z</dcterms:modified>
  <cp:revision>5</cp:revision>
  <dc:subject>主题班会课件(分28大类): http://shop62905894.taobao.com</dc:subject>
  <dc:title>主题班会课件(分28大类): http://shop62905894.taobao.com</dc:title>
</cp:coreProperties>
</file>