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amera.wav" ContentType="audio/x-wav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4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34808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  <a:ea typeface="隶书"/>
              </a:rPr>
              <a:t>教育是心与心的交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19320" y="457200"/>
            <a:ext cx="792468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981080"/>
            <a:ext cx="8001000" cy="916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高考复习方法与心理训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44197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378936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尹邓安　耿喜玲　蔡群　主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心知堂文化交流有限公司制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腹、提肛、收小腿，憋气，短促呼吸几次，全身紧张几次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9900"/>
                </a:solidFill>
                <a:uFillTx/>
                <a:latin typeface="Times New Roman"/>
              </a:rPr>
              <a:t>认识和把握高考试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4419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了解高考试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209680"/>
            <a:ext cx="7238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高考命题的方向和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高考命题原则和题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高考试题难度及考生答题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1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6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47920" y="23623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既要便于高校择优选拔学生，又要有利于中学教学工作；既要高于高中的毕业考试，又不脱离高中学生的实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75800" y="12193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高考命题的指导思想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71600" y="129528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一般说来　，一份试卷在难度上，考记忆和理解水平的题量约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0%;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考分析和思考水平的题量约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考综合运用和创新水平的试题约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914" dur="indefinite" restart="never" nodeType="tmRoot">
          <p:childTnLst>
            <p:seq>
              <p:cTn id="1915" dur="indefinite" nodeType="mainSeq">
                <p:childTnLst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90720" y="1752480"/>
            <a:ext cx="746748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5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符合考试目的，要能测出所要测量的知识掌握量和运用的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容覆盖面要大，各总分内容比例适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不使考生发生误解，使考生明白让他干什么，怎么干，答案应以什么形式出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意清楚，文句简明扼要，避免使用含意很深的字词，除阅读测验外，成绩尽可能不受语言能力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3760" y="8380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高考命题一般原则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6" name="chimes.wav"/>
      </p:stSnd>
    </p:sndAc>
  </p:transition>
  <p:timing>
    <p:tnLst>
      <p:par>
        <p:cTn id="1921" dur="indefinite" restart="never" nodeType="tmRoot">
          <p:childTnLst>
            <p:seq>
              <p:cTn id="1922" dur="indefinite" nodeType="mainSeq">
                <p:childTnLst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2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371600" y="1371600"/>
            <a:ext cx="6477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不致使引起争论的确定答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试题必须彼此独立，不可互相牵连，不使一个题目的回答影响对另一个题目的回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含有暗示可本题或其他题正确答案的线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难度适合受测学生的知识和能力水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容具有一定思想性、教育性，不带来不良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评分方便，且不易受无关因素干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8" name="chimes.wav"/>
      </p:stSnd>
    </p:sndAc>
  </p:transition>
  <p:timing>
    <p:tnLst>
      <p:par>
        <p:cTn id="1943" dur="indefinite" restart="never" nodeType="tmRoot">
          <p:childTnLst>
            <p:seq>
              <p:cTn id="1944" dur="indefinite" nodeType="mainSeq">
                <p:childTnLst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4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4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57200" y="1828800"/>
            <a:ext cx="8458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5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考试的目的和内容采用最适当的题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5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简短，必要的叙述或相同的修饰语应全部置于题干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5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题只能环绕一个中心，并有一个或几个正确答案，正确答案在内容和形式上特别突出，但其正确性必须确凿无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5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干包含解题所必需的共同要素，精练、准确、清楚，不会把选项夹在题干中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61400" y="9144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高考选择题的编写要领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6" name="chimes.wav"/>
      </p:stSnd>
    </p:sndAc>
  </p:transition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1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6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62120" y="1371600"/>
            <a:ext cx="76960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错误答案对考生具有迷惑性，答案可以是考生经常发现的错误，也可以是一般性的误解和似是而非的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各个选项在形式上协调一致，或为数字，或为图形，或为人名。文字长短也大体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项之间不相互重叠、相互包含、相互依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几个选项随机排列或按逻辑顺序排。正确答案在每个位置上出现的次数大致相等，且不要形成固定的格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90000" y="6858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高考选择题的编写要领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6" name="chimes.wav"/>
      </p:stSnd>
    </p:sndAc>
  </p:transition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3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3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19320" y="2057400"/>
            <a:ext cx="693396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有选项在逻辑上和语法上都与题干相接，如果干扰答案在逻辑上或语法上与题干不吻合，被试者就会根据常识发觉它们之间的矛盾而加以排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干创设新的情景，不会重复书本上的现成实例的措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7200" y="8380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高考选择题的编写要领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4" name="chimes.wav"/>
      </p:stSnd>
    </p:sndAc>
  </p:transition>
  <p:timing>
    <p:tnLst>
      <p:par>
        <p:cTn id="2019" dur="indefinite" restart="never" nodeType="tmRoot">
          <p:childTnLst>
            <p:seq>
              <p:cTn id="2020" dur="indefinite" nodeType="mainSeq">
                <p:childTnLst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295280" y="10663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了解高考难题种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2057400"/>
            <a:ext cx="6324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概念性或原理性难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多种知识点的交叉性难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技巧性难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述两类或三类题目的交叉难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6" name="chimes.wav"/>
      </p:stSnd>
    </p:sndAc>
  </p:transition>
  <p:timing>
    <p:tnLst>
      <p:par>
        <p:cTn id="2031" dur="indefinite" restart="never" nodeType="tmRoot">
          <p:childTnLst>
            <p:seq>
              <p:cTn id="2032" dur="indefinite" nodeType="mainSeq">
                <p:childTnLst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2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7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2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心里暗示：“我一定集中精力在ＸＸ分钟内完成作业”，“保证完成！”“决不动摇”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916360" y="2421000"/>
            <a:ext cx="2643120" cy="19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hanks 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怀着紧张的心情睁开眼马上做作业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分心想吃苹果，此时心想：“我是一个有志气的人，我一定在做完ＸＸ作业后再吃”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完作业后，边欣赏成果边吃苹果，口中不断赞扬自己：“我真高兴，我有成果，我学习专心，是一个有志气的人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克服考试焦虑时的自我放松训练方法：</a:t>
            </a:r>
            <a:r>
              <a:rPr b="1" lang="zh-CN" sz="6000" spc="-1" strike="noStrike" u="sng">
                <a:solidFill>
                  <a:srgbClr val="993366"/>
                </a:solidFill>
                <a:uFillTx/>
                <a:latin typeface="Times New Roman"/>
                <a:ea typeface="华文行楷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躺下（或坐下）。床上、地上、椅子　　上皆可，姿势自然、轻松，不要用力，　　也不要勉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09680" y="205740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深呼吸数次，心里默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……。如果有杂念，请不要　　理会，而将注意力集中在呼吸　　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981080" y="1828440"/>
            <a:ext cx="5181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继续保持深呼吸，将注意力转移到身体的各部分，要逐步进行，依序而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在心里对自己说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“我的脑袋越来越轻松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（同时，你的注意力放在头上，你感觉到头越来越轻松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在二三次的深呼吸之后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你再次的在心里对自己说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　“我的脖子越来越轻松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（同时，你的注意力放在脖子上，你感觉到脖子越来越轻松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以此类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到肩膀、双手、肚子、双腿、脚踝、脚趾头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任何部位你要放松的皆可加上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到最后觉得整个人会觉得很放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838080"/>
            <a:ext cx="457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现在请跟着指示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4380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676520" y="2362320"/>
            <a:ext cx="6019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放松之后，觉得想回到现实世界，就只要轻松地将眼睛张开即可。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74280" y="480060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个过程大概约需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380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加强心理训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33920" y="914400"/>
            <a:ext cx="324468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自制力训练方法</a:t>
            </a:r>
            <a:r>
              <a:rPr b="1" lang="zh-CN" sz="6000" spc="-1" strike="noStrike" u="sng">
                <a:solidFill>
                  <a:srgbClr val="993366"/>
                </a:solidFill>
                <a:uFillTx/>
                <a:latin typeface="Times New Roman"/>
                <a:ea typeface="华文行楷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明确人生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坚持执行计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决不迁就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小事做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经常反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676160" y="2285640"/>
            <a:ext cx="4190760" cy="3048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的计划已制定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执行计划靠行动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决不动摇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步一步向前走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定能成功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37160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828800" y="2133360"/>
            <a:ext cx="4191120" cy="2971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会做小事的人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也做不出大事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千里之行始于足下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小事开始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点滴滴地干，才有希望的明天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12193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752480" y="2514600"/>
            <a:ext cx="4191120" cy="36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深信自己拥有了不起的能力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从不羡慕别人的成绩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定能获得无穷无尽的知识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的潜意识知道一切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就连考试时一看试题就能观察出要考的知识点及解题方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61400" y="6094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潜意识心理训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75248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高考前潜意识训练的基本步骤</a:t>
            </a:r>
            <a:r>
              <a:rPr b="1" lang="zh-CN" sz="6000" spc="-1" strike="noStrike" u="sng">
                <a:solidFill>
                  <a:srgbClr val="993366"/>
                </a:solidFill>
                <a:uFillTx/>
                <a:latin typeface="Times New Roman"/>
                <a:ea typeface="华文行楷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21337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身心放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确立训练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浮现实现高考目标景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采取实现高考目标的行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坚信不疑，持之以恒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981080" y="2209680"/>
            <a:ext cx="4191120" cy="335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啊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已考取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大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精神爽快，意气风发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那里有我的梦想和我向往的生活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为成功感到自豪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29528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981080" y="2514600"/>
            <a:ext cx="4191120" cy="274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要考—大学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的理想一定能实现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现目标靠行动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现在，我一定要做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作业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52388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提高学习成绩的潜意识训练法</a:t>
            </a:r>
            <a:r>
              <a:rPr b="1" lang="zh-CN" sz="5400" spc="-1" strike="noStrike" u="sng">
                <a:solidFill>
                  <a:srgbClr val="993366"/>
                </a:solidFill>
                <a:uFillTx/>
                <a:latin typeface="Times New Roman"/>
                <a:ea typeface="华文行楷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1532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身心放松，使之处于轻松愉快和舒适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明确目标，编写自我对话言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浮现乐学的目标形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立即付诸行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坚持不懈，反复练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980720" y="2285640"/>
            <a:ext cx="4953240" cy="335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有着聪明的大脑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的潜意识功能巨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有足够智慧把数学学好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要把聪明才智发挥出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学重要，很有趣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曾有过好成绩，我喜欢数学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学学习妙趣横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的数学成绩越来越好，越学越有意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4479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752120" y="2438280"/>
            <a:ext cx="4953240" cy="281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现在就把数学学好，好好听课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学课越听越有意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及时复习，认真做好数学作业、、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立即付诸行动就是从现在做起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而不是寄希望于明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现在我一定做完数学作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152388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9900"/>
                </a:solidFill>
                <a:uFillTx/>
                <a:latin typeface="Times New Roman"/>
              </a:rPr>
              <a:t>加强心理训练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09480" y="1981080"/>
            <a:ext cx="8001000" cy="4038480"/>
            <a:chOff x="609480" y="1981080"/>
            <a:chExt cx="8001000" cy="4038480"/>
          </a:xfrm>
        </p:grpSpPr>
        <p:sp>
          <p:nvSpPr>
            <p:cNvPr id="97" name=""/>
            <p:cNvSpPr/>
            <p:nvPr/>
          </p:nvSpPr>
          <p:spPr>
            <a:xfrm>
              <a:off x="3276360" y="1981080"/>
              <a:ext cx="24382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核心信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不合格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76360" y="3047760"/>
              <a:ext cx="243828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中间信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如果我不完美就说明我很笨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1840" y="3886200"/>
              <a:ext cx="24386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情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伤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76360" y="3962160"/>
              <a:ext cx="243828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自主性思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考试太难了，我永远过不了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80" y="3962160"/>
              <a:ext cx="243828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情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考试失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71840" y="4647960"/>
              <a:ext cx="24386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行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退缩和睡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71840" y="5410080"/>
              <a:ext cx="24386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生理反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疲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76160" y="4724280"/>
              <a:ext cx="2514600" cy="30492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19360" y="2590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19360" y="37335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4640" y="4343400"/>
              <a:ext cx="3812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14640" y="434340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14640" y="4343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371600" y="9907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杜绝失败的形象进入潜意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16240" y="914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战胜惰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1828800"/>
            <a:ext cx="5486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认识惰性的危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检查自己的惰性有什么表现，并分　　析产生的原因，对症下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根据实际能力，科学合理地制订计　　划并安排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今日事，今日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锻炼意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609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改掉坏习惯的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447920"/>
            <a:ext cx="6476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写出自己有哪些坏习惯必须坚决改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己周围的环境有哪些是可以设法改变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身边有哪些可以影响你的好朋友，他有哪些好的习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旦有成绩，马上肯定自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向别人介绍自己的成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餐后不宜用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握好自己的生物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注意力不宜分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19320" y="609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改掉坏习惯的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4479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宜死记硬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有拖延的习惯必须下决心克服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敢于动手，战胜恐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严格要求，磨炼意志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整洁的环境里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完成好计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心理训练的作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6920" y="19162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提高智力活动水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增强心理承受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提高自我调节和控制能力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提高思想境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公开你的计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为自己找借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给自己分心的机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95280" y="609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改掉坏习惯的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144792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避免做了一半就停下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键时刻先动手再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想想事情做完后将得到的回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要做的事按计划标示在日历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先做完麻烦的事。其余的事做起来就轻松多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间多到户外转一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事情分清主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物品归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只要想做，就立刻去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1447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时间管理改进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2438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牢记：“最严重的浪费就是时间的浪费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制定时间使用计划，并认真去执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记录和分析一天内使用时间的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609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测测你的学习习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14479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447920"/>
            <a:ext cx="769608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固定的时间进行学习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面对书桌就没有兴趣而把时间浪费掉的时候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身边经常备有辞典、字典之类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时有下意识动作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学习中有经常沉迷于空想的时候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过快速读书的练习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结束之后，收拾书桌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完后，背诵所学内容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99072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905120"/>
            <a:ext cx="5334120" cy="419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通向荣誉的路上并不铺满鲜花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藐视困难而实干的人，才能得到真正的荣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失败也是我所需要的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成功对我一样有价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不伤心，不气馁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勇于克服困难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我定能高考成功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一边听广播或看电视一边学习的时候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发回的试卷，经常重看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1981080"/>
            <a:ext cx="70866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分方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，答“是”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，“能以决定”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，答“否”不给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，答“是”不给分， “能以决定”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，答“否” 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每题所得分数相加，即是总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1295280"/>
            <a:ext cx="7086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级评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以下非常差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~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较差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~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一般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 ~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较好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以上，非常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不好，请下决心改变不利于学习的那些不良习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10670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四、把握情感与心理训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685800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9900"/>
                </a:solidFill>
                <a:uFillTx/>
                <a:latin typeface="宋体"/>
              </a:rPr>
              <a:t>把握情感与心理训练</a:t>
            </a:r>
            <a:r>
              <a:rPr b="1" lang="zh-CN" sz="5400" spc="-1" strike="noStrike" u="sng">
                <a:solidFill>
                  <a:srgbClr val="993366"/>
                </a:solidFill>
                <a:uFillTx/>
                <a:latin typeface="Times New Roman"/>
                <a:ea typeface="华文行楷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779920" y="990720"/>
            <a:ext cx="4258440" cy="49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做情感的主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克服紧张时的习惯动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发牢骚要掌握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避免心情懊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避免雷霆之怒</a:t>
            </a:r>
            <a:r>
              <a:rPr b="1" lang="zh-CN" sz="4400" spc="-1" strike="noStrike">
                <a:solidFill>
                  <a:srgbClr val="993366"/>
                </a:solidFill>
                <a:latin typeface="Times New Roman"/>
                <a:ea typeface="华文彩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摆脱恶梦的纠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减轻与同学竞争带来的压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与担忧辩论及个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0" name="chimes.wav"/>
      </p:stSnd>
    </p:sndAc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考十大心理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减少焦虑、紧张、担心、害怕的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减少忧虑三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战胜忧虑六原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6" name="chimes.wav"/>
      </p:stSnd>
    </p:sndAc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440" y="16761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张弛得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每天安排一些空闲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先处理重要的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把能否忙里偷闲视为对能力的一种挑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放慢节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哼歌曲或打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笑一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朗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06600" y="7621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紧张的解除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0" name="chimes.wav"/>
      </p:stSnd>
    </p:sndAc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44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跟朋友一起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玩游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洗热水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跟同学们热闹一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给自己放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找个没人的地方大骂一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削铅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无声呼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借物移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06600" y="838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紧张的解除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1" name="chimes.wav"/>
      </p:stSnd>
    </p:sndAc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371600" y="2362320"/>
            <a:ext cx="58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知道自己的习惯动作是什么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弄清在什么情况下容易出现这种动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预防习惯动作出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别的动作代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有毅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89320" y="11430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克服紧张时的习惯动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7" name="chimes.wav"/>
      </p:stSnd>
    </p:sndAc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68580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我心理训练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1219320"/>
            <a:ext cx="5334120" cy="5236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自制是伟人的品格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能自制的人将一事无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自己斗争才是最困难的斗争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战胜自己才是伟大的胜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想左右知识的人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必先左右自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能调控自己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怕失败，决不动摇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努力奋斗，起到成功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19320" y="1752480"/>
            <a:ext cx="6248160" cy="44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以坦言心里的不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要发毫无意义的牢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要找对发牢骚的对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发牢骚要选好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发牢骚要保持冷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次发牢骚只能有一个主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语言幽默一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脾气不能毫无节制的发出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09960" y="838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发牢骚要掌握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0" name="chimes.wav"/>
      </p:stSnd>
    </p:sndAc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1600200"/>
            <a:ext cx="8001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态度要坚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那些无关紧要的人，切莫自寻烦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接受别人的道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咬舌头数数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6" name="chimes.wav"/>
      </p:stSnd>
    </p:sndAc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828800" y="2057400"/>
            <a:ext cx="5257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科学合理饮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睡眠充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记录自己的情绪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情绪的高低变化不可避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40080" y="985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避免心情懊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6" name="chimes.wav"/>
      </p:stSnd>
    </p:sndAc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95280" y="1600200"/>
            <a:ext cx="6324840" cy="49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觉得气血上涌的时候，就开始数数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遇到可能使你发火的情况，提早防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想好的一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想象轻松的环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自我按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自言自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避免加深愤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坐下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放慢语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别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用冷水洗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把眼睛闭几秒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11240" y="6858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避免雷霆之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4" name="chimes.wav"/>
      </p:stSnd>
    </p:sndAc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调节不良情绪的方法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心理位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升华疏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转移疏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发泄疏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培养兴趣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特殊疏导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2362320"/>
            <a:ext cx="6172200" cy="25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陶冶人的性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鼓舞人的斗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        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促进智力的发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益于人的健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4360" y="1066680"/>
            <a:ext cx="215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学会欣赏音乐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81080" y="1676520"/>
            <a:ext cx="45720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笑口常开，心情愉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度大无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容人为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真正做到不贪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不计名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诚实忠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多交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讲文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培养广泛的兴趣与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1" name="chimes.wav"/>
      </p:stSnd>
    </p:sndAc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80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树立远大理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闷闷不乐时，要找原因，努力排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学会“自我暗示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回忆愉快的事以驱走忧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听音乐，唱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暂时变换一下环境和活动方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0040" y="9907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保持乐观的具体办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8" name="chimes.wav"/>
      </p:stSnd>
    </p:sndAc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094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置身于有成就感和乐观的人群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经常进行锻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修饰自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积小胜为大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准备工作能使你获得自信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接受消极的念头，然后分析，找出积极办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5120" y="8380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培养乐观情绪的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8" name="chimes.wav"/>
      </p:stSnd>
    </p:sndAc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假设你已经达到目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有一个心理安全环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我奖励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自己的期望应恰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与别人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放松情绪，不计一时得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每一次考试当作学习的机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9" name="chimes.wav"/>
      </p:stSnd>
    </p:sndAc>
  </p:transition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心理训练有哪些方法呢？</a:t>
            </a:r>
            <a:r>
              <a:rPr b="1" lang="zh-CN" sz="6000" spc="-1" strike="noStrike" u="sng">
                <a:solidFill>
                  <a:srgbClr val="993366"/>
                </a:solidFill>
                <a:uFillTx/>
                <a:latin typeface="Times New Roman"/>
                <a:ea typeface="华文行楷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暗示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我强化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我放松训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系统脱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榜样模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消除紧张情绪的训练方法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6629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意守丹田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视觉放松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意动悬垂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深呼吸放松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自我意识调节放松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3160" y="6094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意守丹田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219320"/>
            <a:ext cx="75438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是我国古代流传下来的自我放松训练法。具体方法是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首先静下心来，排除杂念，两眼似睁非睁，似闭非闭，把注意力集中在下丹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腹部脐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厘米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想像着在丹田中有一股气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着用腹式呼吸法慢慢呼吸。吸气时想像着丹田中的这股气由腹部逐渐上升到胸部，再上升到头部，直到头顶“百会”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头顶正中线与两耳尖连线的交叉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呼气时，想像这股气由百会向后、向下顺着脖子、脊梁下行，直到“会阴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指骨盆的下方，左右两腿之间的区域，后部有肛门，前部有外生殖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再向前、向上回到丹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样一呼一吸，周而复始，反复进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由于集中了全部的注意力，就能使训练者渐渐达到排除一切杂念、心静神宁的境界，从而达到消除紧张、自我松弛的效果。这种自我放松的心理疗法，不管在什么地方，也不论是站着、坐着还是躺着，都可以进行，而且所花时间长短不拘，简便易行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5" name="chimes.wav"/>
      </p:stSnd>
    </p:sndAc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3160" y="1295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视觉放松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057400"/>
            <a:ext cx="7543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谓视觉放松，即用画面创造松弛的心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具体步骤是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闭上双眼，在脑海里想像一个使你真正感觉放松、恬静、愉快的姿势，描绘出一幅令人感到舒适的图画——漫步在海滩上，听着海浪温柔的拍岸声，让沁凉、清爽的微风任意从脸上、头发上吹过；或是漫步在公园浓密的树阴里，鸟儿在枝头啾啾鸣叫，想像你感觉松弛的经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平稳地深呼吸，让自己沉浸在对往事的美好回忆之中——回想那情形、声音、气味、感觉和心境，让自己重新体会那些幸福的瞬间，就能使紧张慢慢得以缓解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72280" y="8380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意动悬垂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523880"/>
            <a:ext cx="7925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先找来一个小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者小铁块、铁球、铜钥匙之类的重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一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厘米左右结实的细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尼龙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一端将它系牢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然后用自己的优势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即拿筷子的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拇指和食指提住细绳的另一端，让小锤成自然悬垂状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待小锤停稳不动时，就让自己用意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手不要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想像着小锤开始作画圈运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开始时按顺时针方向画小圈，而后越画越大。等到小锤在意念导引下果真运动起来，出现顺时针方向的画圈运动时，就再改变想像，让小锤进行逆时针方向的画圈运动，直到成功为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这种心理疗法的关键是，要集中注意力，排除一切杂念，用意念导引小锤运动。初学者可能头一两次学不会，但只要多练几次，注意力就会真正集中了。实践证明，此法对于考试怯场者来说尤为有效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7" name="chimes.wav"/>
      </p:stSnd>
    </p:sndAc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24080" y="83808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深呼吸放松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1600200"/>
            <a:ext cx="79246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通过胸部的深呼吸，可以增加呼吸量，使血液中的氧气含量更充足。因此，在面临紧张情况时做深呼吸，可使人全身放松，恢复镇定和平静，并且增加勇气与自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练习深呼吸时，可以闭上眼睛，以放松的姿势坐着或站着。抬头挺胸，双肩放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吸气时要深深地吸，把肺部尽量扩张；呼气时慢慢地呼，让呼气时间拖得稍长一点，一直到把肺部的残留气体差不多呼尽为止。尽量用鼻子呼吸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深呼吸放松法简单易行，不需要占用较长时间，是一种方便、有效的应急措施。如在考试之前，都可以用深呼吸法来调整身心状态，减轻紧张情绪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4" name="chimes.wav"/>
      </p:stSnd>
    </p:sndAc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65080" y="1447920"/>
            <a:ext cx="28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自我意识调节放松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2590920"/>
            <a:ext cx="63244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准备动作：深深吸进一口气，保持一会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把气呼出来，漫漫的呼出来，继续呼出来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再深深吸进一口气，保持一会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再保持一会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把气呼出来，漫漫的呼出来，继续呼出来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停一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71600" y="2286000"/>
            <a:ext cx="5943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伸出右手，用力弯曲前臂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握紧拳头，用力握紧，再握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力收前臂，收紧，再收紧。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此时体验肌肉紧张的感受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让紧张向上延伸到整个手臂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注意感受右手的紧张，有涨、酸、麻等感觉，坚持一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再坚持一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-------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60840" y="114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手臂部的放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1143000"/>
            <a:ext cx="77724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现在放松右手手臂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仔细体会放松后松软，无力、温暖的感觉，比较紧张与放松状态的不同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伸出左手，重复上述步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左右双臂伸直，双手握拳，用力握紧，再握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让紧张延伸到整个双臂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注意感受这种紧张，坚持一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再坚持一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------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现在放松双手及双臂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仔细体会放松的感觉，再次握紧双拳，并向上弯曲双臂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收紧两臂的肌肉，再收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注意感受这种紧张，坚持一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再坚持一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------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现在伸直双臂，放松双手及双臂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秒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仔细体会放松的感觉，再做一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7720" y="1980720"/>
            <a:ext cx="54104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早上起床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立即摇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口里自语“我没做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回想梦的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对别人讲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56640" y="7621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摆脱噩梦的纠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7" name="chimes.wav"/>
      </p:stSnd>
    </p:sndAc>
  </p:transition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62120" y="205740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正确的看待高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端正认识，改变消极看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审视自己的担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68560" y="10666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减轻与同学竞争带来的压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5" name="chimes.wav"/>
      </p:stSnd>
    </p:sndAc>
  </p:transition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背靠椅子，闭上，全身放松，心沉丹田部位（肚脐下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处），腿可自然伸直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97240" y="7621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专心学习的训练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7732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43000" y="13716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对担忧进行合理性分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74320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担忧都写下来，不要去分析，不要去想这　些担忧，也不要怕重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理已经写下来的担忧，去掉重复的项目，把各条比较一下，把实质相同的项目合并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担忧程度对各项目进行排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5" name="chimes.wav"/>
      </p:stSnd>
    </p:sndAc>
  </p:transition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1905120"/>
            <a:ext cx="5257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事实根据的推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偏盖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夸大或缩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绪推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4480" y="8859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担忧的认知错误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6" name="chimes.wav"/>
      </p:stSnd>
    </p:sndAc>
  </p:transition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143000" y="10666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消除考试过度焦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4495680"/>
            <a:ext cx="44956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828800" y="2209680"/>
            <a:ext cx="0" cy="2286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895480"/>
            <a:ext cx="4038480" cy="1600200"/>
          </a:xfrm>
          <a:custGeom>
            <a:avLst/>
            <a:gdLst/>
            <a:ahLst/>
            <a:rect l="l" t="t" r="r" b="b"/>
            <a:pathLst>
              <a:path w="2544" h="960">
                <a:moveTo>
                  <a:pt x="0" y="960"/>
                </a:moveTo>
                <a:cubicBezTo>
                  <a:pt x="484" y="480"/>
                  <a:pt x="968" y="0"/>
                  <a:pt x="1392" y="0"/>
                </a:cubicBezTo>
                <a:cubicBezTo>
                  <a:pt x="1816" y="0"/>
                  <a:pt x="2352" y="800"/>
                  <a:pt x="2544" y="96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低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56440" y="2438280"/>
            <a:ext cx="91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考试发挥水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289548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焦虑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6668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调整抱负水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信心训练及个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找出消极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向消极自我意识挑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深呼吸缓解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2320" y="9907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克服怯场心理的办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5" name="chimes.wav"/>
      </p:stSnd>
    </p:sndAc>
  </p:transition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7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1143000"/>
            <a:ext cx="86868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考试成绩代表了我的价值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讨厌考试，考试使我紧张，以至忧心忡忡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担心其他同学在这次开始中都比自己强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考不好，我没面子，别人都笑话我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应该门门都得好成绩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次没考好，就认为自己能力差，以后也会失败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考试复习不全面，高考会遇到不少难题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担忧高考过不了关，以后的前途完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0" name="chimes.wav"/>
      </p:stSnd>
    </p:sndAc>
  </p:transition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00200" y="10666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消除怯场的几种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743200"/>
            <a:ext cx="5715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忆知识的大致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试场前进行自我暗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体调节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移刺激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6" name="chimes.wav"/>
      </p:stSnd>
    </p:sndAc>
  </p:transition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12952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据调查研究，再好的一种心理训练方法只能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人能起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效果。如果上述某种方法对你不起作用，可换另一种方法，同时自己也要做好心理训练配合，不要对这种训练产生抵触情绪。即使如此，如果平时学习训练不够，备考不充分，以为到了考场只要口里念念有词，或者伸胳膊甩腿，或者专门“走神”，就可以考好，那就本末倒置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228600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焦虑是人人都会出现的一种心理状态，焦虑丰富了一个人的情绪生活。一个人如果能多次战胜焦虑，能很好地面对焦虑，就会变得越自信、越来越成熟，成绩也会越来越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走出抑郁困境的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想一想自己期望在那些方面变地更好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设想一下自己在以上某一方面想要达　到的更理想的状态是怎样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找出自己现在具有的、可以利用的有　利条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之间反复对照、权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将选定的目标划分为几个阶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06600" y="6858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化解对高考的抑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调节高考迫近的紧张心理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紧张心理对高考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保持冷静的头脑和坦然的心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理安排复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转移注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采取“合理化”心理防御方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1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想像自己身处在一个风景优美的野外或公园里，想像鼻子闻到花的香味，暗示自己很放松，以驱散头脑中的杂念（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钟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520" y="6854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面对家长期望过高的心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理解父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父母沟通，化压力为动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制订切实可行的复习计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关心父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75248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与父母融洽相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两代人发生矛盾的原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行为方式不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生活方式不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价值观念不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7" name="chimes.wav"/>
      </p:stSnd>
    </p:sndAc>
  </p:transition>
  <p:timing>
    <p:tnLst>
      <p:par>
        <p:cTn id="1644" dur="indefinite" restart="never" nodeType="tmRoot">
          <p:childTnLst>
            <p:seq>
              <p:cTn id="1645" dur="indefinite" nodeType="mainSeq">
                <p:childTnLst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5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71600" y="2819520"/>
            <a:ext cx="5943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要关心国家大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要了解点成人心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要善于进行反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47200" y="13716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与父母融洽相处的办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671" dur="indefinite" restart="never" nodeType="tmRoot">
          <p:childTnLst>
            <p:seq>
              <p:cTn id="1672" dur="indefinite" nodeType="mainSeq">
                <p:childTnLst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高考十大心理障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怯懦型心理障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想型心理障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绪型心理障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闭锁型心理障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卑型心理障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嫉妒型心理障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失意型心理障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习惯型心理障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唯分型心理障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厌倦型心理障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9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4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9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4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焦虑（紧张、担心、害怕）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什么焦虑（紧张、担心、害怕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纵使所焦虑的事情发生了，最坏的结果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它真得那么可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别人是不是也经历过类似的事情？他们是不是完蛋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是否就无法活下去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20400" y="1447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思考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73320" y="60948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减少焦虑、紧张、担心、害怕的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8" name="chimes.wav"/>
      </p:stSnd>
    </p:sndAc>
  </p:transition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5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5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1523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究竟出了什么问题，另我如此焦虑（紧张、担心、害怕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问题的起因是什么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决的办法有哪些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决定用什么办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什么时候开始采取行动？—现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64960" y="762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思考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6" name="chimes.wav"/>
      </p:stSnd>
    </p:sndAc>
  </p:transition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7621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接受事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将所有的情况经过仔细考虑，将整个的事实来龙去脉分析之后，才做出最后决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当你在为一个问题烦恼时，回答四个问题：你的烦恼是什么？造成烦恼的原因是什么？针对这些问题适用的办法是什么？选用最佳方案——行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37760" y="91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减少忧虑三原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802" dur="indefinite" restart="never" nodeType="tmRoot">
          <p:childTnLst>
            <p:seq>
              <p:cTn id="1803" dur="indefinite" nodeType="mainSeq">
                <p:childTnLst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保持忙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让自己的情绪受无谓小事的干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问：依据记录资料的统计和常理推断，我所忧虑和担心的事情会不会发生？如曾有发生的记载，那么推推看，发生达到概率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勇敢地接受不可抗拒的事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37760" y="5335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战胜忧虑六原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6212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烦恼的事情真正妨碍我生活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应为自己的忧虑定一个负担极限，如超过这个极限，就要设法忘记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对自己的忧虑付出了多大代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代价是否过高？值得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37760" y="5335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战胜忧虑六原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2952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论什么时候，只要我感到挫折和烦恼时，就自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95800" y="5410080"/>
            <a:ext cx="29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往事已逝，来者可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914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五、认识和把握高考试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274644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08:39:36Z</dcterms:created>
  <dc:creator>wangyuan</dc:creator>
  <dc:description/>
  <dc:language>en-US</dc:language>
  <cp:lastModifiedBy>User</cp:lastModifiedBy>
  <dcterms:modified xsi:type="dcterms:W3CDTF">2013-04-13T15:05:31Z</dcterms:modified>
  <cp:revision>147</cp:revision>
  <dc:subject/>
  <dc:title>职业形象与商务礼仪</dc:title>
</cp:coreProperties>
</file>