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%E9%B8%9F4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%E9%9B%A802.WAV" ContentType="audio/x-wav"/>
  <Override PartName="/ppt/media/%E6%B0%B402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BFF8-5196-455C-998D-DF1D685B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453-4018-405B-A1F8-76F52EF6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F6B-33DA-4764-A951-ED986DA2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5C4-2EDE-4EDF-8410-C75A7571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825C-C173-4692-A298-BA810C6A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09B9-B382-46EB-BA69-0C40DFF8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48C-F489-4435-A813-67CBA12D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E67-6C18-4DCA-B632-DD16A3B9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06EC-5CB8-4FF4-9BCA-2F662D45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E0BC-8DBD-47B0-B114-03C17F5B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3F1-2725-47D4-A7E0-08334A7C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0FDF-DF7E-433D-B777-D5576AA4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BBBC-FF9E-48E1-B524-CB54038ABD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40479;4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&#38632;02.WAV"/><Relationship Id="rId3" Type="http://schemas.openxmlformats.org/officeDocument/2006/relationships/audio" Target="../media/&#27700;02.WAV"/><Relationship Id="rId4" Type="http://schemas.openxmlformats.org/officeDocument/2006/relationships/audio" Target="../media/&#27700;02.WAV"/><Relationship Id="rId5" Type="http://schemas.openxmlformats.org/officeDocument/2006/relationships/audio" Target="../media/&#27700;02.WAV"/><Relationship Id="rId6" Type="http://schemas.openxmlformats.org/officeDocument/2006/relationships/audio" Target="../media/&#27700;02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76500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应试能力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-----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88000" y="476280"/>
            <a:ext cx="40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99"/>
                </a:solidFill>
                <a:latin typeface="Arial"/>
              </a:rPr>
              <a:t>静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481968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2009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高三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5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班主题班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5773680"/>
            <a:ext cx="39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隶书"/>
                <a:ea typeface="隶书"/>
              </a:rPr>
              <a:t>2009.5.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3645000"/>
            <a:ext cx="6913440" cy="1099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让我们更加精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47640" y="2133720"/>
            <a:ext cx="30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高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2533680"/>
            <a:ext cx="131580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Stencil"/>
              </a:rPr>
              <a:t>To</a:t>
            </a:r>
            <a:r>
              <a:rPr b="0" lang="en-US" sz="2400" spc="-1" strike="noStrike">
                <a:solidFill>
                  <a:srgbClr val="0000ff"/>
                </a:solidFill>
                <a:latin typeface="Stenci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32360" y="2690640"/>
            <a:ext cx="1984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大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9%B8%9F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16000" y="620640"/>
            <a:ext cx="88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方正舒体"/>
              </a:rPr>
              <a:t>记住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谁能“静”谁就能成功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7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2120" y="533520"/>
            <a:ext cx="7848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待到夏荷绽放。。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56000" y="259920"/>
            <a:ext cx="49910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所有的努力都会有回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所有的汗水都会有收获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所有的希冀都会有结果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所有的风帆都要远航－－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9%9B%A8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B0%B4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B0%B4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B0%B4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6%B0%B4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31280" y="1915920"/>
            <a:ext cx="8604360" cy="86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650"/>
              </a:spcBef>
              <a:buClr>
                <a:srgbClr val="ff33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Script MT Bold"/>
                <a:ea typeface="华文行楷"/>
              </a:rPr>
              <a:t>期待着六月的辉煌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4560" y="642960"/>
            <a:ext cx="38152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华文行楷"/>
                <a:ea typeface="华文行楷"/>
              </a:rPr>
              <a:t>祝大家笑到最后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逢大事有静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不信今世无古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2064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佛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：“由戒而定，定能生慧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9700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道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：“孰能浊以止，静之徐清；孰能安以久，动之徐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13372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儒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：“知止而后有定，定而后能静，静而后能虑，虑而后能得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1417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医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：“精神内守，病从安来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64500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拳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：“动则如龙虎，静犹古佛心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14972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兵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：“为将之道，当先治心。泰山崩于前而面不改色，麋鹿兴于左而目不瞬，然后可以制利害，可以待敌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589720"/>
            <a:ext cx="90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文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：“静观万物皆春意思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诸子百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此推崇静，必然有他们的意所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181080" y="0"/>
            <a:ext cx="93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静不仅是一种修养，是一种智慧，也是一种策略。一事当前，临危不乱，自能产生出无限智慧，化解困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98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心浮气乱之人，非但不能解决问题，反而误事。人为生活琐事而缠心，乃至思绪纷纷，被情欲所牵制。不能以理智主宰自己，不能洞察事物真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276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惟有静，才能驾御自己，才能专注思考某一问题，继而获得智慧，改变客观世界。所以近代曾国藩、杨昌济均大力提倡静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573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静，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使佛家达到四禅八定的境界，开慧、开悟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使道家修己入静，以成金丹大道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使儒家获得睿智，完成修身、齐家、治国、平天下的人生阶梯；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使病人神宁气静，精气充满，达到健康长寿；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使拳家养成：“清逸大勇”的精神境界；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使兵家从容不迫，胜敌于谈笑之间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；使文人获得写作灵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09300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少一点躁动，多一点静气！人生会更加美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900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何谓大事，就其本质来说，大事都是关键的，本质的，核心的，全局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06864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何谓静气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能也会有不同的看法，有消极的，也有积极的；有正面的，也有负面的；有正确的，也有错误的等等。就古人原意，静气不是放弃，静气不是观望，静气不是无奈，静气不是等待。这静气是一种积极平和的心态，是冷静观察，刻苦思索的过程，是镇定自如，沉着应对的意志力，是从容不迫，永不言败的信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1125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激烈的竞争，快节奏的生活，纷繁复杂的社会现象，强烈追逐物资生活的欲望，给人们增加了无形的压力。要适应这变幻莫测的社会环境，没有勇气不行，没有志气不行，可是没有静气也不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谈到静气有很多的人和事值得我们学习和借鉴的。诸葛亮在空城计中的表现令人赞叹。因街亭失守，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司马懿十五万大军，望西城蜂拥而来，时孔明身边别无大将，只有一班文官，兵卒不到二千五百，众官听得这个消息，尽皆失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68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孔明登城望之，果见尘土冲天，魏兵分两路望西城杀来。孔明传令，教将士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“旌旗尽皆藏匿，诸军各守城铺。若有妄行出入及高声言语者立斩。大门四开，每一门上用二十军士扮作百姓，洒扫街道。如魏兵到时，不可擅动，吾自有计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33336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孔明乃披鹤氅，戴纶巾，引二小童携琴一张，于城上敌楼前凭栏而坐，焚香操琴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276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诸葛亮的静气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仅表现在大门洞开，百姓洒扫街道的安排上，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更重要的是表现在操琴上。十五万大军压境，琴声能斯文不乱，这要何等的意志力，何等的平和心态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难怪司马懿看不出破绽，而慌忙退兵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6000" y="69228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年女排教练袁伟民，那种从容镇定的表情，处险情而不惊，在闹市而不乱，大将风度至今令人赞不绝口，记忆犹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357720"/>
            <a:ext cx="9144000" cy="192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今天，不管你是做工的，还是种田的；不管你是军人也好，还是经商也罢；不管你是高政治的，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还是研究学问的等等。要成大事，要想获得成功，成就大业，就必须有静气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26028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一个人的静气从哪里来，它不是与生俱有，也不是天上掉下来的，它是后天培养的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种静气是建立在良好的心理素质之上，建立在丰富经验基础之上，建立在过人智慧和勇气之上，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建立在超人的意志力之上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如人们所说：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经多实践心方明，看破浮名意自平；洞悉世事胸襟阔，阅尽人情眼界宽；事到盛时须警省，境当逆处要从容；虚怀若谷观一是，胸有成竹方能静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49370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种静气是靠调查研究，对全局精辟分析和对形势正确判断来支撑，这种静气是把握机遇，捕捉信息，有备而为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44280"/>
            <a:ext cx="9144000" cy="55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buClr>
                <a:srgbClr val="99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ff"/>
                </a:solidFill>
                <a:latin typeface="宋体"/>
              </a:rPr>
              <a:t>我一定</a:t>
            </a:r>
            <a:r>
              <a:rPr b="1" lang="zh-CN" sz="9600" spc="-1" strike="noStrike" u="sng">
                <a:solidFill>
                  <a:srgbClr val="ff5050"/>
                </a:solidFill>
                <a:uFillTx/>
                <a:latin typeface="宋体"/>
              </a:rPr>
              <a:t>要</a:t>
            </a:r>
            <a:r>
              <a:rPr b="1" lang="zh-CN" sz="8000" spc="-1" strike="noStrike">
                <a:solidFill>
                  <a:srgbClr val="9900ff"/>
                </a:solidFill>
                <a:latin typeface="宋体"/>
              </a:rPr>
              <a:t>做好！</a:t>
            </a:r>
            <a:r>
              <a:rPr b="1" lang="zh-CN" sz="80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buClr>
                <a:srgbClr val="99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ff"/>
                </a:solidFill>
                <a:latin typeface="宋体"/>
              </a:rPr>
              <a:t>我一定</a:t>
            </a:r>
            <a:r>
              <a:rPr b="1" lang="zh-CN" sz="9600" spc="-1" strike="noStrike" u="sng">
                <a:solidFill>
                  <a:srgbClr val="ff5050"/>
                </a:solidFill>
                <a:uFillTx/>
                <a:latin typeface="宋体"/>
              </a:rPr>
              <a:t>能</a:t>
            </a:r>
            <a:r>
              <a:rPr b="1" lang="zh-CN" sz="8000" spc="-1" strike="noStrike">
                <a:solidFill>
                  <a:srgbClr val="9900ff"/>
                </a:solidFill>
                <a:latin typeface="宋体"/>
              </a:rPr>
              <a:t>做好！</a:t>
            </a:r>
            <a:r>
              <a:rPr b="1" lang="zh-CN" sz="80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838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ff"/>
                </a:solidFill>
                <a:latin typeface="隶书"/>
                <a:ea typeface="隶书"/>
              </a:rPr>
              <a:t>言语暗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7:29:14Z</dcterms:created>
  <dc:creator>微软用户</dc:creator>
  <dc:description/>
  <cp:keywords>主题班会课件(分28大类): http://shop62905894.taobao.com</cp:keywords>
  <dc:language>en-US</dc:language>
  <cp:lastModifiedBy>User</cp:lastModifiedBy>
  <dcterms:modified xsi:type="dcterms:W3CDTF">2013-04-13T15:22:32Z</dcterms:modified>
  <cp:revision>1</cp:revision>
  <dc:subject>主题班会课件(分28大类): http://shop62905894.taobao.com</dc:subject>
  <dc:title>主题班会课件(分28大类): http://shop62905894.taobao.com</dc:title>
</cp:coreProperties>
</file>