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gif" ContentType="image/gif"/>
  <Override PartName="/ppt/media/image11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13.jpeg" ContentType="image/jpeg"/>
  <Override PartName="/ppt/media/image9.gif" ContentType="image/gif"/>
  <Override PartName="/ppt/media/image10.jpeg" ContentType="image/jpeg"/>
  <Override PartName="/ppt/media/image1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7A9-B01B-457C-A629-3C7E202B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C2F-8846-45A1-846F-63991CFC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7F2-DD8C-4388-99C9-8CC23AC6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4EB-2B11-4E58-A5DF-1324BBFE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9F9-6550-42DB-A56A-FAFA785F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6D7-D792-482D-8868-913670F1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394-F1A5-4C77-94CA-37E0FA8E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7C6-14CB-4825-BE21-E92FC8C8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B28-73E7-4326-AB9A-9AC35830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04B-C2CD-4AF3-8B99-88316461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1C4-ED1D-4FD2-9480-274391C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477-A677-48EF-8C84-2512078D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2D2A-FEF4-4629-A76B-CBBB6B909D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553080" cy="237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5229360"/>
            <a:ext cx="66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—</a:t>
            </a:r>
            <a:r>
              <a:rPr b="1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高三</a:t>
            </a:r>
            <a:r>
              <a:rPr b="1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(7)</a:t>
            </a: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班</a:t>
            </a:r>
            <a:r>
              <a:rPr b="1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家长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43000" y="0"/>
            <a:ext cx="1701000" cy="6858000"/>
          </a:xfrm>
          <a:prstGeom prst="rect">
            <a:avLst/>
          </a:prstGeom>
          <a:solidFill>
            <a:srgbClr val="ff0000"/>
          </a:solidFill>
          <a:ln cap="sq"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隶二繁体"/>
              </a:rPr>
              <a:t>6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同窗同甘共苦拼搏从此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548640" y="0"/>
            <a:ext cx="1701000" cy="6858000"/>
          </a:xfrm>
          <a:prstGeom prst="rect">
            <a:avLst/>
          </a:prstGeom>
          <a:solidFill>
            <a:srgbClr val="ff0000"/>
          </a:solidFill>
          <a:ln cap="sq"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隶二繁体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春秋风雨兼程成败在明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04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1268280"/>
            <a:ext cx="7740720" cy="5220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语文——肖坤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数学——南江岳、陈小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英语——马丹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物理——布宇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化学——黄    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——张小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班级单科第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进步显著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484280"/>
            <a:ext cx="7920000" cy="491904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娄航行、 王亚超、王笑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高慧英、 刘   璇、 熊泰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蒋    悦、 张   帅、 周   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彭    泽、 吴启帆、段   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268280"/>
            <a:ext cx="7921440" cy="51534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客观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考察内容全面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知识遗忘率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训练少，不适应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观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粗心大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课堂效率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方法不科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…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成绩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6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成绩背后的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341360"/>
            <a:ext cx="7772400" cy="5040360"/>
          </a:xfrm>
          <a:prstGeom prst="rect">
            <a:avLst/>
          </a:prstGeom>
          <a:noFill/>
          <a:ln cap="sq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）偏科严重，不重视语文、英语的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平时积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）个别同学上课自以为是，不够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心，甚至开小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）有些学生作业马虎，作业差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多，选择题乱猜；老师讲评过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题没有养成及时订正的习惯，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致已做过的练习屡做屡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6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成绩背后的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341360"/>
            <a:ext cx="7772400" cy="5040360"/>
          </a:xfrm>
          <a:prstGeom prst="rect">
            <a:avLst/>
          </a:prstGeom>
          <a:noFill/>
          <a:ln cap="sq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放松学习，行为懒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考试心理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6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没有进入毕业班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7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学习不扎实，不能落实到实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8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个别同学有抄作业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9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有抽烟、早恋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不能合理安排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6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成绩背后的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341360"/>
            <a:ext cx="8064360" cy="5040360"/>
          </a:xfrm>
          <a:prstGeom prst="rect">
            <a:avLst/>
          </a:prstGeom>
          <a:noFill/>
          <a:ln cap="sq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基础差，丧失信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1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自觉性差，老师在与不在不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一样，有些同学会违反纪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13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缺乏吃苦精神，不能持之以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14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沉迷网络、小说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7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考试之后我们该做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268280"/>
            <a:ext cx="8280360" cy="5113440"/>
          </a:xfrm>
          <a:prstGeom prst="rect">
            <a:avLst/>
          </a:prstGeom>
          <a:noFill/>
          <a:ln cap="sq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加强思想教育工作，增强学生的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信心和成才欲望，充分利用课堂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班会时间给同学们加油鼓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落实成绩之后，寻找薄弱科目，确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定培优补差学生名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通过与各科老师的联系，对补差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生进行督察，使其在薄弱科上有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进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7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考试之后我们该做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413000"/>
            <a:ext cx="8424720" cy="4680000"/>
          </a:xfrm>
          <a:prstGeom prst="rect">
            <a:avLst/>
          </a:prstGeom>
          <a:noFill/>
          <a:ln cap="sq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增强时间观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向偏科现象严重的同学介绍好的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习经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6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通过谈话帮助学生分析成绩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,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找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7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加强自习课及课余时间的辅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8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帮助学生确定目标，加强跟踪力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7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考试之后我们该做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341360"/>
            <a:ext cx="7704000" cy="5040360"/>
          </a:xfrm>
          <a:prstGeom prst="rect">
            <a:avLst/>
          </a:prstGeom>
          <a:noFill/>
          <a:ln cap="sq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9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严格常规管理，严格请假制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严格班规班纪，稳定学习秩序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为全面复习保驾护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老师们全力以赴，精心备课，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织好考前总复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）和学生同甘共苦，关爱每一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生，用真情激励学生奋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692360" y="2781360"/>
            <a:ext cx="5181480" cy="3432240"/>
            <a:chOff x="1692360" y="2781360"/>
            <a:chExt cx="5181480" cy="343224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340000" y="278136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 txBox="1"/>
            <p:nvPr/>
          </p:nvSpPr>
          <p:spPr>
            <a:xfrm>
              <a:off x="1692360" y="484200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476280"/>
            <a:ext cx="77724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家长会目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557360"/>
            <a:ext cx="874872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、给孩子鼓劲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、高考动员工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、探讨教育方式，形成教育合力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、关注孩子的身体及心理健康问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、为孩子营造良好的学习氛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333600">
            <a:off x="1692360" y="4005000"/>
            <a:ext cx="611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家长适当的期望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25360"/>
            <a:ext cx="8893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buClr>
                <a:srgbClr val="ff00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ff00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期望值过低或没有：尚不自觉的孩子缺少外在精神支持，认为不重视、无所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ff00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适当的期望值：在原有基础上适当拔高，不操之过急，不高不可攀，否则可能大家都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隶书"/>
              </a:rPr>
              <a:t>孩子可能存在的问题以及应对措施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4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自习课说话、看小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2682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12a8"/>
                </a:solidFill>
                <a:latin typeface="黑体"/>
                <a:ea typeface="黑体"/>
              </a:rPr>
              <a:t>明确目标，树立信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133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上课、自习课睡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360" y="1989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晚间不要太晚 ，不要疲劳战，要效率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924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补课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否必要，如必要，勤和补课老师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716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心理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645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控制自己情绪 ，多观察、  多交流，注意交流的内容、方式、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653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租房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724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黑体"/>
              </a:rPr>
              <a:t>提醒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每天晚自习以后，孩子在哪里，在做什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73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早恋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580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12a8"/>
                </a:solidFill>
                <a:latin typeface="Tahoma"/>
                <a:ea typeface="黑体"/>
              </a:rPr>
              <a:t>您发现什么异样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18900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ahoma"/>
                <a:ea typeface="隶书"/>
              </a:rPr>
              <a:t>对您的几点参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1497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12a8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212a8"/>
                </a:solidFill>
                <a:latin typeface="Times New Roman"/>
                <a:ea typeface="黑体"/>
              </a:rPr>
              <a:t>、积极配合老师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417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作好后勤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2201760"/>
            <a:ext cx="50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12a8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212a8"/>
                </a:solidFill>
                <a:latin typeface="Times New Roman"/>
                <a:ea typeface="黑体"/>
              </a:rPr>
              <a:t>、适当掩藏负面情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41300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以孩子为中心  不要过分唠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2924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黑体"/>
              </a:rPr>
              <a:t>饮食要有奶类、豆类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黑体"/>
              </a:rPr>
              <a:t>蔬菜、水果、谷类、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4360" y="5092560"/>
            <a:ext cx="1908360" cy="1721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1800" y="5950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黑体"/>
              </a:rPr>
              <a:t>让孩子感觉这是一个温暖的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08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、为孩子营造良好的学习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404640"/>
            <a:ext cx="75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隶书"/>
              </a:rPr>
              <a:t>希望家长配合的工作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1268280"/>
            <a:ext cx="87138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在思想上，家长能够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多与子女沟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及时了解和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握子女的心理动向，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给其学习施加一定的压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对子女的教育方式方法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要多鼓励少批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观察孩子变化，及时发现并纠正其不良行为而切忌护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要教育孩子怎样做人，关心孩子的思想动态使孩子有正确的思想导向、明确的奋斗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工作再忙也要抽点时间来校多了解孩子在校的表现和学习成绩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要学会欣赏孩子，要善于发现他们的闪光点，及时给予鼓励，以增强他们的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71640" y="404640"/>
            <a:ext cx="75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隶书"/>
              </a:rPr>
              <a:t>希望家长配合的工作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134136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在生活上，家长能够合理安排饮食，注意补充营养，身体是革命的本钱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醒孩子注意安全（交通安全、运动安全、饮食安全等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学生按时作息，不要因晚上学习时间过长或看电视、上网无度，睡眠不足影响第二天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特殊情况要请假（最好打电话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控制零花钱，引导孩子合理消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抓好子女在家的行为习惯：如良好的休息、科学的安排学习、适量的家务劳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孩子面前做好表率，身教重于言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71640" y="404640"/>
            <a:ext cx="75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隶书"/>
              </a:rPr>
              <a:t>希望家长配合的工作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4000" y="1265400"/>
            <a:ext cx="856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学习上，教育孩子在上课时专心听老师讲课，不懂就是不懂，要虚心请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强调“认真”二字。少做最好不做与学习无关的事。给孩子创造良好的学习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以成绩论英雄，您的子女学习成绩好，并不意味着思想好、能力高，您的子女学习成绩落后，并不意味着思想差、能力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科学的分析子女的成绩档案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不与其他同学作比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而是着眼于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自身的比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比较前后几次考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8360" y="98100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573360"/>
            <a:ext cx="851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总之，希望家长能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负责的态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正确的方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与教师共同塑造学生健康的心态，培养其良好行为习惯，激发其勇于创新、不懈努力的积极性的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32000" y="1484280"/>
            <a:ext cx="9167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们重视学生的成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功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我们重视学生的人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而不仅仅是成绩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我们重视学生的创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而不仅仅是接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我们重视学生的终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而不仅仅是现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6560" y="1484280"/>
            <a:ext cx="8209080" cy="4321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甲流防控不容忽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教育孩子注意个人卫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保持室内通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少去公共场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准备常用药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476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隶书"/>
              </a:rPr>
              <a:t>甲流感防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家长会议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484280"/>
            <a:ext cx="7920000" cy="454464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一、各任课老师及班级情况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二、学生一模成绩汇报及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三、孩子的养成教育及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四、甲流防控、周六自习的安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黑体"/>
              </a:rPr>
              <a:t>五、</a:t>
            </a:r>
            <a:r>
              <a:rPr b="1" lang="zh-CN" sz="4000" spc="-1" strike="noStrike">
                <a:solidFill>
                  <a:srgbClr val="111111"/>
                </a:solidFill>
                <a:latin typeface="黑体"/>
                <a:ea typeface="黑体"/>
              </a:rPr>
              <a:t>家长、老师相互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6560" y="1484280"/>
            <a:ext cx="8209080" cy="4321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自愿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不愿意者，写申请，家长签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愿意上者，必须遵守学校各项纪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每节课有老师辅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周六下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节课后回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周日晚自习正常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76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隶书"/>
              </a:rPr>
              <a:t>周六自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08000" y="1197000"/>
            <a:ext cx="5543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家长积极配合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老师倾情教育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孩子努力进步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63640" y="55832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0440" y="-270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寄语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2059200"/>
            <a:ext cx="680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学生的成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=40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学生的自身努力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+30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教师的力量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+30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家长的推动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981000"/>
            <a:ext cx="7696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212a8"/>
                </a:solidFill>
                <a:latin typeface="Times New Roman"/>
                <a:ea typeface="黑体"/>
              </a:rPr>
              <a:t>成功</a:t>
            </a:r>
            <a:r>
              <a:rPr b="1" lang="zh-CN" sz="4000" spc="-1" strike="noStrike">
                <a:solidFill>
                  <a:srgbClr val="0212a8"/>
                </a:solidFill>
                <a:latin typeface="Times New Roman"/>
                <a:ea typeface="黑体"/>
              </a:rPr>
              <a:t>= 20%</a:t>
            </a:r>
            <a:r>
              <a:rPr b="1" lang="zh-CN" sz="4000" spc="-1" strike="noStrike">
                <a:solidFill>
                  <a:srgbClr val="0212a8"/>
                </a:solidFill>
                <a:latin typeface="Times New Roman"/>
                <a:ea typeface="黑体"/>
              </a:rPr>
              <a:t>智商</a:t>
            </a:r>
            <a:r>
              <a:rPr b="1" lang="zh-CN" sz="4000" spc="-1" strike="noStrike">
                <a:solidFill>
                  <a:srgbClr val="0212a8"/>
                </a:solidFill>
                <a:latin typeface="Times New Roman"/>
                <a:ea typeface="黑体"/>
              </a:rPr>
              <a:t>+ 80%</a:t>
            </a:r>
            <a:r>
              <a:rPr b="1" lang="zh-CN" sz="4000" spc="-1" strike="noStrike">
                <a:solidFill>
                  <a:srgbClr val="0212a8"/>
                </a:solidFill>
                <a:latin typeface="Times New Roman"/>
                <a:ea typeface="黑体"/>
              </a:rPr>
              <a:t>情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347760"/>
            <a:ext cx="86421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爸爸、妈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您们辛苦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我们平时忙于学习，因此和你们交流得机会很少，但是作为您的儿女，我们深知您们很辛苦，也很累。我们回报您的唯一办法就是好好学习，不虚度光阴，争取考取理想大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爸爸妈妈您们千万要注意身体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儿女在这里真诚地道一声：谢谢您们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195876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32000" y="1628640"/>
            <a:ext cx="719928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携起手来，</a:t>
            </a:r>
            <a:br>
              <a:rPr sz="5400"/>
            </a:b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共创孩子的美好明天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18000"/>
            <a:ext cx="2298600" cy="234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11640" y="57340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1484280"/>
            <a:ext cx="7128000" cy="52120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语文：吴 瑛 老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数学：王晓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老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英语：吴玉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老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物理：鲁岱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老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化学：李 磊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老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生物：闻 玉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老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一、各任课老师情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162864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班 主 任：  闻  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联系电话：</a:t>
            </a: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黑体"/>
              </a:rPr>
              <a:t>158-8678-79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1916280"/>
            <a:ext cx="712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班级构成：高三共有学生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800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人左右，其中理科学生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450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左右。我们高三（七）班共有学生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66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人，男生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39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人，女生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27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54936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班级情况介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58920" y="765000"/>
            <a:ext cx="676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Verdana, Arial, 宋体"/>
              </a:rPr>
              <a:t>       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学习氛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大部分学生学习刻苦，竞争劲头足，成绩进步明显。每天在学校，基本上是除了学习还是学习。学习比较刻苦的，时间抓的比较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二、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学生一模成绩汇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2276640"/>
          <a:ext cx="8610480" cy="410652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371600"/>
                <a:gridCol w="1600200"/>
                <a:gridCol w="1143000"/>
                <a:gridCol w="152388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班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年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班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年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薛史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娄航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1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南江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4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黄    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13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张静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布宇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13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边佩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1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鹏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1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马丹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1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张    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15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-324000" y="1268280"/>
            <a:ext cx="65278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总分前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0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名的同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1280" y="1341360"/>
            <a:ext cx="8136000" cy="521316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薛史薇、南江岳、张静宇、边佩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马丹丹、娄航行、黄  璐、布宇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高鹏飞、张  帅、刘  迪、吴丹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高慧英、郭真真、陈小婉、王亚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海孟丹、张小丹、王笑笑、著亚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年级前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200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名的同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6:51:50Z</dcterms:created>
  <dc:creator>微软用户</dc:creator>
  <dc:description/>
  <dc:language>en-US</dc:language>
  <cp:lastModifiedBy>User</cp:lastModifiedBy>
  <dcterms:modified xsi:type="dcterms:W3CDTF">2013-04-13T15:13:01Z</dcterms:modified>
  <cp:revision>1</cp:revision>
  <dc:subject/>
  <dc:title>幻灯片 1</dc:title>
</cp:coreProperties>
</file>