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5.jpeg" ContentType="image/jpeg"/>
  <Override PartName="/ppt/media/image19.png" ContentType="image/png"/>
  <Override PartName="/ppt/media/image16.gif" ContentType="image/gif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1D5-6875-4D6E-A489-BAEE664F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2568-55AA-4AFA-9A1A-F8697BD0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B04-2164-4AE4-A796-08BE0DF7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4A6-23D5-41FD-860E-0D117D55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1307-D75B-4DE8-8EDC-D76A3056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DAAF-BF65-47AB-B5B2-245BF3EA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BF0E-BDB6-4DA1-B7D3-86B15261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F64E-6C04-435C-89F2-CAF62FB9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5FF9-5B58-4623-937A-320FF446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9EB2-6618-4D96-B70A-44DC437B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63A9-1F0C-4523-BE71-849799B4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C566-EFA6-47CA-A909-A9E65E9B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BEEA-D3D6-4C54-844A-A8CCE932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61F9-286F-448C-803D-D4A8A46C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E6FD-4264-4797-A3BC-5FF4D8CD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2800-11E1-4AB1-AAFB-B213C28E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3DC7-D47F-440F-9222-2FA68DD9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35D-26E3-4062-AF8F-AF49D45A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75AF-FAFE-4039-9E5B-7FF5454A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A85F-88F4-42C1-85CE-9A7A30F8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B9A7-F094-4366-8F92-AD4CA6CE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E85-2F6E-46A8-B0A2-940992EC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3CAB-D02D-40A2-9771-D04BF6A7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0B80-CEE6-4BFC-B48E-F551E938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C0EB-81AB-4FA1-A5D6-8CF481F423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3BD9-D128-428D-A0BD-5C38E0CBAA2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611280" y="2060640"/>
            <a:ext cx="7993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充满自信 迈向高考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4" name="动作按钮: 声音 8">
            <a:hlinkClick r:id="rId2"/>
          </p:cNvPr>
          <p:cNvSpPr/>
          <p:nvPr/>
        </p:nvSpPr>
        <p:spPr>
          <a:xfrm>
            <a:off x="8215200" y="6000840"/>
            <a:ext cx="714600" cy="500040"/>
          </a:xfrm>
          <a:custGeom>
            <a:avLst/>
            <a:gdLst>
              <a:gd name="textAreaLeft" fmla="*/ 32400 w 714600"/>
              <a:gd name="textAreaRight" fmla="*/ 682200 w 7146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62" h="21600">
                <a:moveTo>
                  <a:pt x="0" y="0"/>
                </a:moveTo>
                <a:lnTo>
                  <a:pt x="30862" y="0"/>
                </a:lnTo>
                <a:lnTo>
                  <a:pt x="30862" y="21600"/>
                </a:lnTo>
                <a:lnTo>
                  <a:pt x="0" y="21600"/>
                </a:lnTo>
                <a:close/>
              </a:path>
              <a:path fill="lightenLess" w="30862" h="21600">
                <a:moveTo>
                  <a:pt x="0" y="0"/>
                </a:moveTo>
                <a:lnTo>
                  <a:pt x="30862" y="0"/>
                </a:lnTo>
                <a:lnTo>
                  <a:pt x="29462" y="1400"/>
                </a:lnTo>
                <a:lnTo>
                  <a:pt x="1400" y="1400"/>
                </a:lnTo>
                <a:close/>
              </a:path>
              <a:path fill="darken" w="30862" h="21600">
                <a:moveTo>
                  <a:pt x="30862" y="0"/>
                </a:moveTo>
                <a:lnTo>
                  <a:pt x="30862" y="21600"/>
                </a:lnTo>
                <a:lnTo>
                  <a:pt x="29462" y="20200"/>
                </a:lnTo>
                <a:lnTo>
                  <a:pt x="29462" y="1400"/>
                </a:lnTo>
                <a:close/>
              </a:path>
              <a:path fill="darkenLess" w="30862" h="21600">
                <a:moveTo>
                  <a:pt x="30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2" y="20200"/>
                </a:lnTo>
                <a:close/>
              </a:path>
              <a:path fill="lighten" w="30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2" h="21600">
                <a:moveTo>
                  <a:pt x="8424" y="8406"/>
                </a:moveTo>
                <a:lnTo>
                  <a:pt x="12854" y="8406"/>
                </a:lnTo>
                <a:lnTo>
                  <a:pt x="17276" y="3794"/>
                </a:lnTo>
                <a:lnTo>
                  <a:pt x="17276" y="17806"/>
                </a:lnTo>
                <a:lnTo>
                  <a:pt x="12854" y="13194"/>
                </a:lnTo>
                <a:lnTo>
                  <a:pt x="8424" y="13194"/>
                </a:lnTo>
                <a:close/>
              </a:path>
              <a:path fill="darken" w="30862" h="21600">
                <a:moveTo>
                  <a:pt x="18930" y="10800"/>
                </a:moveTo>
                <a:lnTo>
                  <a:pt x="22437" y="10800"/>
                </a:lnTo>
              </a:path>
              <a:path fill="darken" w="30862" h="21600">
                <a:moveTo>
                  <a:pt x="18930" y="8406"/>
                </a:moveTo>
                <a:lnTo>
                  <a:pt x="22437" y="5639"/>
                </a:lnTo>
              </a:path>
              <a:path fill="darken" w="30862" h="21600">
                <a:moveTo>
                  <a:pt x="18930" y="13194"/>
                </a:moveTo>
                <a:lnTo>
                  <a:pt x="22437" y="15961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5" name="矩形 7"/>
          <p:cNvSpPr/>
          <p:nvPr/>
        </p:nvSpPr>
        <p:spPr>
          <a:xfrm>
            <a:off x="4904280" y="5643720"/>
            <a:ext cx="32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方正铁筋隶书简体"/>
              </a:rPr>
              <a:t>2008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方正铁筋隶书简体"/>
              </a:rPr>
              <a:t>年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方正铁筋隶书简体"/>
              </a:rPr>
              <a:t>1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方正铁筋隶书简体"/>
              </a:rPr>
              <a:t>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方正铁筋隶书简体"/>
              </a:rPr>
              <a:t>28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方正铁筋隶书简体"/>
              </a:rPr>
              <a:t>日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B2B7-01A7-4313-A084-6D242E6E9E5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50920" y="404640"/>
            <a:ext cx="38163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卡通简体"/>
              </a:rPr>
              <a:t>同学们，对明年高考有信心吗？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6" name="Picture 5" descr="good"/>
          <p:cNvPicPr/>
          <p:nvPr/>
        </p:nvPicPr>
        <p:blipFill>
          <a:blip r:embed="rId2"/>
          <a:stretch/>
        </p:blipFill>
        <p:spPr>
          <a:xfrm>
            <a:off x="1071720" y="357120"/>
            <a:ext cx="2023920" cy="2305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img-1627937033"/>
          <p:cNvPicPr/>
          <p:nvPr/>
        </p:nvPicPr>
        <p:blipFill>
          <a:blip r:embed="rId3"/>
          <a:stretch/>
        </p:blipFill>
        <p:spPr>
          <a:xfrm>
            <a:off x="3780000" y="2421000"/>
            <a:ext cx="4752720" cy="42926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7"/>
          <p:cNvSpPr/>
          <p:nvPr/>
        </p:nvSpPr>
        <p:spPr>
          <a:xfrm>
            <a:off x="0" y="2637000"/>
            <a:ext cx="3708360" cy="3024000"/>
          </a:xfrm>
          <a:prstGeom prst="cloudCallout">
            <a:avLst>
              <a:gd name="adj1" fmla="val 67680"/>
              <a:gd name="adj2" fmla="val 30472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方正卡通简体"/>
                <a:ea typeface="方正卡通简体"/>
              </a:rPr>
              <a:t>看</a:t>
            </a:r>
            <a:r>
              <a:rPr b="1" lang="en-US" sz="4000" spc="-1" strike="noStrike">
                <a:solidFill>
                  <a:srgbClr val="0000cc"/>
                </a:solidFill>
                <a:latin typeface="方正卡通简体"/>
                <a:ea typeface="方正卡通简体"/>
              </a:rPr>
              <a:t>!</a:t>
            </a:r>
            <a:r>
              <a:rPr b="1" lang="zh-CN" sz="4000" spc="-1" strike="noStrike">
                <a:solidFill>
                  <a:srgbClr val="0000cc"/>
                </a:solidFill>
                <a:latin typeface="方正卡通简体"/>
                <a:ea typeface="方正卡通简体"/>
              </a:rPr>
              <a:t>刘翔都在为你们为加油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6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4802-6887-4000-8992-E3F7F51790F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-71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方正水黑简体"/>
              </a:rPr>
              <a:t>相信自己，才能成功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9680" y="1499760"/>
            <a:ext cx="7358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多少次挥汗如雨  伤痛曾填满记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只因为始终相信  去拼搏才能胜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总是在鼓舞自己  要成功就得努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热血在赛场飞腾  巨人在东方升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相信自己  你将赢得胜利创造奇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相信自己  梦想在你手中这是你的天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相信自己  你我将超越极限超越自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相信自己  当这一切过去你们将是第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相信自己</a:t>
            </a:r>
            <a:r>
              <a:rPr b="1" lang="en-US" sz="32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2960640" y="85716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相 信 自 己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动作按钮: 开始 11"/>
          <p:cNvSpPr/>
          <p:nvPr/>
        </p:nvSpPr>
        <p:spPr>
          <a:xfrm>
            <a:off x="8001000" y="5357880"/>
            <a:ext cx="928800" cy="714240"/>
          </a:xfrm>
          <a:custGeom>
            <a:avLst/>
            <a:gdLst>
              <a:gd name="textAreaLeft" fmla="*/ 46080 w 928800"/>
              <a:gd name="textAreaRight" fmla="*/ 882720 w 92880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8085" h="21600">
                <a:moveTo>
                  <a:pt x="0" y="0"/>
                </a:moveTo>
                <a:lnTo>
                  <a:pt x="28085" y="0"/>
                </a:lnTo>
                <a:lnTo>
                  <a:pt x="28085" y="21600"/>
                </a:lnTo>
                <a:lnTo>
                  <a:pt x="0" y="21600"/>
                </a:lnTo>
                <a:close/>
              </a:path>
              <a:path fill="lightenLess" w="28085" h="21600">
                <a:moveTo>
                  <a:pt x="0" y="0"/>
                </a:moveTo>
                <a:lnTo>
                  <a:pt x="28085" y="0"/>
                </a:lnTo>
                <a:lnTo>
                  <a:pt x="26685" y="1400"/>
                </a:lnTo>
                <a:lnTo>
                  <a:pt x="1400" y="1400"/>
                </a:lnTo>
                <a:close/>
              </a:path>
              <a:path fill="darken" w="28085" h="21600">
                <a:moveTo>
                  <a:pt x="28085" y="0"/>
                </a:moveTo>
                <a:lnTo>
                  <a:pt x="28085" y="21600"/>
                </a:lnTo>
                <a:lnTo>
                  <a:pt x="26685" y="20200"/>
                </a:lnTo>
                <a:lnTo>
                  <a:pt x="26685" y="1400"/>
                </a:lnTo>
                <a:close/>
              </a:path>
              <a:path fill="darkenLess" w="28085" h="21600">
                <a:moveTo>
                  <a:pt x="280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5" y="20200"/>
                </a:lnTo>
                <a:close/>
              </a:path>
              <a:path fill="lighten" w="280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5" h="21600">
                <a:moveTo>
                  <a:pt x="10544" y="10800"/>
                </a:moveTo>
                <a:lnTo>
                  <a:pt x="21049" y="3794"/>
                </a:lnTo>
                <a:lnTo>
                  <a:pt x="21049" y="17806"/>
                </a:lnTo>
                <a:close/>
              </a:path>
              <a:path fill="darken" w="28085" h="21600">
                <a:moveTo>
                  <a:pt x="7036" y="3794"/>
                </a:moveTo>
                <a:lnTo>
                  <a:pt x="8699" y="3794"/>
                </a:lnTo>
                <a:lnTo>
                  <a:pt x="8699" y="17806"/>
                </a:lnTo>
                <a:lnTo>
                  <a:pt x="7036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6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5986-3939-4D68-A656-BDB7A328D2B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动作按钮: 开始 7"/>
          <p:cNvSpPr/>
          <p:nvPr/>
        </p:nvSpPr>
        <p:spPr>
          <a:xfrm>
            <a:off x="7929720" y="5429160"/>
            <a:ext cx="928440" cy="714600"/>
          </a:xfrm>
          <a:custGeom>
            <a:avLst/>
            <a:gdLst>
              <a:gd name="textAreaLeft" fmla="*/ 46080 w 928440"/>
              <a:gd name="textAreaRight" fmla="*/ 882360 w 92844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8060" h="21600">
                <a:moveTo>
                  <a:pt x="0" y="0"/>
                </a:moveTo>
                <a:lnTo>
                  <a:pt x="28060" y="0"/>
                </a:lnTo>
                <a:lnTo>
                  <a:pt x="28060" y="21600"/>
                </a:lnTo>
                <a:lnTo>
                  <a:pt x="0" y="21600"/>
                </a:lnTo>
                <a:close/>
              </a:path>
              <a:path fill="lightenLess" w="28060" h="21600">
                <a:moveTo>
                  <a:pt x="0" y="0"/>
                </a:moveTo>
                <a:lnTo>
                  <a:pt x="28060" y="0"/>
                </a:lnTo>
                <a:lnTo>
                  <a:pt x="26660" y="1400"/>
                </a:lnTo>
                <a:lnTo>
                  <a:pt x="1400" y="1400"/>
                </a:lnTo>
                <a:close/>
              </a:path>
              <a:path fill="darken" w="28060" h="21600">
                <a:moveTo>
                  <a:pt x="28060" y="0"/>
                </a:moveTo>
                <a:lnTo>
                  <a:pt x="28060" y="21600"/>
                </a:lnTo>
                <a:lnTo>
                  <a:pt x="26660" y="20200"/>
                </a:lnTo>
                <a:lnTo>
                  <a:pt x="26660" y="1400"/>
                </a:lnTo>
                <a:close/>
              </a:path>
              <a:path fill="darkenLess" w="28060" h="21600">
                <a:moveTo>
                  <a:pt x="28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0" y="20200"/>
                </a:lnTo>
                <a:close/>
              </a:path>
              <a:path fill="lighten" w="28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0" h="21600">
                <a:moveTo>
                  <a:pt x="10531" y="10800"/>
                </a:moveTo>
                <a:lnTo>
                  <a:pt x="21037" y="3794"/>
                </a:lnTo>
                <a:lnTo>
                  <a:pt x="21037" y="17806"/>
                </a:lnTo>
                <a:close/>
              </a:path>
              <a:path fill="darken" w="28060" h="21600">
                <a:moveTo>
                  <a:pt x="7024" y="3794"/>
                </a:moveTo>
                <a:lnTo>
                  <a:pt x="8686" y="3794"/>
                </a:lnTo>
                <a:lnTo>
                  <a:pt x="8686" y="17806"/>
                </a:lnTo>
                <a:lnTo>
                  <a:pt x="702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-571680" y="1653480"/>
            <a:ext cx="9715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让我们共同唱响心中的歌：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“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真心英雄”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不经历风雨，怎么见彩虹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灯片编号占位符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71A2-5EBA-4430-8E72-099DB032F03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87" name="Picture 4" descr="00956097"/>
          <p:cNvPicPr/>
          <p:nvPr/>
        </p:nvPicPr>
        <p:blipFill>
          <a:blip r:embed="rId2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6127200" y="333360"/>
            <a:ext cx="20088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方正琥珀简体"/>
                <a:ea typeface="方正琥珀简体"/>
              </a:rPr>
              <a:t>王大雷平静面对落选 自信国奥下届名单肯定有他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灯片编号占位符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7DE6-DF7A-4AB8-BEA3-351F5D9F9FE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90" name="Picture 4" descr="图片1"/>
          <p:cNvPicPr/>
          <p:nvPr/>
        </p:nvPicPr>
        <p:blipFill>
          <a:blip r:embed="rId2"/>
          <a:stretch/>
        </p:blipFill>
        <p:spPr>
          <a:xfrm>
            <a:off x="1357200" y="1071720"/>
            <a:ext cx="6000840" cy="52164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3995640" y="5373720"/>
            <a:ext cx="2951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71680" y="214200"/>
            <a:ext cx="7200720" cy="703440"/>
          </a:xfrm>
          <a:prstGeom prst="rect">
            <a:avLst/>
          </a:prstGeom>
          <a:solidFill>
            <a:srgbClr val="cc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</a:rPr>
              <a:t>第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</a:rPr>
              <a:t>13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</a:rPr>
              <a:t>次向高考发起冲刺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─曹湘凡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93" name="Picture 7" descr="高考13次终走进大学 “高考王”曹湘凡入学报到(图)"/>
          <p:cNvPicPr/>
          <p:nvPr/>
        </p:nvPicPr>
        <p:blipFill>
          <a:blip r:embed="rId3"/>
          <a:stretch/>
        </p:blipFill>
        <p:spPr>
          <a:xfrm>
            <a:off x="1428840" y="1071720"/>
            <a:ext cx="5929200" cy="506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灯片编号占位符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CA58-8585-46E0-9CC6-B72DA57CC3D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95" name="Picture 4" descr="刘仕春用嘴作画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79280" y="404640"/>
            <a:ext cx="432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铁筋隶书简体"/>
              </a:rPr>
              <a:t>坚强自信的无臂女子    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艺黑简体"/>
                <a:ea typeface="方正艺黑简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方正艺黑简体"/>
                <a:ea typeface="方正艺黑简体"/>
              </a:rPr>
              <a:t>刘仕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811200" y="476280"/>
            <a:ext cx="2008800" cy="4176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隶变简体"/>
              </a:rPr>
              <a:t>用口咬毛笔，写出各种字体的毛笔字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95280" y="249228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2004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年参加高考被黄海学院录取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675640" y="6237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4</a:t>
            </a:r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灯片编号占位符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16BE-DAB4-4633-8991-1282C351C4F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01" name="Picture 4" descr="无标题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5662080" y="2276640"/>
            <a:ext cx="3227760" cy="4103640"/>
          </a:xfrm>
          <a:prstGeom prst="rect">
            <a:avLst/>
          </a:prstGeom>
          <a:solidFill>
            <a:srgbClr val="99cc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隶变简体"/>
              </a:rPr>
              <a:t>用嘴咬着笔杆敲击键盘打字，用脚握住鼠标操作电脑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8675640" y="6381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</a:rPr>
              <a:t>5</a:t>
            </a:r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4677-132F-41ED-AC90-E096519005A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05" name="Picture 4" descr="W02004021035769718751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9"/>
          <p:cNvGrpSpPr/>
          <p:nvPr/>
        </p:nvGrpSpPr>
        <p:grpSpPr>
          <a:xfrm>
            <a:off x="684360" y="4292640"/>
            <a:ext cx="7704000" cy="1423440"/>
            <a:chOff x="684360" y="4292640"/>
            <a:chExt cx="7704000" cy="1423440"/>
          </a:xfrm>
        </p:grpSpPr>
        <p:sp>
          <p:nvSpPr>
            <p:cNvPr id="107" name="Rectangle 6"/>
            <p:cNvSpPr/>
            <p:nvPr/>
          </p:nvSpPr>
          <p:spPr>
            <a:xfrm>
              <a:off x="684360" y="5012640"/>
              <a:ext cx="770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方正古隶简体"/>
                </a:rPr>
                <a:t>最困难之时就是离成功不远之日</a:t>
              </a:r>
              <a:endParaRPr b="1" lang="en-US" sz="4000" spc="-1" strike="noStrike">
                <a:solidFill>
                  <a:srgbClr val="ffffff"/>
                </a:solidFill>
                <a:latin typeface="黑体"/>
              </a:endParaRPr>
            </a:p>
          </p:txBody>
        </p:sp>
        <p:sp>
          <p:nvSpPr>
            <p:cNvPr id="108" name="Text Box 8"/>
            <p:cNvSpPr/>
            <p:nvPr/>
          </p:nvSpPr>
          <p:spPr>
            <a:xfrm>
              <a:off x="900000" y="4292640"/>
              <a:ext cx="201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Arial"/>
                  <a:ea typeface="方正卡通简体"/>
                </a:rPr>
                <a:t>相信：</a:t>
              </a:r>
              <a:endParaRPr b="1" lang="en-US" sz="4400" spc="-1" strike="noStrike">
                <a:solidFill>
                  <a:srgbClr val="ffffff"/>
                </a:solidFill>
                <a:latin typeface="黑体"/>
              </a:endParaRPr>
            </a:p>
          </p:txBody>
        </p:sp>
      </p:grpSp>
      <p:sp>
        <p:nvSpPr>
          <p:cNvPr id="109" name="Text Box 10"/>
          <p:cNvSpPr/>
          <p:nvPr/>
        </p:nvSpPr>
        <p:spPr>
          <a:xfrm>
            <a:off x="8675640" y="6381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6</a:t>
            </a:r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F925-86E4-403B-B196-35236E9E9AF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11" name="Picture 5" descr="C:\Users\shisufang\Desktop\班会\2006年江苏省高考状元黄梦娜.jpg"/>
          <p:cNvPicPr/>
          <p:nvPr/>
        </p:nvPicPr>
        <p:blipFill>
          <a:blip r:embed="rId2"/>
          <a:stretch/>
        </p:blipFill>
        <p:spPr>
          <a:xfrm>
            <a:off x="571680" y="714240"/>
            <a:ext cx="7686360" cy="5929560"/>
          </a:xfrm>
          <a:prstGeom prst="rect">
            <a:avLst/>
          </a:prstGeom>
          <a:ln w="0">
            <a:noFill/>
          </a:ln>
        </p:spPr>
      </p:pic>
      <p:sp>
        <p:nvSpPr>
          <p:cNvPr id="112" name="矩形 5"/>
          <p:cNvSpPr/>
          <p:nvPr/>
        </p:nvSpPr>
        <p:spPr>
          <a:xfrm>
            <a:off x="857160" y="0"/>
            <a:ext cx="707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</a:rPr>
              <a:t>2006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</a:rPr>
              <a:t>年江苏省高考状元黄梦娜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354F-6D40-4FBC-A723-E0A09EB4C7D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2007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年江苏省高考状元汪天一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5" name="Picture 5" descr="C:\Users\shisufang\Desktop\班会\2007年江苏省高考状元汪天一.jpg"/>
          <p:cNvPicPr/>
          <p:nvPr/>
        </p:nvPicPr>
        <p:blipFill>
          <a:blip r:embed="rId2"/>
          <a:stretch/>
        </p:blipFill>
        <p:spPr>
          <a:xfrm>
            <a:off x="2143080" y="1428840"/>
            <a:ext cx="5165640" cy="47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8C47-6B4A-49AD-B604-761975421ED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4071960" y="714240"/>
            <a:ext cx="1008000" cy="792360"/>
          </a:xfrm>
          <a:prstGeom prst="leftArrow">
            <a:avLst>
              <a:gd name="adj1" fmla="val 50000"/>
              <a:gd name="adj2" fmla="val 31804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4071960" y="4214880"/>
            <a:ext cx="1008000" cy="720720"/>
          </a:xfrm>
          <a:prstGeom prst="rightArrow">
            <a:avLst>
              <a:gd name="adj1" fmla="val 50000"/>
              <a:gd name="adj2" fmla="val 34965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8675640" y="6381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9</a:t>
            </a:r>
            <a:endParaRPr b="1" lang="en-US" sz="14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20" name="Picture 10" descr="C:\Users\shisufang\Desktop\班会\2008年高考理科状元盐城中学祁明怡.jpg"/>
          <p:cNvPicPr/>
          <p:nvPr/>
        </p:nvPicPr>
        <p:blipFill>
          <a:blip r:embed="rId4"/>
          <a:stretch/>
        </p:blipFill>
        <p:spPr>
          <a:xfrm>
            <a:off x="0" y="71280"/>
            <a:ext cx="3929040" cy="2946600"/>
          </a:xfrm>
          <a:prstGeom prst="rect">
            <a:avLst/>
          </a:prstGeom>
          <a:ln w="0">
            <a:noFill/>
          </a:ln>
        </p:spPr>
      </p:pic>
      <p:sp>
        <p:nvSpPr>
          <p:cNvPr id="121" name="矩形 11"/>
          <p:cNvSpPr/>
          <p:nvPr/>
        </p:nvSpPr>
        <p:spPr>
          <a:xfrm>
            <a:off x="5000760" y="428760"/>
            <a:ext cx="41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</a:rPr>
              <a:t>2008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</a:rPr>
              <a:t>年高考理科状元盐城中学祁明怡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22" name="Picture 11" descr="C:\Users\shisufang\Desktop\班会\2008年江苏省高考文科状元杨清嘉.jpg"/>
          <p:cNvPicPr/>
          <p:nvPr/>
        </p:nvPicPr>
        <p:blipFill>
          <a:blip r:embed="rId5"/>
          <a:stretch/>
        </p:blipFill>
        <p:spPr>
          <a:xfrm>
            <a:off x="5214960" y="2286000"/>
            <a:ext cx="3214800" cy="4275000"/>
          </a:xfrm>
          <a:prstGeom prst="rect">
            <a:avLst/>
          </a:prstGeom>
          <a:ln w="0">
            <a:noFill/>
          </a:ln>
        </p:spPr>
      </p:pic>
      <p:sp>
        <p:nvSpPr>
          <p:cNvPr id="123" name="矩形 13"/>
          <p:cNvSpPr/>
          <p:nvPr/>
        </p:nvSpPr>
        <p:spPr>
          <a:xfrm>
            <a:off x="0" y="392904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</a:rPr>
              <a:t>2008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</a:rPr>
              <a:t>年江苏省高考文科状元杨清嘉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4:39:08Z</dcterms:created>
  <dc:creator>jujumao</dc:creator>
  <dc:description/>
  <cp:keywords>主题班会课件(分28大类): http://shop62905894.taobao.com</cp:keywords>
  <dc:language>en-US</dc:language>
  <cp:lastModifiedBy>User</cp:lastModifiedBy>
  <dcterms:modified xsi:type="dcterms:W3CDTF">2013-04-13T15:12:21Z</dcterms:modified>
  <cp:revision>93</cp:revision>
  <dc:subject>主题班会课件(分28大类): http://shop62905894.taobao.com</dc:subject>
  <dc:title>主题班会课件(分28大类): http://shop62905894.taobao.com</dc:title>
</cp:coreProperties>
</file>