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801-8A7F-44AB-BC35-DBA730A8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DDA-43E1-4BFC-8940-35827DD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F70-F555-446D-93BE-CC848726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318-8AD8-4C39-8C3C-966581D4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B4D0-C5B5-412D-B27E-742ADF33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B436-4B9F-4CC9-98CF-928784C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E65-CCC4-4C8A-9928-F75014E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48BB-ECC1-48C7-96F5-74E3E1B5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DA8-C070-4378-93C1-C3714E0B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BA45-8A9F-4987-ADF9-C6388DA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42A8-2F03-4506-8717-A4BF267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DE1-34FC-4626-8F4F-4C91001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AEB-AFD0-4BA5-917C-E57766E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859-CA0D-49F5-AC87-E290451A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255E-1AE6-4A3F-AD31-C100B019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0574-9D91-4C0F-9300-47112021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7E3-86AE-4B73-BBF7-801E0D25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84C-89E1-4E6B-8B6D-F0BA6697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B90-869F-42D1-BD81-5642D2D7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5BC-107D-4F62-9938-40402BA6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E37-D0C9-451D-A762-41F1542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476-69C3-47CA-874E-FE724DA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762-6EAB-4BD8-92B3-006CFF8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46E-CAB4-4266-9B37-F389E7AA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A835-49A3-4FB1-8961-9F12888D40A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8E08-781D-4B09-B448-0C9E7828D62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4582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做个明白的学生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取得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高考成功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ffcc00"/>
                </a:solidFill>
                <a:latin typeface="Arial Black"/>
                <a:ea typeface="黑体"/>
              </a:rPr>
              <a:t>同学们，如果想从今天开始改变命运，就得改变自己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cc00"/>
                </a:solidFill>
                <a:latin typeface="Arial Black"/>
                <a:ea typeface="黑体"/>
              </a:rPr>
              <a:t>我们每个人，都要注意把自己学习的态度、习惯、方法，包括生活态度，以及对周围人的态度，有一个良性的转变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　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53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1" lang="zh-CN" sz="4400" spc="-1" strike="noStrike">
                <a:solidFill>
                  <a:srgbClr val="ffcc00"/>
                </a:solidFill>
                <a:latin typeface="黑体"/>
                <a:ea typeface="黑体"/>
              </a:rPr>
              <a:t>我想强调一个字，就是“明”字，我的意思指的是明白的徒弟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再好的老师，再好的学校，没有明白的学生，没有明白的徒弟，一切免谈。没有成绩，高考不可能成功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7989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cc00"/>
                </a:solidFill>
                <a:latin typeface="黑体"/>
                <a:ea typeface="黑体"/>
              </a:rPr>
              <a:t>也可以这么说，凡是在高三的学生，如果能成为一个明白的学生，那他必然成功。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79185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大明白大成功，小明白小成功，不明白不成功。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351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明白”的内容很丰富。当前，我想特别提出三个明白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第一，要明白复习的时间特别紧。咱们从上课开始，到明年结课，一共是三十九周，扣除节假日、周末休息的时间，实际上同学们能够到学校上课或是上自习的时间，只有六个月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9280" y="69192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所以同学们一定要记住，真正明白的学生，要</a:t>
            </a:r>
            <a:r>
              <a:rPr b="1" lang="zh-CN" sz="5400" spc="-1" strike="noStrike">
                <a:solidFill>
                  <a:srgbClr val="ffe103"/>
                </a:solidFill>
                <a:latin typeface="Arial Black"/>
                <a:ea typeface="黑体"/>
              </a:rPr>
              <a:t>惜时如金</a:t>
            </a: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，要明确到一中来的目的，要努力提高自己的人生价值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　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第二，要明白到一中来，你的最大的利益、最高的利益、最根本的利益、最迫切的利益到底是什么。就是到一中来找好老师来了，就是提高成绩来了，就是要明年考到高一层次的学校。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Arial Black"/>
                <a:ea typeface="黑体"/>
              </a:rPr>
              <a:t>全心全意、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6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Arial Black"/>
                <a:ea typeface="黑体"/>
              </a:rPr>
              <a:t>全神贯注、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6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Arial Black"/>
                <a:ea typeface="黑体"/>
              </a:rPr>
              <a:t>全力以赴。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同学们一定要能分辨出哪些是妨碍、干扰、损害我们的头等大事的，对于这些不管什么诱惑，什么障碍，我们都要拒绝、排除，有的是要放弃，哪怕是暂时放弃，也要为了大局，为了终身的幸福而放弃一时的乐趣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83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最后，做一个明白的学生，要知道，个人单打独斗不能复习成功，要靠团队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我们尊敬自己，同时也要尊敬身边所有的伙伴，因为我们真正的竞争对手不在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B5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内部。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B5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  <a:ea typeface="黑体"/>
              </a:rPr>
              <a:t>的学生，谁考得再好，大家都应该拥护他，因为一个人考好了，大家就可以跟着都考好了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8134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我们现在明白了什么是高考吗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42920" y="1844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碌碌无为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忙忙碌碌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猫捉老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游戏人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自以为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聪明愚蠢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Black"/>
              </a:rPr>
              <a:t>我的承诺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619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欢迎大家来问我问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真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不要再是纪律问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大家好才是真的好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青山一路同风雨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明月何曾是两乡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185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103"/>
                </a:solidFill>
                <a:latin typeface="Arial Black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ffe103"/>
                </a:solidFill>
                <a:latin typeface="Arial Black"/>
                <a:ea typeface="黑体"/>
              </a:rPr>
              <a:t>班会课到此结束，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e103"/>
                </a:solidFill>
                <a:latin typeface="Arial Black"/>
                <a:ea typeface="黑体"/>
              </a:rPr>
              <a:t>祝同学们学习进步！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每天天不亮就起床，眼皮还在“打架”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宿舍人多、闷热，难以入睡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上课有时听不明白，焦急…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上课有时疲劳，想睡觉…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作业又多，有的不会做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考试考砸了，惨了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在班里没人跟我说话，郁闷…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浮躁，好像明白，又好像不明白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好像可以考上大学，又好像不行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感觉自己的方法正确…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高考再哪里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我现在到底可以考上吗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考上大学又能怎么样！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1f08"/>
                </a:solidFill>
                <a:latin typeface="Arial Black"/>
                <a:ea typeface="方正粗宋简体"/>
              </a:rPr>
              <a:t>你明白了吗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我的社会位置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学习的目的是为了展示什么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向谁展示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我们应该相互提醒，相互督促吗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我们班的优越条件表现在那里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你思考过这些问题吗？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黑体"/>
                <a:ea typeface="黑体"/>
              </a:rPr>
              <a:t>我想成为英雄，可是路在哪里呢？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请同学们思考一下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  <a:ea typeface="黑体"/>
              </a:rPr>
              <a:t>什么叫做英雄？你对英雄向往吗？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（讨论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7918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所谓“英雄”</a:t>
            </a:r>
            <a:r>
              <a:rPr b="0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---------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就是做出符合历史发展要求、符合社会利益的、正确的、一般人做不到的行动，并在最后取得了奇迹一样的结果，这就叫英雄。　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2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实际上，世界上最伟大的人、最有成就的人，都不是一帆风顺的人，都是经过艰苦奋斗，吃过大苦，耐过大劳，受过大罪的，只有这样，人生才最有价值，才称得上是英雄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7:16:52Z</dcterms:created>
  <dc:creator>雨林木风</dc:creator>
  <dc:description/>
  <cp:keywords>主题班会课件(分28大类): http://shop62905894.taobao.com</cp:keywords>
  <dc:language>en-US</dc:language>
  <cp:lastModifiedBy>User</cp:lastModifiedBy>
  <dcterms:modified xsi:type="dcterms:W3CDTF">2013-04-13T14:32:48Z</dcterms:modified>
  <cp:revision>19</cp:revision>
  <dc:subject>主题班会课件(分28大类): http://shop62905894.taobao.com</dc:subject>
  <dc:title>主题班会课件(分28大类): http://shop62905894.taobao.com</dc:title>
</cp:coreProperties>
</file>