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2E68-7C4A-4DF4-9CB8-66A9F8BD0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E6D9-42A5-4700-A520-2436E97B3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9B88-28A7-4A5E-8E59-96E9F0097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A3F6-2F5A-4CC3-BFE2-C4FC2300E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22B9-7D36-4316-9680-4941558E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C210-13BD-4E33-A42C-2734E97F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69F0-CBEA-43FE-9138-671C46A4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7C8A-82FD-4D0A-B224-3D9223FB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D186-08F0-4A5F-8DF3-29F94C4D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8B0B-8950-4350-B406-CF607FC8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B0D5-853F-42EA-A550-0D4A8028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1C87-86CE-44A7-AF71-CE63B3CD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889A-D65E-4E02-AB24-43833AFEBE1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0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65534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93040" y="380880"/>
            <a:ext cx="67305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400" spc="-1" strike="noStrike">
                <a:solidFill>
                  <a:srgbClr val="ffffff"/>
                </a:solidFill>
                <a:latin typeface="黑体"/>
                <a:ea typeface="黑体"/>
              </a:rPr>
              <a:t>距离</a:t>
            </a:r>
            <a:r>
              <a:rPr b="1" lang="zh-CN" sz="7400" spc="-1" strike="noStrike">
                <a:solidFill>
                  <a:srgbClr val="ff3300"/>
                </a:solidFill>
                <a:latin typeface="黑体"/>
                <a:ea typeface="黑体"/>
              </a:rPr>
              <a:t>2010</a:t>
            </a:r>
            <a:r>
              <a:rPr b="1" lang="zh-CN" sz="7400" spc="-1" strike="noStrike">
                <a:solidFill>
                  <a:srgbClr val="ff3300"/>
                </a:solidFill>
                <a:latin typeface="黑体"/>
                <a:ea typeface="黑体"/>
              </a:rPr>
              <a:t>年高考</a:t>
            </a:r>
            <a:r>
              <a:rPr b="1" lang="zh-CN" sz="7400" spc="-1" strike="noStrike">
                <a:solidFill>
                  <a:srgbClr val="ffffff"/>
                </a:solidFill>
                <a:latin typeface="黑体"/>
                <a:ea typeface="黑体"/>
              </a:rPr>
              <a:t>还有</a:t>
            </a:r>
            <a:endParaRPr b="0" lang="en-US" sz="7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25960" y="2590920"/>
            <a:ext cx="47908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ffffff"/>
                </a:solidFill>
                <a:latin typeface="黑体"/>
                <a:ea typeface="黑体"/>
              </a:rPr>
              <a:t>354</a:t>
            </a:r>
            <a:r>
              <a:rPr b="1" lang="zh-CN" sz="14200" spc="-1" strike="noStrike">
                <a:solidFill>
                  <a:srgbClr val="ffffff"/>
                </a:solidFill>
                <a:latin typeface="黑体"/>
                <a:ea typeface="黑体"/>
              </a:rPr>
              <a:t>天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191120" y="3429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286080" y="15228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ffffff"/>
                </a:solidFill>
                <a:uFillTx/>
                <a:latin typeface="Times New Roman"/>
                <a:ea typeface="黑体"/>
              </a:rPr>
              <a:t>相逢是首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38188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84280" y="1224000"/>
            <a:ext cx="35946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你曾对我说相逢是首歌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眼睛是春天的海青春是绿色的河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你曾对我说相逢是首歌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眼睛是春天的海青春是绿色的河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相逢是首歌同行是你和我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心儿是年轻的太阳真诚也活泼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你曾对我说相逢是首歌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分别是明天的路思念是生命的火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相逢是首歌歌手是你和我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心儿是永远的琴弦坚定也执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417760" y="2590920"/>
            <a:ext cx="4638600" cy="187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3300"/>
                </a:solidFill>
                <a:latin typeface="Times New Roman"/>
                <a:ea typeface="黑体"/>
              </a:rPr>
              <a:t>高三起跑线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8640" y="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9900"/>
                </a:solidFill>
                <a:uFillTx/>
                <a:latin typeface="Times New Roman"/>
                <a:ea typeface="黑体"/>
              </a:rPr>
              <a:t>迈好高三第一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67000" y="1905120"/>
            <a:ext cx="1643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、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摆正心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变的是方法、是技巧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不变的是原则、是信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0360" y="838080"/>
            <a:ext cx="164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、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确立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每天有所得，每天有进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32240" y="3352680"/>
            <a:ext cx="4743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、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天道酬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把简单的事情做好，就不简单；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把平凡的事情做好，就不平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77480" y="4800600"/>
            <a:ext cx="164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、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学会学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方法决定结果；做时间的强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29360" y="6019920"/>
            <a:ext cx="14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、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给父母一个坚定的笑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838080" y="574560"/>
            <a:ext cx="83059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“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三管齐下” 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一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要管好自己的口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不懂就问，不留后患；    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要管好自己的手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题做百样，方法顿现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三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要管好自己的脑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独立思考，见证能力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245120" y="2514600"/>
            <a:ext cx="101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imes New Roman"/>
              </a:rPr>
              <a:t>朝气、锐气、血气！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32880" y="45720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Times New Roman"/>
                <a:ea typeface="黑体"/>
              </a:rPr>
              <a:t>拥有：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162800" y="-100080"/>
            <a:ext cx="310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在我心中曾经有一个梦</a:t>
            </a:r>
            <a:br>
              <a:rPr sz="3200"/>
            </a:br>
            <a:r>
              <a:rPr b="1" i="1" lang="zh-CN" sz="32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要用歌声让你忘了所有的痛</a:t>
            </a:r>
            <a:br>
              <a:rPr sz="3200"/>
            </a:br>
            <a:r>
              <a:rPr b="1" i="1" lang="zh-CN" sz="32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灿烂星空谁是真的英雄</a:t>
            </a:r>
            <a:br>
              <a:rPr sz="3200"/>
            </a:br>
            <a:r>
              <a:rPr b="1" i="1" lang="zh-CN" sz="32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平凡的人们给我最多感动</a:t>
            </a:r>
            <a:br>
              <a:rPr sz="3200"/>
            </a:br>
            <a:r>
              <a:rPr b="1" i="1" lang="zh-CN" sz="32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再没有恨也没有了痛</a:t>
            </a:r>
            <a:br>
              <a:rPr sz="3200"/>
            </a:br>
            <a:r>
              <a:rPr b="1" i="1" lang="zh-CN" sz="32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但愿人间处处都有爱的影踪</a:t>
            </a:r>
            <a:br>
              <a:rPr sz="3200"/>
            </a:br>
            <a:r>
              <a:rPr b="1" i="1" lang="zh-CN" sz="32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用我们的歌换你真心笑容</a:t>
            </a:r>
            <a:br>
              <a:rPr sz="3200"/>
            </a:br>
            <a:r>
              <a:rPr b="1" i="1" lang="zh-CN" sz="32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祝福你的人生从此与众不同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71880" y="2943360"/>
            <a:ext cx="4648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把握生命里的每一分钟</a:t>
            </a:r>
            <a:br>
              <a:rPr sz="3200"/>
            </a:br>
            <a:r>
              <a:rPr b="1" i="1" lang="zh-CN" sz="32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全力以赴我们心中的梦</a:t>
            </a:r>
            <a:br>
              <a:rPr sz="3200"/>
            </a:br>
            <a:r>
              <a:rPr b="1" i="1" lang="zh-CN" sz="32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不经历风雨怎么见彩虹</a:t>
            </a:r>
            <a:br>
              <a:rPr sz="3200"/>
            </a:br>
            <a:r>
              <a:rPr b="1" i="1" lang="zh-CN" sz="32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没有人能随随便便成功</a:t>
            </a:r>
            <a:br>
              <a:rPr sz="3200"/>
            </a:br>
            <a:r>
              <a:rPr b="1" i="1" lang="zh-CN" sz="32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把握生命里每一次感动</a:t>
            </a:r>
            <a:br>
              <a:rPr sz="3200"/>
            </a:br>
            <a:r>
              <a:rPr b="1" i="1" lang="zh-CN" sz="32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和心爱的朋友热情相拥</a:t>
            </a:r>
            <a:br>
              <a:rPr sz="3200"/>
            </a:br>
            <a:r>
              <a:rPr b="1" i="1" lang="zh-CN" sz="32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让真心的话和开心的泪</a:t>
            </a:r>
            <a:br>
              <a:rPr sz="3200"/>
            </a:br>
            <a:r>
              <a:rPr b="1" i="1" lang="zh-CN" sz="32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在你我的心底流动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66960" y="331920"/>
            <a:ext cx="21315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真心</a:t>
            </a: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95080" y="4267080"/>
            <a:ext cx="21466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9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英雄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48320" y="3124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076400" y="22860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黑体"/>
              </a:rPr>
              <a:t>班主任寄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89280" y="1828800"/>
            <a:ext cx="505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  <a:ea typeface="黑体"/>
              </a:rPr>
              <a:t>用高三见证实力！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89280" y="3581280"/>
            <a:ext cx="505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  <a:ea typeface="黑体"/>
              </a:rPr>
              <a:t>用高三创造奇迹！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440080" y="304920"/>
            <a:ext cx="429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高考</a:t>
            </a:r>
            <a:r>
              <a:rPr b="1" lang="zh-CN" sz="6000" spc="-1" strike="noStrike" u="sng">
                <a:solidFill>
                  <a:srgbClr val="ffffff"/>
                </a:solidFill>
                <a:uFillTx/>
                <a:latin typeface="Times New Roman"/>
                <a:ea typeface="黑体"/>
              </a:rPr>
              <a:t>是除了造反以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ffffff"/>
                </a:solidFill>
                <a:uFillTx/>
                <a:latin typeface="Times New Roman"/>
                <a:ea typeface="黑体"/>
              </a:rPr>
              <a:t>唯一能改变</a:t>
            </a:r>
            <a:r>
              <a:rPr b="1" lang="zh-CN" sz="60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命运</a:t>
            </a:r>
            <a:r>
              <a:rPr b="1" lang="zh-CN" sz="6000" spc="-1" strike="noStrike" u="sng">
                <a:solidFill>
                  <a:srgbClr val="ffffff"/>
                </a:solidFill>
                <a:uFillTx/>
                <a:latin typeface="Times New Roman"/>
                <a:ea typeface="黑体"/>
              </a:rPr>
              <a:t>的途径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611360" y="53352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黑体"/>
              </a:rPr>
              <a:t>明确你的选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13560" y="243828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理化生</a:t>
            </a:r>
            <a:r>
              <a:rPr b="1" lang="zh-CN" sz="7200" spc="-1" strike="noStrike">
                <a:solidFill>
                  <a:srgbClr val="ffffff"/>
                </a:solidFill>
                <a:latin typeface="Times New Roman"/>
                <a:ea typeface="黑体"/>
              </a:rPr>
              <a:t>的追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19200" y="15876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了解你的对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91680" y="1447920"/>
            <a:ext cx="136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黑体"/>
              </a:rPr>
              <a:t>本  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76080" y="25146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黑体"/>
              </a:rPr>
              <a:t>常州市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60680" y="261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55960" y="358128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黑体"/>
              </a:rPr>
              <a:t>一市三县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89760" y="548640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黑体"/>
              </a:rPr>
              <a:t>江苏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76080" y="45720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黑体"/>
              </a:rPr>
              <a:t>长江以北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756160" y="22860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高三拼搏关键词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24000" y="23623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目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53200" y="22096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责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53000" y="12952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荣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24200" y="15238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坚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91120" y="5257800"/>
            <a:ext cx="1295280" cy="685800"/>
          </a:xfrm>
          <a:prstGeom prst="ellipse">
            <a:avLst/>
          </a:prstGeom>
          <a:solidFill>
            <a:srgbClr val="f8e10a"/>
          </a:solidFill>
          <a:ln w="9360">
            <a:solidFill>
              <a:srgbClr val="f8e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00920" y="4952880"/>
            <a:ext cx="118656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2" action="ppaction://hlinksldjump"/>
              </a:rPr>
              <a:t>成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3" action="ppaction://hlinksldjump"/>
          </p:cNvPr>
          <p:cNvSpPr/>
          <p:nvPr/>
        </p:nvSpPr>
        <p:spPr>
          <a:xfrm>
            <a:off x="1600200" y="3352680"/>
            <a:ext cx="380880" cy="152640"/>
          </a:xfrm>
          <a:custGeom>
            <a:avLst/>
            <a:gdLst>
              <a:gd name="textAreaLeft" fmla="*/ 47520 w 380880"/>
              <a:gd name="textAreaRight" fmla="*/ 333360 w 38088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4" action="ppaction://hlinksldjump"/>
          </p:cNvPr>
          <p:cNvSpPr/>
          <p:nvPr/>
        </p:nvSpPr>
        <p:spPr>
          <a:xfrm>
            <a:off x="3200400" y="2590920"/>
            <a:ext cx="380880" cy="152280"/>
          </a:xfrm>
          <a:custGeom>
            <a:avLst/>
            <a:gdLst>
              <a:gd name="textAreaLeft" fmla="*/ 47520 w 380880"/>
              <a:gd name="textAreaRight" fmla="*/ 333360 w 38088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5" action="ppaction://hlinksldjump"/>
          </p:cNvPr>
          <p:cNvSpPr/>
          <p:nvPr/>
        </p:nvSpPr>
        <p:spPr>
          <a:xfrm>
            <a:off x="5029200" y="2286000"/>
            <a:ext cx="380880" cy="152280"/>
          </a:xfrm>
          <a:custGeom>
            <a:avLst/>
            <a:gdLst>
              <a:gd name="textAreaLeft" fmla="*/ 47520 w 380880"/>
              <a:gd name="textAreaRight" fmla="*/ 333360 w 38088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6" action="ppaction://hlinksldjump"/>
          </p:cNvPr>
          <p:cNvSpPr/>
          <p:nvPr/>
        </p:nvSpPr>
        <p:spPr>
          <a:xfrm>
            <a:off x="6629400" y="3200400"/>
            <a:ext cx="380880" cy="152280"/>
          </a:xfrm>
          <a:custGeom>
            <a:avLst/>
            <a:gdLst>
              <a:gd name="textAreaLeft" fmla="*/ 47520 w 380880"/>
              <a:gd name="textAreaRight" fmla="*/ 333360 w 38088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135800" y="53352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黑体"/>
              </a:rPr>
              <a:t>高三宣言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64240" y="3886200"/>
            <a:ext cx="354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6000" spc="-1" strike="noStrike">
                <a:solidFill>
                  <a:srgbClr val="ff3300"/>
                </a:solidFill>
                <a:latin typeface="黑体"/>
                <a:ea typeface="黑体"/>
              </a:rPr>
              <a:t>、拼搏一年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黑体"/>
                <a:ea typeface="黑体"/>
              </a:rPr>
              <a:t>       </a:t>
            </a:r>
            <a:r>
              <a:rPr b="1" lang="zh-CN" sz="6000" spc="-1" strike="noStrike">
                <a:solidFill>
                  <a:srgbClr val="ff3300"/>
                </a:solidFill>
                <a:latin typeface="黑体"/>
                <a:ea typeface="黑体"/>
              </a:rPr>
              <a:t>幸福一生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06160" y="2743200"/>
            <a:ext cx="1093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黑体"/>
              </a:rPr>
              <a:t>1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黑体"/>
              </a:rPr>
              <a:t>、意志改变命运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2" action="ppaction://hlinksldjump"/>
          </p:cNvPr>
          <p:cNvSpPr/>
          <p:nvPr/>
        </p:nvSpPr>
        <p:spPr>
          <a:xfrm>
            <a:off x="8381880" y="61722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10800" y="6524"/>
                </a:moveTo>
                <a:lnTo>
                  <a:pt x="13376" y="9135"/>
                </a:lnTo>
                <a:lnTo>
                  <a:pt x="13376" y="7395"/>
                </a:lnTo>
                <a:lnTo>
                  <a:pt x="15152" y="7395"/>
                </a:lnTo>
                <a:lnTo>
                  <a:pt x="15152" y="10911"/>
                </a:lnTo>
                <a:lnTo>
                  <a:pt x="17763" y="13487"/>
                </a:lnTo>
                <a:lnTo>
                  <a:pt x="16109" y="13487"/>
                </a:lnTo>
                <a:lnTo>
                  <a:pt x="16109" y="20677"/>
                </a:lnTo>
                <a:lnTo>
                  <a:pt x="5491" y="20677"/>
                </a:lnTo>
                <a:lnTo>
                  <a:pt x="5491" y="13487"/>
                </a:lnTo>
                <a:lnTo>
                  <a:pt x="3837" y="13487"/>
                </a:lnTo>
                <a:close/>
              </a:path>
              <a:path fill="darkenLess" w="21600" h="26975">
                <a:moveTo>
                  <a:pt x="13376" y="9135"/>
                </a:moveTo>
                <a:lnTo>
                  <a:pt x="13376" y="7395"/>
                </a:lnTo>
                <a:lnTo>
                  <a:pt x="15152" y="7395"/>
                </a:lnTo>
                <a:lnTo>
                  <a:pt x="15152" y="10911"/>
                </a:lnTo>
                <a:close/>
              </a:path>
              <a:path fill="darkenLess" w="21600" h="26975">
                <a:moveTo>
                  <a:pt x="9877" y="16986"/>
                </a:moveTo>
                <a:lnTo>
                  <a:pt x="11723" y="16986"/>
                </a:lnTo>
                <a:lnTo>
                  <a:pt x="11723" y="20677"/>
                </a:lnTo>
                <a:lnTo>
                  <a:pt x="16109" y="20677"/>
                </a:lnTo>
                <a:lnTo>
                  <a:pt x="16109" y="13487"/>
                </a:lnTo>
                <a:lnTo>
                  <a:pt x="5491" y="13487"/>
                </a:lnTo>
                <a:lnTo>
                  <a:pt x="5491" y="20677"/>
                </a:lnTo>
                <a:lnTo>
                  <a:pt x="9877" y="2067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531800" y="53352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黑体"/>
              </a:rPr>
              <a:t>高三秘笈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23600" y="2362320"/>
            <a:ext cx="45090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ff3300"/>
                </a:solidFill>
                <a:latin typeface="Times New Roman"/>
                <a:ea typeface="黑体"/>
              </a:rPr>
              <a:t>天道酬勤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458200" y="65530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13487" y="3837"/>
                </a:moveTo>
                <a:lnTo>
                  <a:pt x="16064" y="6448"/>
                </a:lnTo>
                <a:lnTo>
                  <a:pt x="16064" y="4707"/>
                </a:lnTo>
                <a:lnTo>
                  <a:pt x="17839" y="4707"/>
                </a:lnTo>
                <a:lnTo>
                  <a:pt x="17839" y="8224"/>
                </a:lnTo>
                <a:lnTo>
                  <a:pt x="20450" y="10800"/>
                </a:lnTo>
                <a:lnTo>
                  <a:pt x="18797" y="10800"/>
                </a:lnTo>
                <a:lnTo>
                  <a:pt x="18797" y="17989"/>
                </a:lnTo>
                <a:lnTo>
                  <a:pt x="8178" y="17989"/>
                </a:lnTo>
                <a:lnTo>
                  <a:pt x="8178" y="10800"/>
                </a:lnTo>
                <a:lnTo>
                  <a:pt x="6524" y="10800"/>
                </a:lnTo>
                <a:close/>
              </a:path>
              <a:path fill="darkenLess" w="26975" h="21600">
                <a:moveTo>
                  <a:pt x="16064" y="6448"/>
                </a:moveTo>
                <a:lnTo>
                  <a:pt x="16064" y="4707"/>
                </a:lnTo>
                <a:lnTo>
                  <a:pt x="17839" y="4707"/>
                </a:lnTo>
                <a:lnTo>
                  <a:pt x="17839" y="8224"/>
                </a:lnTo>
                <a:close/>
              </a:path>
              <a:path fill="darkenLess" w="26975" h="21600">
                <a:moveTo>
                  <a:pt x="12565" y="14299"/>
                </a:moveTo>
                <a:lnTo>
                  <a:pt x="14410" y="14299"/>
                </a:lnTo>
                <a:lnTo>
                  <a:pt x="14410" y="17989"/>
                </a:lnTo>
                <a:lnTo>
                  <a:pt x="18797" y="17989"/>
                </a:lnTo>
                <a:lnTo>
                  <a:pt x="18797" y="10800"/>
                </a:lnTo>
                <a:lnTo>
                  <a:pt x="8178" y="10800"/>
                </a:lnTo>
                <a:lnTo>
                  <a:pt x="8178" y="17989"/>
                </a:lnTo>
                <a:lnTo>
                  <a:pt x="12565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386000" y="380880"/>
            <a:ext cx="3139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imes New Roman"/>
                <a:ea typeface="黑体"/>
              </a:rPr>
              <a:t>“</a:t>
            </a:r>
            <a:r>
              <a:rPr b="1" lang="zh-CN" sz="6600" spc="-1" strike="noStrike">
                <a:solidFill>
                  <a:srgbClr val="ffffff"/>
                </a:solidFill>
                <a:latin typeface="Times New Roman"/>
                <a:ea typeface="黑体"/>
              </a:rPr>
              <a:t>共同体”号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86080" y="167652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黑体"/>
              </a:rPr>
              <a:t>命运</a:t>
            </a: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黑体"/>
              </a:rPr>
              <a:t>共同体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62400" y="281952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黑体"/>
              </a:rPr>
              <a:t>利益</a:t>
            </a: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黑体"/>
              </a:rPr>
              <a:t>共同体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62400" y="396252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黑体"/>
              </a:rPr>
              <a:t>智慧</a:t>
            </a: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黑体"/>
              </a:rPr>
              <a:t>共同体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830592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16206" y="3837"/>
                </a:moveTo>
                <a:lnTo>
                  <a:pt x="18783" y="6448"/>
                </a:lnTo>
                <a:lnTo>
                  <a:pt x="18783" y="4707"/>
                </a:lnTo>
                <a:lnTo>
                  <a:pt x="20558" y="4707"/>
                </a:lnTo>
                <a:lnTo>
                  <a:pt x="20558" y="8224"/>
                </a:lnTo>
                <a:lnTo>
                  <a:pt x="23169" y="10800"/>
                </a:lnTo>
                <a:lnTo>
                  <a:pt x="21516" y="10800"/>
                </a:lnTo>
                <a:lnTo>
                  <a:pt x="21516" y="17989"/>
                </a:lnTo>
                <a:lnTo>
                  <a:pt x="10897" y="17989"/>
                </a:lnTo>
                <a:lnTo>
                  <a:pt x="10897" y="10800"/>
                </a:lnTo>
                <a:lnTo>
                  <a:pt x="9243" y="10800"/>
                </a:lnTo>
                <a:close/>
              </a:path>
              <a:path fill="darkenLess" w="32413" h="21600">
                <a:moveTo>
                  <a:pt x="18783" y="6448"/>
                </a:moveTo>
                <a:lnTo>
                  <a:pt x="18783" y="4707"/>
                </a:lnTo>
                <a:lnTo>
                  <a:pt x="20558" y="4707"/>
                </a:lnTo>
                <a:lnTo>
                  <a:pt x="20558" y="8224"/>
                </a:lnTo>
                <a:close/>
              </a:path>
              <a:path fill="darkenLess" w="32413" h="21600">
                <a:moveTo>
                  <a:pt x="15284" y="14299"/>
                </a:moveTo>
                <a:lnTo>
                  <a:pt x="17129" y="14299"/>
                </a:lnTo>
                <a:lnTo>
                  <a:pt x="17129" y="17989"/>
                </a:lnTo>
                <a:lnTo>
                  <a:pt x="21516" y="17989"/>
                </a:lnTo>
                <a:lnTo>
                  <a:pt x="21516" y="10800"/>
                </a:lnTo>
                <a:lnTo>
                  <a:pt x="10897" y="10800"/>
                </a:lnTo>
                <a:lnTo>
                  <a:pt x="10897" y="17989"/>
                </a:lnTo>
                <a:lnTo>
                  <a:pt x="15284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00200" y="1828800"/>
            <a:ext cx="4729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黑体"/>
                <a:ea typeface="黑体"/>
              </a:rPr>
              <a:t>九班兴亡，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8000" spc="-1" strike="noStrike">
                <a:solidFill>
                  <a:srgbClr val="ffffff"/>
                </a:solidFill>
                <a:latin typeface="黑体"/>
                <a:ea typeface="黑体"/>
              </a:rPr>
              <a:t>匹夫有责</a:t>
            </a:r>
            <a:r>
              <a:rPr b="1" lang="zh-CN" sz="7200" spc="-1" strike="noStrike">
                <a:solidFill>
                  <a:srgbClr val="ffffff"/>
                </a:solidFill>
                <a:latin typeface="黑体"/>
                <a:ea typeface="黑体"/>
              </a:rPr>
              <a:t>！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305920" y="6095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10800" y="5999"/>
                </a:moveTo>
                <a:lnTo>
                  <a:pt x="13376" y="8610"/>
                </a:lnTo>
                <a:lnTo>
                  <a:pt x="13376" y="6869"/>
                </a:lnTo>
                <a:lnTo>
                  <a:pt x="15152" y="6869"/>
                </a:lnTo>
                <a:lnTo>
                  <a:pt x="15152" y="10386"/>
                </a:lnTo>
                <a:lnTo>
                  <a:pt x="17763" y="12962"/>
                </a:lnTo>
                <a:lnTo>
                  <a:pt x="16109" y="12962"/>
                </a:lnTo>
                <a:lnTo>
                  <a:pt x="16109" y="20151"/>
                </a:lnTo>
                <a:lnTo>
                  <a:pt x="5491" y="20151"/>
                </a:lnTo>
                <a:lnTo>
                  <a:pt x="5491" y="12962"/>
                </a:lnTo>
                <a:lnTo>
                  <a:pt x="3837" y="12962"/>
                </a:lnTo>
                <a:close/>
              </a:path>
              <a:path fill="darkenLess" w="21600" h="25924">
                <a:moveTo>
                  <a:pt x="13376" y="8610"/>
                </a:moveTo>
                <a:lnTo>
                  <a:pt x="13376" y="6869"/>
                </a:lnTo>
                <a:lnTo>
                  <a:pt x="15152" y="6869"/>
                </a:lnTo>
                <a:lnTo>
                  <a:pt x="15152" y="10386"/>
                </a:lnTo>
                <a:close/>
              </a:path>
              <a:path fill="darkenLess" w="21600" h="25924">
                <a:moveTo>
                  <a:pt x="9877" y="16461"/>
                </a:moveTo>
                <a:lnTo>
                  <a:pt x="11723" y="16461"/>
                </a:lnTo>
                <a:lnTo>
                  <a:pt x="11723" y="20151"/>
                </a:lnTo>
                <a:lnTo>
                  <a:pt x="16109" y="20151"/>
                </a:lnTo>
                <a:lnTo>
                  <a:pt x="16109" y="12962"/>
                </a:lnTo>
                <a:lnTo>
                  <a:pt x="5491" y="12962"/>
                </a:lnTo>
                <a:lnTo>
                  <a:pt x="5491" y="20151"/>
                </a:lnTo>
                <a:lnTo>
                  <a:pt x="9877" y="2015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7T15:00:22Z</dcterms:created>
  <dc:creator/>
  <dc:description/>
  <cp:keywords>主题班会课件(分28大类): http://shop62905894.taobao.com</cp:keywords>
  <dc:language>en-US</dc:language>
  <cp:lastModifiedBy>User</cp:lastModifiedBy>
  <dcterms:modified xsi:type="dcterms:W3CDTF">2013-04-13T14:52:21Z</dcterms:modified>
  <cp:revision>6</cp:revision>
  <dc:subject>主题班会课件(分28大类): http://shop62905894.taobao.com</dc:subject>
  <dc:title>主题班会课件(分28大类): http://shop62905894.taobao.com</dc:title>
</cp:coreProperties>
</file>