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CB3-581C-428B-A2AE-78EC319B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850-618A-4BEE-8854-0BDEA75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071-47DE-498E-B1C0-12F2911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76A-A3F2-44D7-AF6A-098E676E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B048-B7CF-4A13-B1B3-18B06B55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1A1A-2E5F-4E31-A88D-6AD61C8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98D2-B8CF-4DA1-9C52-438B5B1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B35-700B-4EAB-9BF6-D215016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99CC-45B7-4C5A-88CF-33D31910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2A99-601A-43F8-A359-8576A2F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A972-DFC5-4334-9B6B-532A4D9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57C-E379-43A7-AE4D-54C6C63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B381-AAE2-4287-ACE0-FCD5188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A84D-0573-486F-9C35-E4AE856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45D-1287-4F87-80A7-E5D2F6B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A066-DE18-48F6-B5CC-E68A8491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F3E6-1780-4B08-8C39-E0771193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7AA-E4A7-4A92-B69C-AFA86D4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B9C-FED4-4442-B669-B20D61D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A42-79C4-43C6-8AF5-8AD1CB7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A8B-731E-4F5C-9694-178EAB3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497-0421-4AF7-9953-0673978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AB7-87D5-4BFB-A44A-3368D9E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A58-AF76-4BC3-9728-E6D17F1C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E89-0C06-4FA7-AF6F-B3C1EC3399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61B-8808-4735-B3E2-77FC3FFFAAB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3600" y="5562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高三（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0" y="1219320"/>
            <a:ext cx="4495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快乐迎高三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839080" y="6541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华大学的前身是清华学堂，始建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曾是由美国“退还”的部分“庚子赔款”建立的留美预备学校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清华学堂更名为清华学校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清华大学共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院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系，其学科领域涵盖了理、工、文、法、医、新闻、管理、艺术等。在以世界一流大学为目标的“大综合”学科发展理念的引导下，各学科都不同程度地在其主流方向上有所建树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近年来，清华青年教师骨干迅速成长，人才引进计划顺利实施，学术带头人队伍迅速扩大，师资队伍结构日趋合理。在继“百名人才引进计划”和“高级访问学者制度”之后，又推出了“讲席教授”制度，聘请国际著名教授来校工作。目前清华的两院院士已达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。与世界上著名大学和企业的合作与交流也取得了新的进展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639040" cy="53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048440" cy="518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7860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北京大学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----</a:t>
            </a: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最 具 偶 像 价 值 的 大学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7057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北京大学是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的戊戌变法维新运动中应运而生的，是近代中国第一所国立综合性大学。从建立之初，他就被赋予了革故鼎新、自强奋进的性格。他曾是新文化运动的中心，五四运动的策源地，是马克思主义和科学、民主的思想在中国传播的最早基地。北大百年历史中特殊的光荣和骄傲，奠定了北大生生不息、永不磨灭的爱国与进步传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在刚刚落幕的国家教学成果表彰大会上，北京大学以优异的成绩名列全国高校之首，再次显示了北大的师资力量和教学实力。文、理、医多学科综合性发展的优势，增强了北京大学与世界一流大学交流对话的分量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49772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430680" cy="4643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5760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雪后南北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第二次月考成绩分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05740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3.4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9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学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6.6  (3)  105.5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1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10.8  (1)  106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物理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9.7   (3)  88.3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9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生物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8.16 (1)  56.01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化学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7.2   (2)  86.4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8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名次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0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0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50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0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cc66ff"/>
                </a:solidFill>
                <a:latin typeface="Tahoma"/>
              </a:rPr>
              <a:t>1        7         13        22          29          36         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        6         14        20          29          33         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4763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鹤鸣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49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未名湖与博雅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浙江大学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华文行楷"/>
              </a:rPr>
              <a:t>----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_x000b__x000c_"/>
              </a:rPr>
              <a:t>最 有 人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_x000b__x000c_"/>
              </a:rPr>
              <a:t>大 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浙江大学是一所古老而年轻、有着悠久历史而又焕发出蓬勃生机的著名高等学府。学校现有国家重点学科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，国家重点（专业）实验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，国家工程研究中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，国家工程技术研究中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，国家级人才培养基地和课程基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。另有各类研究机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9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余个。　今天，浙江大学正满怀信心地跨入一个新世纪。他们将贯彻水平第一的方针，坚持实施知识、能力、素质并重的育人模式，培养一流的人才；促使学科交叉互补，推进科学研究在基础、应用、工程三方面发展和双向流动，建成开放的人才和信息交流网络，致力于促进科学、文化和经济的发展，努力把浙江大学建设成为具有世界先进水平的一流大学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666880" cy="504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4419720" cy="307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4496040" cy="29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2800"/>
            </a:b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105160" cy="2486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304956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85800" y="3282840"/>
            <a:ext cx="4495680" cy="28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复旦大学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------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最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"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小 资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"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的 大 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坐落在上海的复旦大学创建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0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，原名为复旦公学。“复旦”二字选自《尚书大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虞夏志》中“日月光华，旦复旦兮”的名句，意在自强不息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院校调整，复旦大学成为文理综合性大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复旦大学直属教育部，现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学院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系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本科专业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硕士学位点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博士学位点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博士后流动站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国家重点学科、五个国家重点实验室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本科专业被国家定为基础科学研究和教学人才培养基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复旦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实施学分制教学和管理，同时加强课程建设，大力提倡“名教授上基础课、带基础实验”，形成了“学在复旦”的良好学风和校风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班级前十名：加玺    守朝    高伟    克全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王北    贤剑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青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    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陈宣    周丞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牡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理综前十名：守朝    加玺    高伟    长首    周丞    陈宣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贤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     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青青   民明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文裕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王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单科第一名：语文—青青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06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数学—加玺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49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英语— 陈宣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    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物理—周丞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16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化学—陈宣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08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生物—加玺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进步较快的同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成梅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23/167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克全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6/ 63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王北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5/83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青青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2/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爽爽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2/82 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潘宇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0/102    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民明</a:t>
            </a: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10/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373e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520" y="50328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    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成功就象攀索桥，失败原因不是力量的薄弱、智商的高低而是没有执着的目标，威慑于险恶的环境，被周围的环境所屈服。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2860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高三对每一个渴望升学的同学而言，都是不简单的一年。在这一年里，得学会坚强，学会忍受，学会品味那无穷无味的寂寞和孤独。我还清楚地记得，那三百多个日夜，我孤灯夜读，静静地手捧一卷书，默默地望着窗外无声的世界，心里不停地在祈祷：愿我梦想成真。虽然苦涩、孤寂，但内心却充满了希望，满怀憧憬。……只能是默默地奋斗着，辛勤在耕耘着，相信皇天不负有心人吧。一次次跌倒，一次次地爬起，为的只是那梦想地实现。不停地鼓励自己：我一定要坚持下去，不论前面我会遇到何等的挫折，我也不能放弃希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-609480" y="-76320"/>
            <a:ext cx="9753480" cy="11201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6629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f01"/>
                </a:solidFill>
                <a:latin typeface="Tahoma"/>
                <a:ea typeface="华文新魏"/>
              </a:rPr>
              <a:t>六月的天，</a:t>
            </a:r>
            <a:br>
              <a:rPr sz="9600"/>
            </a:br>
            <a:r>
              <a:rPr b="1" lang="zh-CN" sz="9600" spc="-1" strike="noStrike">
                <a:solidFill>
                  <a:srgbClr val="ffcf01"/>
                </a:solidFill>
                <a:latin typeface="Tahoma"/>
                <a:ea typeface="华文新魏"/>
              </a:rPr>
              <a:t>是明朗的天！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ahoma"/>
                <a:ea typeface="华文彩云"/>
              </a:rPr>
              <a:t>明年的六月属于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761640" y="2743200"/>
            <a:ext cx="360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Times New Roman"/>
                <a:ea typeface="文鼎霹雳体"/>
              </a:rPr>
              <a:t>我们！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609480"/>
            <a:ext cx="8610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8fd7"/>
                </a:solidFill>
                <a:latin typeface="宋体"/>
              </a:rPr>
              <a:t>姓名   语文  数学  英语  物理  化学  生物  总分  段名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草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8  132   135    114   107   64    67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张春鸿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5   122   149    116   109   61    652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陈加玺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1  127   149    106   104   65    652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姜灏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9  125   144    109    98   62    647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郑素利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5  123   137    107   109   66    647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傅刚瓯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4  120   142    107   109   64    646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包小宝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5  122   140    101   105   64    637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新心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1  119   137    116    99   64    636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陈希首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7  126   141    103   102   55    634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候健茹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8  115   137    111    98   64    63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38088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a6e4c"/>
                </a:solidFill>
                <a:latin typeface="Tahoma"/>
                <a:ea typeface="隶书"/>
              </a:rPr>
              <a:t>    </a:t>
            </a:r>
            <a:r>
              <a:rPr b="0" lang="zh-CN" sz="4000" spc="-1" strike="noStrike">
                <a:solidFill>
                  <a:srgbClr val="da6e4c"/>
                </a:solidFill>
                <a:latin typeface="Tahoma"/>
                <a:ea typeface="隶书"/>
              </a:rPr>
              <a:t>世上没有恒常的失败，也一定没有永远的成功。所以我们在失败中不要失去向上的信心，在成功中更不要失去警醒的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a6e4c"/>
                </a:solidFill>
                <a:latin typeface="Tahoma"/>
                <a:ea typeface="隶书"/>
              </a:rPr>
              <a:t>                           ——</a:t>
            </a:r>
            <a:r>
              <a:rPr b="0" lang="zh-CN" sz="4000" spc="-1" strike="noStrike">
                <a:solidFill>
                  <a:srgbClr val="da6e4c"/>
                </a:solidFill>
                <a:latin typeface="Tahoma"/>
                <a:ea typeface="隶书"/>
              </a:rPr>
              <a:t>智慧背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755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Tahoma"/>
                <a:ea typeface="文鼎行楷碑体"/>
              </a:rPr>
              <a:t>我们一起来选择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447920"/>
            <a:ext cx="6400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方正舒体"/>
              </a:rPr>
              <a:t>我要上北大</a:t>
            </a:r>
            <a:endParaRPr b="0" lang="en-US" sz="96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方正舒体"/>
              <a:ea typeface="方正舒体"/>
            </a:endParaRPr>
          </a:p>
        </p:txBody>
      </p:sp>
      <p:sp>
        <p:nvSpPr>
          <p:cNvPr id="117" name=""/>
          <p:cNvSpPr txBox="1"/>
          <p:nvPr/>
        </p:nvSpPr>
        <p:spPr>
          <a:xfrm rot="21281400">
            <a:off x="609120" y="2057400"/>
            <a:ext cx="6629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方正舒体"/>
              </a:rPr>
              <a:t>我要上清华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4038480"/>
            <a:ext cx="5181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要上重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ff"/>
                </a:solidFill>
                <a:latin typeface="Monotype Corsiva"/>
                <a:ea typeface="华文彩云"/>
              </a:rPr>
              <a:t>中国名校“梦之队”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153280" cy="3562200"/>
        </p:xfrm>
        <a:graphic>
          <a:graphicData uri="http://schemas.openxmlformats.org/drawingml/2006/table">
            <a:tbl>
              <a:tblPr/>
              <a:tblGrid>
                <a:gridCol w="3924000"/>
                <a:gridCol w="422928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1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清华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6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南京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2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北京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7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武汉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3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浙江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8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吉林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4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复旦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9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上海交通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5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华中科技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‘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10.</a:t>
                      </a:r>
                      <a:r>
                        <a:rPr b="1" lang="zh-CN" sz="4000" spc="-1" strike="noStrike">
                          <a:solidFill>
                            <a:srgbClr val="206cf6"/>
                          </a:solidFill>
                          <a:latin typeface="Tahoma"/>
                        </a:rPr>
                        <a:t>中山大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Tahoma"/>
                <a:ea typeface="华文新魏"/>
              </a:rPr>
              <a:t>我们向往的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1240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95680" y="2743200"/>
            <a:ext cx="2448000" cy="37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学</a:t>
            </a:r>
            <a:endParaRPr b="1" lang="en-US" sz="96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1143000"/>
            <a:ext cx="9144000" cy="5027760"/>
            <a:chOff x="0" y="1143000"/>
            <a:chExt cx="9144000" cy="5027760"/>
          </a:xfrm>
        </p:grpSpPr>
        <p:sp>
          <p:nvSpPr>
            <p:cNvPr id="128" name=""/>
            <p:cNvSpPr/>
            <p:nvPr/>
          </p:nvSpPr>
          <p:spPr>
            <a:xfrm>
              <a:off x="0" y="1143000"/>
              <a:ext cx="6915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143000"/>
              <a:ext cx="9144000" cy="50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62012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11426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清华大学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华文行楷"/>
              </a:rPr>
              <a:t>------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_x000b__x000c_"/>
              </a:rPr>
              <a:t>最 纯 粹 的 大 学 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5:00:00Z</dcterms:created>
  <dc:creator/>
  <dc:description/>
  <cp:keywords>主题班会课件(分28大类): http://shop62905894.taobao.com</cp:keywords>
  <dc:language>en-US</dc:language>
  <cp:lastModifiedBy>User</cp:lastModifiedBy>
  <dcterms:modified xsi:type="dcterms:W3CDTF">2013-04-13T15:19:43Z</dcterms:modified>
  <cp:revision>16</cp:revision>
  <dc:subject>主题班会课件(分28大类): http://shop62905894.taobao.com</dc:subject>
  <dc:title>主题班会课件(分28大类): http://shop62905894.taobao.com</dc:title>
</cp:coreProperties>
</file>