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6.gif" ContentType="image/gif"/>
  <Override PartName="/ppt/media/image14.jpeg" ContentType="image/jpeg"/>
  <Override PartName="/ppt/media/image13.png" ContentType="image/png"/>
  <Override PartName="/ppt/media/chimes.wav" ContentType="audio/x-wav"/>
  <Override PartName="/ppt/media/image1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camera.wav" ContentType="audio/x-wav"/>
  <Override PartName="/ppt/media/image7.jpeg" ContentType="image/jpeg"/>
  <Override PartName="/ppt/media/image11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29" end="1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4203-8B29-46DD-AE91-9E2136A157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405C-CD8E-424A-9167-BBB2B4830A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34808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隶书"/>
              </a:rPr>
              <a:t>教育是心与心的交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457200"/>
            <a:ext cx="7924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qq.com/a/20040505/000204.htm" TargetMode="External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207.152.99.250/piclib/mliterature.html" TargetMode="External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87631250&amp;tn=baiduimagedetail&amp;word=&#26460;&#40065;&#38376;" TargetMode="External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139456150&amp;tn=baiduimagedetail&amp;word=&#33678;&#22763;&#27604;&#20122;" TargetMode="External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4u4.8u8.com/" TargetMode="External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981080"/>
            <a:ext cx="8001000" cy="916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高考复习方法与心理训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4197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414972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尹邓安　耿喜玲　蔡群　主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心知堂文化交流有限公司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不在乎，不着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即将到来的高考，找不到感觉，不在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维误区：过分消极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具体对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生能有几回搏？面对竞争不能退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确定一个高考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确定一个每日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某个同学作为榜样，与他一起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抑郁类型的人适合的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化验员、检验员、实验室工作者、自然科学研究者、保管员、机关秘书、刺绣工作者、打字员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数人是一般型气质或两种气质的混合型，典型气质和三种气质混合型的人较少。气质无好坏之分，各有长短，扬长补短，有益健康，则业有方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性格与职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性格与职业有什么关系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性格是在人的生理基础上，在社会实践活动中，逐渐形成、发展和变化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于具体的生活道路不同，每一个人的性格回游不同的特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性格，表现在对人、对事、对物、对自己的态度和行为方面较稳定的心理特征。如善良与恶毒、勤劳与懒惰、勇敢与懦弱、果断与寡断、谦虚与骄傲等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性格特征系统，可分为四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集体和别人的态度的特征（善良、同情心、严格要求、骄傲等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劳动态度的特征（爱劳动或懒惰等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待物品的态度的特征（有条不紊或邋遢等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待自己的态度的特征（自尊心、自高自大、虚荣、骄傲等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0440" y="6094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13976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心理机能上，可以划分出在现实生活中理智、情绪、意志三种心理机能分别占优势的人，他们分别是理智型、情绪型、意志型。属于理智型的人，通常可以理智的衡量一切，并以理智来支配自己的行动。属于情绪的人，具有较明确的活动目标，行动具有主动性。除了典型的类型外，还发现有一些中间类型，如理智—意志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心理活动倾向，可把人们的性格可靠划分为外倾型和内倾型。外倾型心理活动倾向于外部，开朗、活跃、善于交际；内倾型的人心理活动倾向于内部，一般表现为沉静，反映比较缓慢。适应环境困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609480"/>
            <a:ext cx="8686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个体独立性来划分，奥地利心理学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阿德勒从精神分析的观点，依据个体竞争性的不同，把人们的性格划分为优越型和自卑型。优越型的人特别的好强，遇事不甘落后，总想胜过别人。自卑型的人非常自卑，遇事甘愿退让，不与别人竞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后一些心理学家采取按照个体独立性划分性格，以独立性程度划分为独立型和顺从型。独立型的人，他们的主要特点是善于独立的发现问题和解决问题，不易为次要因素所干扰，在紧急、困难的情况下表现沉着、镇静，易于发挥自己的力量。顺从型的人，他们的主要特点是独立性差，易受暗示，容易不加分析的 接受别人的意见，按照别人意见办事，在紧急、困难的情况下表现为张皇失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社会的生活方式来划分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斯普兰根据人类的 六种文化生活方式，把人的性格分为六种类型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理论型、经济型、审美型、社会型、权力型、宗教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性格与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在性格中表现为对劳动、对工作的态度的部分，直接影响到职业选择和职业成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劳动和工作的认识上，有的人以劳动为荣，把劳动、工作当作自己的需要。没有工作干就会精神没有寄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劳动与工作行动上，有的人主动、积极、肯干；有的人消极、懒散。有的人勇挑重担，不怕脏，不怕累；有的人则拈轻怕重，把方便留给自己，把困难留给别人。工作作风上也是有着巨大的差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上表现劳动、工作中的性格特征，影响到对某些职业的选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某些要求严格的职业，懒散的人就不适应。在沿海的大城市中许多人羡慕别人的高薪，但不能适应严格的管理而被解聘，就是例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的性格表现在对别人、对自己、对其他事物的态度与他对工作、劳动的态度是相互联系的，也往往影响到职业的选择和职业成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的过于自信，有的孤僻对公益事业冷漠、轻视社会行为准则的人，就不适合做同人打交道的一些职业。如教师、营业员、外交人员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76212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性格的意志特征也同职业选择与职业成就有关。自觉的调节自己行为的方式和水平是性格的意志特征，包括：自觉性与盲目性、独立性与顺从性、勇敢性与懦弱性、纪律性与散漫性坚持性与妥协性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些性格的意志特征不适宜于某些职业岗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，一个懦弱 、散漫的人不适宜做军事工作，即使做了也必须克服其性格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美国心理学家霍兰德根据性格特征与职业的关系，把性格划分为六种类型，这六种不同性格的人在选择职业上具有明显的差异。同时，也体现出人的职业兴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实型，这种人不重视外交，而重视物质，实际的利益。他们遵守规则，喜欢安定，感情不丰富，缺乏洞察力。在职业选择上他们希望从事有明确要求的，需要一定的技巧，能按一定的程序进行操作的工作。如机械、电工技术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研究型，这种人有强烈的好奇心，重分析，好内省，比较慎重。他们喜欢从事有观察，有科学分析的 创造性活动和需要钻研精神的职业，如科研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艺术型，这种人想象力丰富，有理想，易冲动，好独创。他们喜欢从事非系统的，自由的，要求有一定职业素养的职业，如音乐，美术，影视，文学职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990720"/>
            <a:ext cx="85341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社会型，这种人乐于助人，善于交际，易合作，重视友谊，责任感强，他们希望从事服务类行业，如教育，医疗工作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企业型，这种人喜欢支配别人，有冒险精神，自信且精力旺盛，好发表自己的见解，他们愿意从事那些直接获得经济效益的职业，如经营管理，产供销等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规型，这种人易服从，能自我抑制，想象力较差，喜欢稳定、有秩序的环境。在职业选择上，他们愿意从事那些需要按照规定要求工作，比较简单而又比较刻板的职业。如仓库管理员，非技术操作工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消除考试焦虑的方法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另类放松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焦虑不安写下来，就能消除不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试前，每天做一件与学习无关而又擅长的事情更够预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心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试前，心中不断重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心情已经非常平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话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场上深呼吸能消除焦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14800" y="3103560"/>
            <a:ext cx="914400" cy="65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stress4"/>
          <p:cNvPicPr/>
          <p:nvPr/>
        </p:nvPicPr>
        <p:blipFill>
          <a:blip r:embed="rId2">
            <a:lum contrast="-24000"/>
          </a:blip>
          <a:srcRect l="46799" t="8712" r="2602" b="0"/>
          <a:stretch/>
        </p:blipFill>
        <p:spPr>
          <a:xfrm>
            <a:off x="3097080" y="0"/>
            <a:ext cx="46371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增强你的自信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4720" cy="453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你之所以感到巨人高不可攀，只是因为自己跪着，不信你站起来试试，你一定能发现自己并不比别人矮一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马克思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2604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13000"/>
            <a:ext cx="3333600" cy="52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以排除万难，坚定不移的勇气干下去，必有成功之日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邹韬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zoutaof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34000" y="1557360"/>
            <a:ext cx="3313080" cy="46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00640" y="1599840"/>
            <a:ext cx="4286160" cy="453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对我力所能及的事，力争做到尽善尽美。对我力所不能及的事，就只好听天由命了。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杜鲁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u=2956225206,2498486461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557360"/>
            <a:ext cx="3832200" cy="403380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自信是走向成功的第一步，缺乏自信是失败的主要原因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4200" spc="-1" strike="noStrike">
                <a:solidFill>
                  <a:srgbClr val="000000"/>
                </a:solidFill>
                <a:latin typeface="Times New Roman"/>
              </a:rPr>
              <a:t>莎士比亚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u=1994744522,1655433825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798560"/>
            <a:ext cx="3958920" cy="37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关于自信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发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51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，英国人弗兰克林首先从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射线照片上发现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的螺旋结构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53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年，沃森和克里克也从发现了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的分子结构，提出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双螺旋结构的假说。因此获得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62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年度诺贝尔医学奖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功亏一篑的故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英国一位女游泳选手，立志要做世界上第一位横渡英吉利海峡的人，她游到离英国海岸只有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多米时放弃了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相信自己  增强自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启体"/>
                <a:ea typeface="文鼎CS大黑"/>
              </a:rPr>
              <a:t>考前学生心理与复习策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j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79680" y="49320"/>
            <a:ext cx="5850000" cy="6665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224280" y="-22140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己是什么不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95960" y="63576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何看待自己最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增强自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成功者与失败者的唯一区别是什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增强自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成功者坚信自己能够成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而失败者对能否成功抱持怀疑态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增强自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功经验增加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回忆自己过去考试成功的经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回顾复习历程（耕耘有多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改错题，考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欺软怕硬，多做容易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增强自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我暗示增加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天都对自己说：“我能行，我能考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象成功考试情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象获得考试分数、录取通知书的情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增强自信的技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另类技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自己做错的题目在重新做一遍能增强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以前看过的参考书和试题集摞起来，放到目光所及的地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解高难度的题，不解新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增强自信的咒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优等生咒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不会的，别人更不会！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等生咒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不会的，其他中等生也不会！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基础题做对，就够本！把我平时不会的也答出来，就赚了！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础差学生咒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考场就是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撞大运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多写多算，说不定有意外收获！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题海中走出来：收获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沙里淘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715000" y="1356840"/>
            <a:ext cx="2857680" cy="476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中国古代大部分时间，采金技术基本上使用原始而简单的淘洗法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用木盘或淘床，将含有金子的河砂放在木盘或淘床里，放入水中不断反复淘洗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比重较大的砂金就会沉淀在木盘底部，再一粒一粒地用手挑拣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http://blog.rhythmsmonthly.com/gallery/10th/cat06.15.jpg"/>
          <p:cNvPicPr/>
          <p:nvPr/>
        </p:nvPicPr>
        <p:blipFill>
          <a:blip r:embed="rId2"/>
          <a:stretch/>
        </p:blipFill>
        <p:spPr>
          <a:xfrm>
            <a:off x="1500120" y="1285920"/>
            <a:ext cx="4214880" cy="486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临近高考，有的考生由于情绪高度紧张而导致夜间失眠、白天头脑发昏思维混乱。对此，专家建议：考生应劳逸结合、避免“开夜车”、“题海战术”，调整好生物钟。如条件允许，考生还可以坚持每天睡半小时午觉，从而保持一种好的身体和精神状态参加高考。 新华社发"/>
          <p:cNvPicPr/>
          <p:nvPr/>
        </p:nvPicPr>
        <p:blipFill>
          <a:blip r:embed="rId2"/>
          <a:srcRect l="0" t="0" r="0" b="5503"/>
          <a:stretch/>
        </p:blipFill>
        <p:spPr>
          <a:xfrm>
            <a:off x="1928880" y="428760"/>
            <a:ext cx="5707080" cy="564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你的考试减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套卷子做下来，你的收益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你得到的分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还是你不会做的题目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历次测试结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内容占位符 5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109000" cy="34718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1357200" y="54291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花费了时间做题，却没有进步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收获本  让你更有收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错题本为啥不管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将错题本束之高阁，没有发挥积极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错题本名称为消极暗示，学生不愿意去复习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应该怎么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抛弃错题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撰写收获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收获本的好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0200"/>
            <a:ext cx="810900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过去犯的错误，将不在重演，成绩步步高升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节约更多的时间，提高复习效率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图表 3" descr=""/>
          <p:cNvPicPr/>
          <p:nvPr/>
        </p:nvPicPr>
        <p:blipFill>
          <a:blip r:embed="rId2"/>
          <a:stretch/>
        </p:blipFill>
        <p:spPr>
          <a:xfrm>
            <a:off x="857160" y="2643120"/>
            <a:ext cx="3857760" cy="3500640"/>
          </a:xfrm>
          <a:prstGeom prst="rect">
            <a:avLst/>
          </a:prstGeom>
          <a:ln w="0">
            <a:noFill/>
          </a:ln>
        </p:spPr>
      </p:pic>
      <p:pic>
        <p:nvPicPr>
          <p:cNvPr id="123" name="图表 5" descr=""/>
          <p:cNvPicPr/>
          <p:nvPr/>
        </p:nvPicPr>
        <p:blipFill>
          <a:blip r:embed="rId3"/>
          <a:stretch/>
        </p:blipFill>
        <p:spPr>
          <a:xfrm>
            <a:off x="4857840" y="2786040"/>
            <a:ext cx="4000320" cy="32860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4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成功使用收获本的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获本记录收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知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获本通用不分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科会造成复习上的困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写上日期、科目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成功使用收获本的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获本要便于携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便于携带才便于复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小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-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页规格的“软面抄”为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获本要经常阅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天中午和睡前各阅读一次，平时可一多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零碎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钟时间去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期进行整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隔一段时间（两个月）分科整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试卷分析技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哪儿不懂？你哪儿不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现问题，比解决问题更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要知道自己“不知道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考前六大消极心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时成绩好，担心高考失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时成绩欠佳，渴望一夜成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遭遇考试失败，对高考感到绝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考前太紧张，考场发挥失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能完全集中精力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在乎，不着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试卷分析技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试卷中发现学生存在的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试卷分析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区分两种错误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会的，做错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太会或不会，做错或做不出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种类型：技能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ki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缺失型错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明会做，反而做错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很有把握的题，却没做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明会而且非常简单的题，却是落笔就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二种类型：知识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欠缺型错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一遍做对了，后来改错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一遍做错了，后来改对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回答不严密、不完整的等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会做题（回忆不起来，缺乏思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明白问题之所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是提高学习成绩的起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卷分析的具体做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确定错误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：审题错误、抄写错误、计算错误、笔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：落实到具体章节（如函数、不等式、直线和圆、圆锥曲线、排列组合、概率统计、极限导数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43040" y="3786120"/>
          <a:ext cx="6095880" cy="2225880"/>
        </p:xfrm>
        <a:graphic>
          <a:graphicData uri="http://schemas.openxmlformats.org/drawingml/2006/table">
            <a:tbl>
              <a:tblPr/>
              <a:tblGrid>
                <a:gridCol w="785880"/>
                <a:gridCol w="1143000"/>
                <a:gridCol w="2786040"/>
                <a:gridCol w="1380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题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错误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具体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失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审题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排列组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strips dir="rd"/>
    <p:sndAc>
      <p:stSnd>
        <p:snd r:embed="rId2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试卷分析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67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卷分析的具体做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错误失分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错误：按类别统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错误：按章节统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确定改进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错误：确定一个主要错误类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错误：确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-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主要失分最多章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238720" y="1714680"/>
          <a:ext cx="3048120" cy="4130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失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型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审题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型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函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等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线和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锥曲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strips dir="rd"/>
    <p:sndAc>
      <p:stSnd>
        <p:snd r:embed="rId2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效解决你的粗心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如何看待粗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粗心是不可克服的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只要细心一些就可以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粗心是练习不够造成的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平时成绩好，担心高考失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担心出现不测的情况，导致理想不能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维误区：过分消极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具体策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试就是对学习水平的检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回顾过去的成功考试经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做好应付各种可能情况的应急方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因为缺乏有效技能解决所犯错误所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要采取有针对性技能训练就能解决避免错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战胜粗心的基本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深刻认识粗心的危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粗心抵消了你的学习成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但这样损失却没有能够通过努力挣回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了解克服粗心的好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克服粗心就是得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克服粗心就可以使你的总分上一个档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个得分比解决学习问题得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更容易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回顾你犯错的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只有深入了解粗心才能解决粗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回想一下你是怎样犯错误的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读题时没有读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审题时误以为它和过去考题一样，但实际不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审题时以为它是考那个内容，其实不是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算化简时候忙中出错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算过程中记错了条件和数字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在草稿上计算出错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抄写出错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写错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定性你的错误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常见错误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审题错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算错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抄写错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书写错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图示 3" descr=""/>
          <p:cNvPicPr/>
          <p:nvPr/>
        </p:nvPicPr>
        <p:blipFill>
          <a:blip r:embed="rId2"/>
          <a:stretch/>
        </p:blipFill>
        <p:spPr>
          <a:xfrm>
            <a:off x="4552920" y="2494080"/>
            <a:ext cx="3159000" cy="340020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进行专题训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只有采取有针对性地训练，掌握解决问题的技能才能最终解决粗心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平时做题和考试过程中，把消灭粗心作为一个重要任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考前双目标，考后双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知识掌握目标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型错误减少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知识掌握情况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型错误减少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掌握复查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复查是消灭粗心的最后屏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会复查是消灭粗心的重要保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确保复查的针对性是成功的关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自己容易出问题的所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复查时重点检查易出错的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很少出错的方面可以不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审题错误的解决方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了解审题错误的心理原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要原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想象代替实际（以为是这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为后面内容是过去所见到过的，而没有把题读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为是过去题型而忽略了其中的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记忆歪曲（记错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题过程中由于紧张，把已知条件漏掉、记错、添加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遭遇考试失败，对高考感到绝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模拟考试或者其他考试中遭遇失败，就对未来的高考感到绝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思维误区：过分概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具体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面分析历次考试，特别是成功的考试，积累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早发现问题，有利于解决问题，亡羊补牢未为晚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决考试中出现的问题，你就又进步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了解审题错误的解决办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克服粗心的办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必须养成读完题再解题的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审题过程中标出关键字词或数量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答题时适时回顾题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何复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新读题，核查原先审题是否有偏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审题错误 训练指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训练指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试卷分析，找到审题错误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平时作业，平时测验和各种模拟考试中按照上面的要求去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做需要坚持一段时间，一般情况下至少需要两周时间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计算错误的解决方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了解计算错误的原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运算错误的两个主要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省略步骤太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草稿书写不规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了解审题错误解决办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决办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运算过程中多写运算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能两步并作一步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能三步、四步并作一步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草稿纸上正确书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明题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书写规范（像正式试卷那样对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了解审题错误解决办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决办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何复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要再次进行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需要检查运算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训练指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训练指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试卷分析，找到计算错误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平时作业，平时测验和各种模拟考试中按照上面的要求去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首先注意草稿书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卷子上做题时养成多写运算步骤的习惯，而不要省略太多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科一重点有效提升考试成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郭博士谈：赢在高考心理与复习策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http://www.zynews.com/images/2007-11/15/xin_1511041502099091620418.jpg"/>
          <p:cNvPicPr/>
          <p:nvPr/>
        </p:nvPicPr>
        <p:blipFill>
          <a:blip r:embed="rId2"/>
          <a:stretch/>
        </p:blipFill>
        <p:spPr>
          <a:xfrm>
            <a:off x="1143000" y="214200"/>
            <a:ext cx="7358040" cy="64296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3691440" y="6143760"/>
            <a:ext cx="29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1983</a:t>
            </a:r>
            <a:r>
              <a:rPr b="0" lang="zh-CN" sz="2400" spc="-1" strike="noStrike">
                <a:solidFill>
                  <a:srgbClr val="3333cc"/>
                </a:solidFill>
                <a:latin typeface="Calibri"/>
              </a:rPr>
              <a:t>年高考作文题漫画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《</a:t>
            </a:r>
            <a:r>
              <a:rPr b="0" lang="zh-CN" sz="2400" spc="-1" strike="noStrike">
                <a:solidFill>
                  <a:srgbClr val="3333cc"/>
                </a:solidFill>
                <a:latin typeface="Calibri"/>
              </a:rPr>
              <a:t>挖井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生中最浪费时间的一件事就是太早放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们经常在做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的工作后，放弃了最后可以让他成功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不但输掉最初的付出，更丧失了经过最后努力而成功的喜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考前太紧张，考场发挥失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考试担忧过多，导致考试时患得患失，思想不能集中，从而失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维误区：过分灾难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具体策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担忧妨碍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担忧具体化，想好退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集中精力做题，不想别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年高考数学全国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39760" y="1600200"/>
          <a:ext cx="6592680" cy="4471920"/>
        </p:xfrm>
        <a:graphic>
          <a:graphicData uri="http://schemas.openxmlformats.org/drawingml/2006/table">
            <a:tbl>
              <a:tblPr/>
              <a:tblGrid>
                <a:gridCol w="2197080"/>
                <a:gridCol w="2197800"/>
                <a:gridCol w="21978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文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理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代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立体几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解析几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概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导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strips dir="rd"/>
    <p:sndAc>
      <p:stSnd>
        <p:snd r:embed="rId2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提升考分的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7680" y="1628640"/>
            <a:ext cx="7805880" cy="5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考成功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图示 3" descr=""/>
          <p:cNvPicPr/>
          <p:nvPr/>
        </p:nvPicPr>
        <p:blipFill>
          <a:blip r:embed="rId2"/>
          <a:stretch/>
        </p:blipFill>
        <p:spPr>
          <a:xfrm>
            <a:off x="1517760" y="2408400"/>
            <a:ext cx="6108480" cy="312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3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5960" y="321480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科一重点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了解自己的问题之所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应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试卷分析技术找到自己的问题之所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断每道题目的考点是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依据考试大纲或课本判断它属于哪部分，哪个知识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大纲或课本为基础，统计自己各部分得分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成表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某学生语文测验试卷分析结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774800"/>
          <a:ext cx="8108640" cy="4011480"/>
        </p:xfrm>
        <a:graphic>
          <a:graphicData uri="http://schemas.openxmlformats.org/drawingml/2006/table">
            <a:tbl>
              <a:tblPr/>
              <a:tblGrid>
                <a:gridCol w="1742760"/>
                <a:gridCol w="1440000"/>
                <a:gridCol w="1288440"/>
                <a:gridCol w="1439640"/>
                <a:gridCol w="219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试卷比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得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得分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考试目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、语文基础和应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、古代诗文阅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、现代文阅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、写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strips dir="rd"/>
    <p:sndAc>
      <p:stSnd>
        <p:snd r:embed="rId2" name="chimes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确定各科复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目前科目分数水平确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科目复习考试分数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希望提高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确定重点提分领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文阅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目前得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zh-CN" sz="2000" spc="-1" strike="noStrike">
                <a:solidFill>
                  <a:srgbClr val="c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），得分率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5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希望提高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，得分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确定各科复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基础和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目前得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），得分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希望提高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，得分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确定重点科目区域达标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则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如希望总分达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水平，区域达标目标就应该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%+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水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只有该领域的得分达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上的时候，才能更换重点复习领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某学生语文测验试卷分析结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774800"/>
          <a:ext cx="8108640" cy="4011480"/>
        </p:xfrm>
        <a:graphic>
          <a:graphicData uri="http://schemas.openxmlformats.org/drawingml/2006/table">
            <a:tbl>
              <a:tblPr/>
              <a:tblGrid>
                <a:gridCol w="1742760"/>
                <a:gridCol w="1440000"/>
                <a:gridCol w="1288440"/>
                <a:gridCol w="1439640"/>
                <a:gridCol w="219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试卷比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得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得分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考试目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、语文基础和应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、古代诗文阅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、现代文阅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zh-CN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80%</a:t>
                      </a:r>
                      <a:r>
                        <a:rPr b="0" lang="zh-CN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、写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strips dir="rd"/>
    <p:sndAc>
      <p:stSnd>
        <p:snd r:embed="rId2" name="chimes.wav"/>
      </p:stSnd>
    </p:sndAc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精准定位复习范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确定复习重点区域的前提下，对该部分知识掌握内容进行细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哪些方面知识已经掌握，哪些方面知识还有缺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重点放在没有掌握的知识要点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知识要点分析越仔细，复习就越有成效，提分就越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立体几何部分掌握细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000080" y="1357200"/>
          <a:ext cx="7358040" cy="5186520"/>
        </p:xfrm>
        <a:graphic>
          <a:graphicData uri="http://schemas.openxmlformats.org/drawingml/2006/table">
            <a:tbl>
              <a:tblPr/>
              <a:tblGrid>
                <a:gridCol w="820800"/>
                <a:gridCol w="4108320"/>
                <a:gridCol w="1214640"/>
                <a:gridCol w="121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知识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掌握评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复习重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面的基本性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空间的两条直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线与平面平行判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线与平面垂直判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点到直线、平面求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垂线定理、逆定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面与平面平行的判定和性质定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线和平面的距离，两平面间的距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求二面角大小的一般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面与平面垂直的判定和性质定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棱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棱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strips dir="r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不能完全集中精力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抱怨自己不能完全集中精力学习，导致自己学习效率不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维误区：过分理想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具体策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是正常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劳逸结合、注意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重效率，而不是绝对时间的投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深度复习提高分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600200"/>
            <a:ext cx="8109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到课本，阅读相关章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顾课后习题，重做习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扩展阅读面，读几本参考书（对应章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选做部分参考书的试题，选看部分参考书试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不懂的地方，及时请教老师和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到单元练习，直到达成预定掌握目标为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09480" y="24382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9900"/>
                </a:solidFill>
                <a:uFillTx/>
                <a:latin typeface="Times New Roman"/>
              </a:rPr>
              <a:t>填报志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5120" y="1523880"/>
            <a:ext cx="57909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估分要尽可能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专业选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院校选报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选报志愿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认真选报第一志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注意选报第二三志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防止四个误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门心思奔名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盲目追求热门专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父母一手包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错误理解兴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谨防五大漏洞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要忽视一些特殊院校对身体的要求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填志愿时千万别将水平相当的院校分别报在第一、二、三志愿里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许多高分考生对提前单独录取的院校索性空着不填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愿否调剂仔细斟酌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于一些家长对外地学校的不了解，往往将一些数得上的名校填在第三志愿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切忌六种心态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从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侥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卑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烦躁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寄托关系网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完全依赖父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气质与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胆汁质气质与职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血质气质与职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粘液质气质与职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抑郁质气质与职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1160" y="2857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胆汁质气质与职业</a:t>
            </a:r>
            <a:br>
              <a:rPr sz="4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胆汁质又称不可遏制型，属于战斗类型。这种气质的特点是情绪兴奋性高，发生很快，带有爆发的性质，如暴风骤雨。情绪体验强烈，外部表现明显，但爆发之后又很快平静下来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胆汁质的人感情与动作迅速，直爽热情，精力充沛，脾气暴躁，但不灵活。主要有以下表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人对事注重感情，情绪高涨时，工作效率高，干劲大。情绪低落时，萎靡不振，无精打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喜欢新颖的活动，喜欢场面壮观、气氛热情的活动，其间能保持旺盛的精神状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事匆匆忙忙，完成任务比别人快，办事干脆利落，不拖泥带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讲究效率，干事喜欢一气呵成，对有兴趣的事情，可以废寝忘食，夜以继日地去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理解力强，但不求甚解，喜欢边思考边动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声音洪亮，善于争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为急躁，容易激动。因情急而中伤了别人，但自己还不曾察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喜欢表现自己，自我感觉良好，希望占上风，争上游，不甘示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走路、讲话的姿态上摆幅度大，手势丰富，动作夸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宁肯一个人干事，不愿很多人在一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人争吵时总是先发制人，喜欢挑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羡慕那种善于克制自己感情的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事总是有旺盛的精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情绪高昂时，觉得干什么都有兴趣；情绪低落时，又觉得干什么都没意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平时成绩欠佳，渴望一夜成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5520" y="1500120"/>
            <a:ext cx="76438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绩较差，对自己的现状感到不满意，渴望有一个很快提高学习成绩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维误区：过分理想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具体策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好的成绩是靠努力得来的，没有捷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有行为才能改变现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努力，成功的机会就要高一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19320" y="838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89280" y="70632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32080" y="78264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03480" y="630360"/>
            <a:ext cx="733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学习、工作、事业怀有很高的热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喜欢参加热烈的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宁愿侃侃而谈，不愿窃窃私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认准一个目标就希望尽快实现，不达目的，誓不罢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事有些莽撞，常常不考虑后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喜欢运动量大的剧烈体育活动，或参加各种文娱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看情节起伏跌宕、激动人心的小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周围人们的关系总是相处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别人说自己出语伤人，可自己并不觉得这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兴奋的事常使自己失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胆汁质类型的人适合的职业有：导游员、推销员、节目主持人、新闻记者、外事接待员、监督员、演员、消防员、采购员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多血质气质与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血质又称活泼型，属于敏捷好动的类型。这种气质的特点是热情、开朗，无忧无虑、活泼动动、对外界事物感受迅速、强烈但不深入，不能持久，兴趣广泛但注意力易分散，感情易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种气质特点是认知敏感、行为敏捷、兴趣与注意力转移得快，消失得也快，为人乐观、活泼、适应性强。这种人有以下表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感情丰富，喜怒于色，稍不如意就会暴跳如雷，或大声痛哭，但稍得宽慰又会破涕为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事时，开头劲头很大，但表现散漫，有始无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上缺乏毅力，成绩跌宕起伏较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喜欢直观、形象的思考，而对抽象的分析、概括感到枯燥无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力很不集中，容易见异思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我评价的好坏，多受别人的态度影响，注意别人对自己的评论，也好评论别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善于交际，对朋友重感情、讲义气，但友谊不巩固，缺少知心、稳定的朋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活动敏捷，举止轻盈，但不老成稳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一个新环境很快就能适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兴趣广泛而不稳定，钻研精神不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善于同别人交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多数情况下抱乐观情绪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人群中从来不觉得过分拘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理解问题总是比别人快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符合兴趣的事情，干起来劲头十足，否则就不想干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讨厌做需要耐心、细心的工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工作、学习时间长了，常常感到厌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疲倦时只要短暂的休息就能精神抖擞，重新投入工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能够很快忘却那些不愉快的事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受任务后，就希望把它迅速解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能够同时注意几件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希望做变化大、花样多的工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反应敏捷，头脑机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假如工作枯燥无味，马上就情绪低落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多血质类型的人适合的职业有：管理工作、服务工作，驾驶员、律师、运动员、警察、记者、外交人员、侦探、政治辅导员、行政人员、宣传工作者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粘液气质与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粘液质又称安静型，属于缄默而沉静的类型。这种气质的特点是情绪不易激动，内向冷漠，动作稳妥，不善交往但善于忍耐，注意力稳定，有较强的自制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种气质人的特点是感情不易外露，深沉含蓄，不大容易发脾气，对人平和，动作缓慢，但具有坚韧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面部表情不丰富，举止幅度也不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喜欢引人注目，也不易激动，行为平静、一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能长时间地从事一项工作，长时间地保持一种姿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自制力较强，能尊重社会上的各种制度规范。在工厂、学校是遵守纪律的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理解问题比别人慢，但能认真听讲，并希望多听几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工作认真，有始有终，工作进程有条不紊，工作安排井井有条，不做没把握的事，容易被人信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兴趣集中，有毅力，不受环境干扰，注意力集中，不容易分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工作环境的要求高，喜欢安静的工作环境，渴望平静地工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平时沉默寡言，说话声调不高，慢条斯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为人平和，心胸开朗，善于克制自己，生活上不与人计较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做事力求稳当，不做无把握的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喜欢安静的环境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生活有规律，很少违反作息制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遇到令人气愤的事能很好地自我克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当注意力集中于一事物时，别的事情很难使自己分心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能够长时间做枯燥、单调的工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与人交往不卑不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喜欢长时间谈论一个问题，愿意实际动手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理解问题常比别人慢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老师或师傅讲授新知识、技术时，总希望他讲慢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能很快地把注意力从一件事转移到另一件事上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认为墨守成规比冒风险强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工作抱认真严谨、始终一贯的态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体育活动中，常因反应慢而落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喜欢有条理而不甚麻烦的工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粘液质类型的人适合的职业有：医生、法官、管理人员、会计、出纳员、播音员、秘书、办公室职员、翻译人员、档案管理员、统计员、打字员、纺织工、印刷工、机床工、装配工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抑郁气质与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抑郁质又称抑郁型，属于呆板而羞涩的类型 。这种气质的特点是情绪兴奋性高，敏感，体验深刻，持久，内倾，各种心理活动的外部表现都是缓慢而柔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6094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09480"/>
            <a:ext cx="91440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内心体验深刻，情感发生缓慢但持久，行为退却，动作缓慢，具有悲观消极的体验与态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情绪暗淡，表情总是平淡中带有哀伤，做大部分的事情都能引起强烈的愉快情绪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合群，喜欢独来独往，善于独自深思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感情脆弱常为一点小事而愁眉不展，行为上患得患失。懦弱，害羞，讲话声音细好脸红，怕与生人打交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别人的态度体验深刻，容易算计，耿耿于怀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新知识，新概念接受缓慢，但接受之后很难忘记，对过去的往事比别人记的清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精力充沛，但容易疲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有惊人的观察力，别人注意不到的细小变化，他都能了如指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善交往，不喜欢吵闹繁杂的环境，但友谊感很强，有知心朋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遇到可气的事就怒不可止，想把心里的话全说出来才痛快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lphaU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厌恶强烈的刺激，如尖叫声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lphaU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碰到陌生人觉的很拘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lphaU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遇到问题常举棋不定，优柔寡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280" y="609480"/>
            <a:ext cx="88394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碰到危险情景，有极度恐怖感和紧张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点小事就能引起情绪波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常看感情细腻，描写人物内心活动的作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别人说话他总是闷闷不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心里有话愿意自己思考，不愿说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，工作同样一段时间后，常比别人更疲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作业或完成一项工作总比别人花的时间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当他烦闷时，别人很难使他高兴起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喜欢复习学习过的知识，重复已经掌握的工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时侯会背的诗歌，他似乎比别人记的清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老师讲新概念，常常听不懂，但弄懂以后就难以忘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08:39:36Z</dcterms:created>
  <dc:creator>wangyuan</dc:creator>
  <dc:description/>
  <cp:keywords>主题班会课件(分28大类): http://shop62905894.taobao.com</cp:keywords>
  <dc:language>en-US</dc:language>
  <cp:lastModifiedBy>User</cp:lastModifiedBy>
  <dcterms:modified xsi:type="dcterms:W3CDTF">2013-04-13T15:02:41Z</dcterms:modified>
  <cp:revision>162</cp:revision>
  <dc:subject>主题班会课件(分28大类): http://shop62905894.taobao.com</dc:subject>
  <dc:title>主题班会课件(分28大类): http://shop62905894.taobao.com</dc:title>
</cp:coreProperties>
</file>