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20.jpeg" ContentType="image/jpeg"/>
  <Override PartName="/ppt/media/image19.png" ContentType="image/png"/>
  <Override PartName="/ppt/media/type.wav" ContentType="audio/x-wav"/>
  <Override PartName="/ppt/media/image18.png" ContentType="image/png"/>
  <Override PartName="/ppt/media/image6.jpeg" ContentType="image/jpeg"/>
  <Override PartName="/ppt/media/image16.png" ContentType="image/png"/>
  <Override PartName="/ppt/media/image23.gif" ContentType="image/gif"/>
  <Override PartName="/ppt/media/image24.jpeg" ContentType="image/jpeg"/>
  <Override PartName="/ppt/media/image15.png" ContentType="image/png"/>
  <Override PartName="/ppt/media/image1.gif" ContentType="image/gif"/>
  <Override PartName="/ppt/media/image11.jpeg" ContentType="image/jpeg"/>
  <Override PartName="/ppt/media/image13.jpeg" ContentType="image/jpeg"/>
  <Override PartName="/ppt/media/image40.jpeg" ContentType="image/jpeg"/>
  <Override PartName="/ppt/media/image29.jpeg" ContentType="image/jpeg"/>
  <Override PartName="/ppt/media/image37.gif" ContentType="image/gif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wind.wav" ContentType="audio/x-wav"/>
  <Override PartName="/ppt/media/image41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7.jpeg" ContentType="image/jpeg"/>
  <Override PartName="/ppt/media/image2.gif" ContentType="image/gif"/>
  <Override PartName="/ppt/media/image25.png" ContentType="image/png"/>
  <Override PartName="/ppt/media/image4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D254-C0FB-48A1-AE68-2D0249F8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E49-782E-45CB-B646-677FFA05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41BB-0EE7-4D3D-8C08-73F9C35C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D6D-4B15-4825-9D58-A166A541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7DAB-4674-4FCF-BFFC-8C32BD7F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E107-CF19-4DB4-A7FC-67B0D7AE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61E6-169F-4E99-9778-EAA2F127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308-0928-46E4-9DBF-715D659C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4B6B-D515-4BFC-972F-2919BFEE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826C-390F-485B-A9B5-CA68DDDC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9789-102A-4F8E-A83B-BFB4C9A7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3977-18C8-4365-9A88-83D777A8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06CB-182E-447B-82DA-D942EF43F2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jpeg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2.jpeg"/><Relationship Id="rId10" Type="http://schemas.openxmlformats.org/officeDocument/2006/relationships/image" Target="../media/image23.gif"/><Relationship Id="rId11" Type="http://schemas.openxmlformats.org/officeDocument/2006/relationships/image" Target="../media/image23.gif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efefe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9144000" cy="355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8720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08000" y="71280"/>
            <a:ext cx="2887560" cy="6958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0" r="0" b="2953"/>
          <a:stretch/>
        </p:blipFill>
        <p:spPr>
          <a:xfrm>
            <a:off x="3708360" y="4365720"/>
            <a:ext cx="1690560" cy="2492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rcRect l="7362" t="20621" r="0" b="0"/>
          <a:stretch/>
        </p:blipFill>
        <p:spPr>
          <a:xfrm>
            <a:off x="7164360" y="4365720"/>
            <a:ext cx="1979640" cy="2492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050920" y="4365720"/>
            <a:ext cx="1667160" cy="2492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rcRect l="34341" t="0" r="6418" b="0"/>
          <a:stretch/>
        </p:blipFill>
        <p:spPr>
          <a:xfrm>
            <a:off x="0" y="4365720"/>
            <a:ext cx="2050920" cy="2492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386320" y="4365720"/>
            <a:ext cx="1778040" cy="2519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 rot="20686800">
            <a:off x="2411280" y="1461960"/>
            <a:ext cx="7588440" cy="21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13500000"/>
                </a:gradFill>
                <a:latin typeface="华文行楷"/>
              </a:rPr>
              <a:t>走近名家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135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5" name=""/>
            <p:cNvGrpSpPr/>
            <p:nvPr/>
          </p:nvGrpSpPr>
          <p:grpSpPr>
            <a:xfrm>
              <a:off x="4175280" y="0"/>
              <a:ext cx="2484360" cy="6858000"/>
              <a:chOff x="4175280" y="0"/>
              <a:chExt cx="2484360" cy="685800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4175280" y="0"/>
                <a:ext cx="1252440" cy="6858000"/>
                <a:chOff x="4175280" y="0"/>
                <a:chExt cx="1252440" cy="6858000"/>
              </a:xfrm>
            </p:grpSpPr>
            <p:pic>
              <p:nvPicPr>
                <p:cNvPr id="127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175280" y="0"/>
                  <a:ext cx="1252440" cy="342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175280" y="3429000"/>
                  <a:ext cx="1252440" cy="3429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9" name=""/>
              <p:cNvGrpSpPr/>
              <p:nvPr/>
            </p:nvGrpSpPr>
            <p:grpSpPr>
              <a:xfrm>
                <a:off x="5407200" y="0"/>
                <a:ext cx="1252440" cy="6858000"/>
                <a:chOff x="5407200" y="0"/>
                <a:chExt cx="1252440" cy="6858000"/>
              </a:xfrm>
            </p:grpSpPr>
            <p:pic>
              <p:nvPicPr>
                <p:cNvPr id="13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407200" y="0"/>
                  <a:ext cx="1252440" cy="342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407200" y="3429000"/>
                  <a:ext cx="1252440" cy="3429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2" name=""/>
            <p:cNvGrpSpPr/>
            <p:nvPr/>
          </p:nvGrpSpPr>
          <p:grpSpPr>
            <a:xfrm>
              <a:off x="6659640" y="0"/>
              <a:ext cx="2484360" cy="6858000"/>
              <a:chOff x="6659640" y="0"/>
              <a:chExt cx="2484360" cy="685800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6659640" y="0"/>
                <a:ext cx="1252440" cy="6858000"/>
                <a:chOff x="6659640" y="0"/>
                <a:chExt cx="1252440" cy="6858000"/>
              </a:xfrm>
            </p:grpSpPr>
            <p:pic>
              <p:nvPicPr>
                <p:cNvPr id="13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659640" y="0"/>
                  <a:ext cx="1252440" cy="342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59640" y="3429000"/>
                  <a:ext cx="1252440" cy="3429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6" name=""/>
              <p:cNvGrpSpPr/>
              <p:nvPr/>
            </p:nvGrpSpPr>
            <p:grpSpPr>
              <a:xfrm>
                <a:off x="7891560" y="0"/>
                <a:ext cx="1252440" cy="6858000"/>
                <a:chOff x="7891560" y="0"/>
                <a:chExt cx="1252440" cy="6858000"/>
              </a:xfrm>
            </p:grpSpPr>
            <p:pic>
              <p:nvPicPr>
                <p:cNvPr id="13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91560" y="0"/>
                  <a:ext cx="1252440" cy="342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891560" y="3429000"/>
                  <a:ext cx="1252440" cy="3429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9" name=""/>
            <p:cNvGrpSpPr/>
            <p:nvPr/>
          </p:nvGrpSpPr>
          <p:grpSpPr>
            <a:xfrm>
              <a:off x="0" y="0"/>
              <a:ext cx="4209480" cy="6858000"/>
              <a:chOff x="0" y="0"/>
              <a:chExt cx="4209480" cy="6858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0" y="0"/>
                <a:ext cx="4209480" cy="6858000"/>
                <a:chOff x="0" y="0"/>
                <a:chExt cx="4209480" cy="6858000"/>
              </a:xfrm>
            </p:grpSpPr>
            <p:pic>
              <p:nvPicPr>
                <p:cNvPr id="141" name="" descr=""/>
                <p:cNvPicPr/>
                <p:nvPr/>
              </p:nvPicPr>
              <p:blipFill>
                <a:blip r:embed="rId9"/>
                <a:srcRect l="0" t="3800" r="0" b="0"/>
                <a:stretch/>
              </p:blipFill>
              <p:spPr>
                <a:xfrm>
                  <a:off x="0" y="0"/>
                  <a:ext cx="4209480" cy="685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" descr=""/>
                <p:cNvPicPr/>
                <p:nvPr/>
              </p:nvPicPr>
              <p:blipFill>
                <a:blip r:embed="rId10"/>
                <a:stretch/>
              </p:blipFill>
              <p:spPr>
                <a:xfrm flipH="1">
                  <a:off x="2432520" y="6237360"/>
                  <a:ext cx="5072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3" name=""/>
              <p:cNvGrpSpPr/>
              <p:nvPr/>
            </p:nvGrpSpPr>
            <p:grpSpPr>
              <a:xfrm>
                <a:off x="2431440" y="6200640"/>
                <a:ext cx="508680" cy="614520"/>
                <a:chOff x="2431440" y="6200640"/>
                <a:chExt cx="508680" cy="6145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2439000" y="6200640"/>
                  <a:ext cx="48528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431440" y="6416280"/>
                  <a:ext cx="508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6" name=""/>
          <p:cNvSpPr/>
          <p:nvPr/>
        </p:nvSpPr>
        <p:spPr>
          <a:xfrm>
            <a:off x="4284720" y="1881000"/>
            <a:ext cx="48607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袁隆平院士是我国杂交水稻研究领域的开创者和带头人。以他为首的科技攻关组完成了三系配套并培育成功杂交水稻，实现了杂交水稻的历史性突破。现我国杂交水稻的各个优良品种已占全国水稻种植面积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％，平均增产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％。此后，他又提出“两系法亚种间杂种优势利用”的发展概念，国家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63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计划据此将两系法列为重要项目，经项目组科技人员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的刻苦研究，已掌握两系法技术，并推广种植，现占水稻面积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％，效果良好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97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，他在国际“超级稻”的概念基础上，提出了“杂交水稻超高产育种”的技术路线，在实验田取得良好效果，亩产近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公斤，且米质类粳稻。近年来，全国杂交水稻年种植面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亩左右，约占水稻总面积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％，产量占稻谷总产的近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％，年增稻谷可养活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人口。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 杂交水稻研究成果获得我国迄今为止唯一的发明特等奖。并先后荣获联合国教科文组织、粮农组织等多项国际奖励。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90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7307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89080" y="206280"/>
            <a:ext cx="66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五、中国近代生物学第一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88000" y="905040"/>
            <a:ext cx="24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童第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rcRect l="15000" t="15692" r="4271" b="0"/>
          <a:stretch/>
        </p:blipFill>
        <p:spPr>
          <a:xfrm>
            <a:off x="0" y="3112920"/>
            <a:ext cx="3197160" cy="3745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24000" y="2499120"/>
            <a:ext cx="86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ea8b00"/>
                </a:solidFill>
                <a:latin typeface="楷体_GB2312"/>
                <a:ea typeface="楷体_GB2312"/>
              </a:rPr>
              <a:t>童第周（</a:t>
            </a:r>
            <a:r>
              <a:rPr b="1" lang="zh-CN" sz="3200" spc="-1" strike="noStrike">
                <a:solidFill>
                  <a:srgbClr val="ea8b00"/>
                </a:solidFill>
                <a:latin typeface="楷体_GB2312"/>
                <a:ea typeface="楷体_GB2312"/>
              </a:rPr>
              <a:t>1902</a:t>
            </a:r>
            <a:r>
              <a:rPr b="1" lang="zh-CN" sz="3200" spc="-1" strike="noStrike">
                <a:solidFill>
                  <a:srgbClr val="ea8b00"/>
                </a:solidFill>
                <a:latin typeface="楷体_GB2312"/>
                <a:ea typeface="楷体_GB2312"/>
              </a:rPr>
              <a:t>～</a:t>
            </a:r>
            <a:r>
              <a:rPr b="1" lang="zh-CN" sz="3200" spc="-1" strike="noStrike">
                <a:solidFill>
                  <a:srgbClr val="ea8b00"/>
                </a:solidFill>
                <a:latin typeface="楷体_GB2312"/>
                <a:ea typeface="楷体_GB2312"/>
              </a:rPr>
              <a:t>1979</a:t>
            </a:r>
            <a:r>
              <a:rPr b="1" lang="zh-CN" sz="3200" spc="-1" strike="noStrike">
                <a:solidFill>
                  <a:srgbClr val="ea8b00"/>
                </a:solidFill>
                <a:latin typeface="楷体_GB2312"/>
                <a:ea typeface="楷体_GB2312"/>
              </a:rPr>
              <a:t>）我国著名的生物学家和优秀的教育家、社会活动家，是卓越的实验胚胎学家，我国实验胚胎学的主要创始人。</a:t>
            </a:r>
            <a:r>
              <a:rPr b="1" lang="zh-CN" sz="3200" spc="-1" strike="noStrike">
                <a:solidFill>
                  <a:srgbClr val="ea8b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ea8b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ea8b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ea8b00"/>
                </a:solidFill>
                <a:latin typeface="楷体_GB2312"/>
                <a:ea typeface="楷体_GB2312"/>
              </a:rPr>
              <a:t>          他一直从事发育生物学的研</a:t>
            </a:r>
            <a:r>
              <a:rPr b="1" lang="zh-CN" sz="3200" spc="-1" strike="noStrike">
                <a:solidFill>
                  <a:srgbClr val="ea8b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ea8b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ea8b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ea8b00"/>
                </a:solidFill>
                <a:latin typeface="楷体_GB2312"/>
                <a:ea typeface="楷体_GB2312"/>
              </a:rPr>
              <a:t>          究。他领导的研究工作居于国</a:t>
            </a:r>
            <a:r>
              <a:rPr b="1" lang="zh-CN" sz="3200" spc="-1" strike="noStrike">
                <a:solidFill>
                  <a:srgbClr val="ea8b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ea8b00"/>
                </a:solidFill>
                <a:latin typeface="楷体_GB2312"/>
                <a:ea typeface="楷体_GB2312"/>
              </a:rPr>
              <a:t>          内外同类研究的先进行列，在</a:t>
            </a:r>
            <a:r>
              <a:rPr b="1" lang="zh-CN" sz="3200" spc="-1" strike="noStrike">
                <a:solidFill>
                  <a:srgbClr val="ea8b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ea8b00"/>
                </a:solidFill>
                <a:latin typeface="楷体_GB2312"/>
                <a:ea typeface="楷体_GB2312"/>
              </a:rPr>
              <a:t>          实验胚胎学和发育生物学研究</a:t>
            </a:r>
            <a:r>
              <a:rPr b="1" lang="zh-CN" sz="3200" spc="-1" strike="noStrike">
                <a:solidFill>
                  <a:srgbClr val="ea8b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ea8b00"/>
                </a:solidFill>
                <a:latin typeface="楷体_GB2312"/>
                <a:ea typeface="楷体_GB2312"/>
              </a:rPr>
              <a:t>          方面，取得了创造性的成果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28036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39640" y="5331240"/>
            <a:ext cx="813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童第周出生在浙江省鄞县。家境贫困，小时候跟父亲学习知识，他十七岁才到学校读书，十八岁考入一所教会学校的三年级当插班生。由于基础差，他在中学读书时十分吃力，第一学期总平均分数只有四十五分。学校令其退学或留级，经过再三请求，校长才允许他跟班试读一学期。他每天早晨天不亮就起床苦读，晚上跑到马路上靠路灯自修。试读结束时，他的总平均分数达到七十多，几何还考了一百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      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童第周二十八岁时留学比利时，他的老师布拉舍多年来从事剥除青蛙卵膜的手术，却没有搞成。童第周知道这种手术很难做，但他知难而上，不声不响地搞成了。这下子震动了他的欧洲同行。老师高兴地说：“童小子真行！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   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78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夏天，几个文艺界的同志曾问童第周，解放前，有哪些事情使他特别高兴？他回答说：“有两件事，我一想起来就很高兴：一件是我在中学时，第一次取得一百分。那件事使我知道我并不比别人笨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别人能办到的事，我经过努力也能办到。世界上没有天才，天才是用劳动换来的。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另一件，就是我在比利时第一次完成剥除青蛙卵膜的手术。那件事使我相信：“中国人也不比外国人笨。外国人认为很难办到的事，我们照样能办到。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675640" y="0"/>
            <a:ext cx="468360" cy="68580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534520" y="27000"/>
            <a:ext cx="69840" cy="68580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440" y="27000"/>
            <a:ext cx="69840" cy="68580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90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289080" y="206280"/>
            <a:ext cx="6659280" cy="703440"/>
            <a:chOff x="289080" y="206280"/>
            <a:chExt cx="6659280" cy="703440"/>
          </a:xfrm>
        </p:grpSpPr>
        <p:sp>
          <p:nvSpPr>
            <p:cNvPr id="159" name=""/>
            <p:cNvSpPr/>
            <p:nvPr/>
          </p:nvSpPr>
          <p:spPr>
            <a:xfrm>
              <a:off x="289080" y="206280"/>
              <a:ext cx="665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六、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42920" y="907920"/>
              <a:ext cx="42498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300720" y="0"/>
            <a:ext cx="2843280" cy="3716280"/>
          </a:xfrm>
          <a:prstGeom prst="rect">
            <a:avLst/>
          </a:prstGeom>
          <a:solidFill>
            <a:srgbClr val="ffffd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2920" y="3284640"/>
            <a:ext cx="8316720" cy="3529080"/>
          </a:xfrm>
          <a:prstGeom prst="cloudCallout">
            <a:avLst>
              <a:gd name="adj1" fmla="val 16689"/>
              <a:gd name="adj2" fmla="val -109467"/>
            </a:avLst>
          </a:prstGeom>
          <a:solidFill>
            <a:srgbClr val="c1c1ff"/>
          </a:solidFill>
          <a:ln w="9360">
            <a:solidFill>
              <a:srgbClr val="a3a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几十年后，你们有谁将会出现在这里吗？你们立下了这样的志向吗？你们有信心吗？只要你耕耘，那么你今天的每一步都不断向这里靠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efefe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212840"/>
            <a:ext cx="6337440" cy="466416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-659880" y="692280"/>
            <a:ext cx="2063160" cy="5616360"/>
            <a:chOff x="-659880" y="692280"/>
            <a:chExt cx="2063160" cy="5616360"/>
          </a:xfrm>
        </p:grpSpPr>
        <p:sp>
          <p:nvSpPr>
            <p:cNvPr id="165" name=""/>
            <p:cNvSpPr/>
            <p:nvPr/>
          </p:nvSpPr>
          <p:spPr>
            <a:xfrm>
              <a:off x="108000" y="692280"/>
              <a:ext cx="1295280" cy="5616360"/>
            </a:xfrm>
            <a:prstGeom prst="verticalScroll">
              <a:avLst>
                <a:gd name="adj" fmla="val 12500"/>
              </a:avLst>
            </a:prstGeom>
            <a:solidFill>
              <a:srgbClr val="ffd9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-659880" y="981000"/>
              <a:ext cx="20091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学习名家风范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972840" y="692280"/>
            <a:ext cx="2063160" cy="5616360"/>
            <a:chOff x="6972840" y="692280"/>
            <a:chExt cx="2063160" cy="5616360"/>
          </a:xfrm>
        </p:grpSpPr>
        <p:sp>
          <p:nvSpPr>
            <p:cNvPr id="168" name=""/>
            <p:cNvSpPr/>
            <p:nvPr/>
          </p:nvSpPr>
          <p:spPr>
            <a:xfrm>
              <a:off x="7740720" y="692280"/>
              <a:ext cx="1295280" cy="5616360"/>
            </a:xfrm>
            <a:prstGeom prst="verticalScroll">
              <a:avLst>
                <a:gd name="adj" fmla="val 12500"/>
              </a:avLst>
            </a:prstGeom>
            <a:solidFill>
              <a:srgbClr val="ffd9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2840" y="981000"/>
              <a:ext cx="20091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争做世纪新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332000" y="5848200"/>
            <a:ext cx="6337080" cy="67644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-181080" y="0"/>
            <a:ext cx="9433080" cy="431640"/>
            <a:chOff x="-181080" y="0"/>
            <a:chExt cx="9433080" cy="431640"/>
          </a:xfrm>
        </p:grpSpPr>
        <p:pic>
          <p:nvPicPr>
            <p:cNvPr id="172" name="" descr=""/>
            <p:cNvPicPr/>
            <p:nvPr/>
          </p:nvPicPr>
          <p:blipFill>
            <a:blip r:embed="rId3"/>
            <a:stretch/>
          </p:blipFill>
          <p:spPr>
            <a:xfrm>
              <a:off x="-181080" y="0"/>
              <a:ext cx="943308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2050920" y="144360"/>
              <a:ext cx="1873440" cy="1890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403280" y="1228680"/>
            <a:ext cx="6337440" cy="4648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rcRect l="0" t="0" r="0" b="8519"/>
          <a:stretch/>
        </p:blipFill>
        <p:spPr>
          <a:xfrm>
            <a:off x="1403280" y="1197000"/>
            <a:ext cx="6337440" cy="4680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rcRect l="9695" t="0" r="0" b="0"/>
          <a:stretch/>
        </p:blipFill>
        <p:spPr>
          <a:xfrm>
            <a:off x="1403280" y="1197000"/>
            <a:ext cx="6337440" cy="4678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rcRect l="5493" t="0" r="3408" b="0"/>
          <a:stretch/>
        </p:blipFill>
        <p:spPr>
          <a:xfrm>
            <a:off x="1403280" y="1238400"/>
            <a:ext cx="63374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40464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一、文坛巨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6560" y="9079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巴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219640" y="0"/>
            <a:ext cx="3924360" cy="3184560"/>
            <a:chOff x="5219640" y="0"/>
            <a:chExt cx="3924360" cy="3184560"/>
          </a:xfrm>
        </p:grpSpPr>
        <p:pic>
          <p:nvPicPr>
            <p:cNvPr id="54" name="" descr=""/>
            <p:cNvPicPr/>
            <p:nvPr/>
          </p:nvPicPr>
          <p:blipFill>
            <a:blip r:embed="rId2"/>
            <a:srcRect l="11331" t="6352" r="0" b="0"/>
            <a:stretch/>
          </p:blipFill>
          <p:spPr>
            <a:xfrm>
              <a:off x="5219640" y="0"/>
              <a:ext cx="3924360" cy="31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5229720" y="0"/>
              <a:ext cx="943920" cy="14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252360" y="2076480"/>
            <a:ext cx="63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巴金，原名李尧棠，   字芾甘。四川成都市人   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祖籍浙江嘉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04    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月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日生于成都一     个旧式的大家庭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782320" y="3229560"/>
            <a:ext cx="3344760" cy="3487320"/>
            <a:chOff x="5782320" y="3229560"/>
            <a:chExt cx="3344760" cy="3487320"/>
          </a:xfrm>
        </p:grpSpPr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 rot="652200">
              <a:off x="5996160" y="3346920"/>
              <a:ext cx="1477440" cy="24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 rot="1694400">
              <a:off x="6603120" y="3679920"/>
              <a:ext cx="1477440" cy="24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6"/>
            <a:stretch/>
          </p:blipFill>
          <p:spPr>
            <a:xfrm rot="2886000">
              <a:off x="6884280" y="4399560"/>
              <a:ext cx="1809720" cy="197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73440" y="4417920"/>
            <a:ext cx="3263040" cy="2428560"/>
            <a:chOff x="73440" y="4417920"/>
            <a:chExt cx="3263040" cy="2428560"/>
          </a:xfrm>
        </p:grpSpPr>
        <p:pic>
          <p:nvPicPr>
            <p:cNvPr id="62" name="" descr=""/>
            <p:cNvPicPr/>
            <p:nvPr/>
          </p:nvPicPr>
          <p:blipFill>
            <a:blip r:embed="rId7"/>
            <a:stretch/>
          </p:blipFill>
          <p:spPr>
            <a:xfrm rot="19538400">
              <a:off x="468360" y="4746960"/>
              <a:ext cx="1455480" cy="18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8"/>
            <a:stretch/>
          </p:blipFill>
          <p:spPr>
            <a:xfrm rot="20647800">
              <a:off x="1049760" y="4581360"/>
              <a:ext cx="1455120" cy="184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9"/>
            <a:stretch/>
          </p:blipFill>
          <p:spPr>
            <a:xfrm rot="527400">
              <a:off x="1748160" y="4581000"/>
              <a:ext cx="1455120" cy="185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 rot="1978200">
            <a:off x="3698640" y="4222800"/>
            <a:ext cx="16254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76360" y="5835960"/>
            <a:ext cx="809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少年时的巴金受五四运动影晌，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20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考入成都外语专门学校。并与当地进步青年结社办刊。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23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走出家庭．到上海、南京等地求学，参加社会活动。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27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赴法国，研读西方资产阶级政治、经济、哲学著述，并翻译无政府主义思想家克鲁泡特金的《伦理学》。在异国他开始了文学创作，写出长篇处女作《灭亡》。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28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底回国，进一步投身文学，写出了反映青年生活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爱情三部曲》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．《春天里的秋天》等小说和大量散文，尤其以感情丰沛的《激流三部曲》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家》．《春》、《秋》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引起轰动，它揭露黑暗。歌颂反抗和光明的主题特别受到青年读者的喜爱。这期间他任上海文化生活出版社总编辑，主持出版了大型文学丛书《文化生活丛刊》和多种文学刊物，培养了大批文学青年。抗战时期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,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他辗转于广州、桂林、昆明、贵阳等地，写下了《火》三部曲、《憩园》、《第四病室》．《寒夜》等作品。新中国成立后，先后任中国文联副主席，中国作协主席等职务，写下许多反映新生活的作品。“文革”中受到迫害，“文革”结束后，以深刻反省自我。剖析社会现象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随想录》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《五辑》带来了个人创作的再度辉煌，以坚持真理，讲真话的精神。赢得了社会的尊敬。被誉为“世纪的良心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0" y="-27000"/>
            <a:ext cx="9144000" cy="6912000"/>
            <a:chOff x="0" y="-27000"/>
            <a:chExt cx="9144000" cy="6912000"/>
          </a:xfrm>
        </p:grpSpPr>
        <p:sp>
          <p:nvSpPr>
            <p:cNvPr id="68" name=""/>
            <p:cNvSpPr/>
            <p:nvPr/>
          </p:nvSpPr>
          <p:spPr>
            <a:xfrm>
              <a:off x="8532720" y="-27000"/>
              <a:ext cx="611280" cy="688500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0" y="0"/>
              <a:ext cx="611280" cy="6858000"/>
              <a:chOff x="0" y="0"/>
              <a:chExt cx="611280" cy="6858000"/>
            </a:xfrm>
          </p:grpSpPr>
          <p:sp>
            <p:nvSpPr>
              <p:cNvPr id="70" name=""/>
              <p:cNvSpPr/>
              <p:nvPr/>
            </p:nvSpPr>
            <p:spPr>
              <a:xfrm>
                <a:off x="0" y="0"/>
                <a:ext cx="611280" cy="6858000"/>
              </a:xfrm>
              <a:prstGeom prst="rect">
                <a:avLst/>
              </a:pr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8360" y="0"/>
                <a:ext cx="71280" cy="68580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8604360" y="27000"/>
              <a:ext cx="71280" cy="6858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90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0920" y="11592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二、国际数学大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0920" y="6890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陈省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36238" t="3678" r="6864" b="3678"/>
          <a:stretch/>
        </p:blipFill>
        <p:spPr>
          <a:xfrm>
            <a:off x="5724360" y="0"/>
            <a:ext cx="3419640" cy="3600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44360" y="2676960"/>
            <a:ext cx="89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陈省身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                生于浙江嘉兴秀水县，美籍华              人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世界级的几何学家。              少年时代即显露数学才华，在                其数学生涯中，几经抉择，努                力攀登，终成辉煌。他在整体微分几何上的卓越贡献，影响了整个数学的发展。曾先后主持、创办了三大数学研究所，造就了一批世界知名的数学家。晚年情系故园，每年回天津南开大学数学研究所主持工作，培育新人，只为实现心中的一个梦想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使中国成为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世纪的数学大国。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-36000" y="-27360"/>
            <a:ext cx="10440720" cy="6985080"/>
            <a:chOff x="-36000" y="-27360"/>
            <a:chExt cx="10440720" cy="6985080"/>
          </a:xfrm>
        </p:grpSpPr>
        <p:grpSp>
          <p:nvGrpSpPr>
            <p:cNvPr id="79" name=""/>
            <p:cNvGrpSpPr/>
            <p:nvPr/>
          </p:nvGrpSpPr>
          <p:grpSpPr>
            <a:xfrm>
              <a:off x="-36000" y="2997000"/>
              <a:ext cx="10440720" cy="3960720"/>
              <a:chOff x="-36000" y="2997000"/>
              <a:chExt cx="10440720" cy="396072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-36000" y="2997000"/>
                <a:ext cx="5256000" cy="3960720"/>
                <a:chOff x="-36000" y="2997000"/>
                <a:chExt cx="5256000" cy="3960720"/>
              </a:xfrm>
            </p:grpSpPr>
            <p:pic>
              <p:nvPicPr>
                <p:cNvPr id="8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580120" y="2997000"/>
                  <a:ext cx="2639880" cy="3960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6000" y="2997000"/>
                  <a:ext cx="2639880" cy="3960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3" name=""/>
              <p:cNvGrpSpPr/>
              <p:nvPr/>
            </p:nvGrpSpPr>
            <p:grpSpPr>
              <a:xfrm>
                <a:off x="5148720" y="2997000"/>
                <a:ext cx="5256000" cy="3960720"/>
                <a:chOff x="5148720" y="2997000"/>
                <a:chExt cx="5256000" cy="3960720"/>
              </a:xfrm>
            </p:grpSpPr>
            <p:pic>
              <p:nvPicPr>
                <p:cNvPr id="8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764840" y="2997000"/>
                  <a:ext cx="2639880" cy="3960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148720" y="2997000"/>
                  <a:ext cx="2639880" cy="3960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6" name=""/>
            <p:cNvGrpSpPr/>
            <p:nvPr/>
          </p:nvGrpSpPr>
          <p:grpSpPr>
            <a:xfrm>
              <a:off x="-36000" y="-27360"/>
              <a:ext cx="10440720" cy="3960720"/>
              <a:chOff x="-36000" y="-27360"/>
              <a:chExt cx="10440720" cy="39607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-36000" y="-27360"/>
                <a:ext cx="5256000" cy="3960720"/>
                <a:chOff x="-36000" y="-27360"/>
                <a:chExt cx="5256000" cy="3960720"/>
              </a:xfrm>
            </p:grpSpPr>
            <p:pic>
              <p:nvPicPr>
                <p:cNvPr id="8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80120" y="-27360"/>
                  <a:ext cx="2639880" cy="3960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-36000" y="-27360"/>
                  <a:ext cx="2639880" cy="3960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" name=""/>
              <p:cNvGrpSpPr/>
              <p:nvPr/>
            </p:nvGrpSpPr>
            <p:grpSpPr>
              <a:xfrm>
                <a:off x="5148720" y="-27360"/>
                <a:ext cx="5256000" cy="3960720"/>
                <a:chOff x="5148720" y="-27360"/>
                <a:chExt cx="5256000" cy="3960720"/>
              </a:xfrm>
            </p:grpSpPr>
            <p:pic>
              <p:nvPicPr>
                <p:cNvPr id="9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64840" y="-27360"/>
                  <a:ext cx="2639880" cy="3960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148720" y="-27360"/>
                  <a:ext cx="2639880" cy="3960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93" name=""/>
          <p:cNvSpPr/>
          <p:nvPr/>
        </p:nvSpPr>
        <p:spPr>
          <a:xfrm>
            <a:off x="-36360" y="404640"/>
            <a:ext cx="10296360" cy="60487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9"/>
          <a:srcRect l="1041" t="12332" r="0" b="15425"/>
          <a:stretch/>
        </p:blipFill>
        <p:spPr>
          <a:xfrm>
            <a:off x="-36360" y="619200"/>
            <a:ext cx="10261440" cy="5618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-7457040" y="765000"/>
            <a:ext cx="74919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陈省身先生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30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毕业于南开大学数学系，受教于姜立夫教授。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34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获清华大学硕士学位。同年入德国汉堡大学随布拉施克教授研究几何，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36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获博士学位后以“法国巴黎索邦中国基金会博士后研究员”身份到巴黎大学从事研究工作，师从国际数学大师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E·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嘉当。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37-1943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，任清华大学和西南联合大学教授。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43-1946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在美国普林斯顿高级研究所任研究员。在微分几何中高斯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波内公式的研究和拓扑学方面取得重要进展。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46-1948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筹建中央数学研究所并任代理所长。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49-1960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，任美国芝加哥大学教授，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60-1979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任加州大学伯克利分校教授，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81-1984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任美国国家数学研究所首任所长，后任名誉所长。他是美国科学院院士，法国、意大利、俄罗斯等国家科学院外籍院士。他对整体微分几何的深远贡献，影响了整个数学，被公认为“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世纪伟大的几何学家”，先后获美国国家科学奖章、以色列沃尔夫奖、中国国际科技合作奖及首届邵逸夫数学科学奖等多项荣誉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 flipH="1" rot="10800000">
            <a:off x="-36360" y="475560"/>
            <a:ext cx="10260000" cy="103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 flipH="1" rot="10800000">
            <a:off x="-36360" y="6278040"/>
            <a:ext cx="10260000" cy="1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306 -0.00532 L 1.70052 -0.00532 E">
                                      <p:cBhvr>
                                        <p:cTn id="100" dur="60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211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427640" y="2209320"/>
            <a:ext cx="34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467960" y="549360"/>
            <a:ext cx="4288680" cy="5805360"/>
            <a:chOff x="4467960" y="549360"/>
            <a:chExt cx="4288680" cy="5805360"/>
          </a:xfrm>
        </p:grpSpPr>
        <p:sp>
          <p:nvSpPr>
            <p:cNvPr id="101" name=""/>
            <p:cNvSpPr/>
            <p:nvPr/>
          </p:nvSpPr>
          <p:spPr>
            <a:xfrm>
              <a:off x="6430320" y="549360"/>
              <a:ext cx="2326320" cy="58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隶书"/>
                </a:rPr>
                <a:t>以一无所知和无所不知的方式去思考；</a:t>
              </a:r>
              <a:br>
                <a:rPr sz="4000"/>
              </a:b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隶书"/>
                </a:rPr>
                <a:t>以即将赴死和永生不死的态度去生活。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35640" y="2133720"/>
              <a:ext cx="0" cy="1366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67960" y="3500280"/>
              <a:ext cx="1399320" cy="18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隶书"/>
                </a:rPr>
                <a:t>陈省身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003640" y="2125800"/>
            <a:ext cx="3959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00"/>
                </a:solidFill>
                <a:latin typeface="华文行楷"/>
                <a:ea typeface="华文行楷"/>
              </a:rPr>
              <a:t>        </a:t>
            </a:r>
            <a:r>
              <a:rPr b="0" lang="zh-CN" sz="4800" spc="-1" strike="noStrike">
                <a:solidFill>
                  <a:srgbClr val="00ff00"/>
                </a:solidFill>
                <a:latin typeface="华文行楷"/>
                <a:ea typeface="华文行楷"/>
              </a:rPr>
              <a:t>数学虽然是基础科学，但对应用科学的研究有重大作用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00"/>
                </a:solidFill>
                <a:latin typeface="华文行楷"/>
                <a:ea typeface="华文行楷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00"/>
                </a:solidFill>
                <a:latin typeface="华文行楷"/>
                <a:ea typeface="华文行楷"/>
              </a:rPr>
              <a:t>       ——</a:t>
            </a:r>
            <a:r>
              <a:rPr b="0" lang="zh-CN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陈省身</a:t>
            </a:r>
            <a:r>
              <a:rPr b="0" lang="zh-CN" sz="4800" spc="-1" strike="noStrike">
                <a:solidFill>
                  <a:srgbClr val="00ff00"/>
                </a:solidFill>
                <a:latin typeface="华文行楷"/>
                <a:ea typeface="华文行楷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5909" t="0" r="30698" b="7906"/>
          <a:stretch/>
        </p:blipFill>
        <p:spPr>
          <a:xfrm>
            <a:off x="2340000" y="1557360"/>
            <a:ext cx="6480000" cy="4683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00360" y="18900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三、汉语言学之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84280" cy="3357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156360" y="9079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赵元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287676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              </a:t>
            </a:r>
            <a:r>
              <a:rPr b="0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赵元任先生是中国现代语言和</a:t>
            </a:r>
            <a:r>
              <a:rPr b="0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     现代音乐学先驱。他博学多才，既 </a:t>
            </a:r>
            <a:r>
              <a:rPr b="0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     是数学家，又是物理学家，对哲学</a:t>
            </a:r>
            <a:r>
              <a:rPr b="0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     也有一定造诣。然而他主要以著名的语言学家蜚声于世。他从</a:t>
            </a:r>
            <a:r>
              <a:rPr b="0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1920</a:t>
            </a:r>
            <a:r>
              <a:rPr b="0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年执教清华至</a:t>
            </a:r>
            <a:r>
              <a:rPr b="0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1972</a:t>
            </a:r>
            <a:r>
              <a:rPr b="0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年在美国加州大学退休，前后从事教育事业</a:t>
            </a:r>
            <a:r>
              <a:rPr b="0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52</a:t>
            </a:r>
            <a:r>
              <a:rPr b="0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年。中国著名语言学家王力、朱德熙、吕叔湘等都是他的学生。“赵先生永远不会错”，这是美国语言学界对他充满信赖的一句崇高评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13647" t="0" r="0" b="0"/>
          <a:stretch/>
        </p:blipFill>
        <p:spPr>
          <a:xfrm>
            <a:off x="611280" y="0"/>
            <a:ext cx="7921440" cy="6881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11280" y="3641040"/>
            <a:ext cx="8064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赵元任，江苏常州人，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892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月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日生，系清代著名文史大家赵翼七世孙。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10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月赴美留学，在美国康乃尔大学主修数学和物理。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14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以全校总分第一的成绩毕业。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又在哈佛大学攻读哲学和科学史，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18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获美国哈佛大学哲学博士学位。在此期间，赵元任又与康乃尔大学的十多位中国留学生一起创办了“中国科学社”。并对中国语言进行了研究，与留学美国的胡适一起写出了以“中国语言问题”为题的一组文章，对中国语言存在的问题进行了一系列的探讨。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20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月，赵元任应清华学校的聘请回到祖国。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25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6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月，就任清华国学研究院导师，与王国维、梁启超、陈寅恪同被誉为清华“四大导师”。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28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，中央研究院成立，赵元任受聘担任中央研究院历史语言研究所语言组主任，是中央研究院第一届院士。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38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8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月赴美定居，先后任美国耶鲁大学、哈佛大学、加州大学伯克莱分校教授，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45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当选美国语言学会会长，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60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年当选美国东方学会会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赵元任早年致力于统一和推广国语（即普通话）的工作，他编写的《新国语留声片课本》，对当时推行国语标准音（即以北京语音为标准）起了很大作用。他还用现代语言学的方法，对中国方言进行了大量的调查研究，写出了大量的调查报告。他在方言学、语言学、音韵学、语法学、语言理论诸方面都有较高的成就，为中国现代语言学的创立和研究奠定了基础，被称为“中国语言学之父”。赵元任既是世界著名的语言学家，也是著名的音乐作曲家、哲学家、逻辑学家、数学家、翻译家和作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-27000"/>
            <a:ext cx="9144000" cy="6885000"/>
            <a:chOff x="0" y="-27000"/>
            <a:chExt cx="9144000" cy="6885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468360" cy="68580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75640" y="0"/>
              <a:ext cx="468360" cy="68580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8200" y="0"/>
              <a:ext cx="73080" cy="68580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31280" y="-27000"/>
              <a:ext cx="73080" cy="68580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20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20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27118" t="48027" r="0" b="3126"/>
          <a:stretch/>
        </p:blipFill>
        <p:spPr>
          <a:xfrm>
            <a:off x="324000" y="5554800"/>
            <a:ext cx="2592360" cy="1303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2360" y="20628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四、杂交水稻之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71640" y="9079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袁隆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2698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rcRect l="17542" t="33104" r="0" b="12365"/>
          <a:stretch/>
        </p:blipFill>
        <p:spPr>
          <a:xfrm>
            <a:off x="4356000" y="4440240"/>
            <a:ext cx="4788000" cy="2373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257220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袁隆平，农学家、                   杂交水稻育种专家。江                       西德安人。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1930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月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日                    生。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1953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年西南农学院农学系毕业。历任研究员、湖南杂交水稻研究中心主任、湖南农科院名誉院长、国家杂交水稻工程技术研究       中心主任，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1995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年当选为中国               工程院院士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2:51:0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34:42Z</dcterms:modified>
  <cp:revision>45</cp:revision>
  <dc:subject>主题班会课件(分28大类): http://shop62905894.taobao.com</dc:subject>
  <dc:title>主题班会课件(分28大类): http://shop62905894.taobao.com</dc:title>
</cp:coreProperties>
</file>