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34A-69EA-48A3-B346-6114310E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AEC-C50B-4908-94A0-AEF6718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93F-108B-4B23-8C1A-1CDB4B02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913-90AC-45AC-AB9D-262C5699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31B-D6CD-4A4B-B0FA-8995C4B3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8BB0-5DF2-43BF-9BD6-5FDBBDE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7FB-1A96-47E8-93A4-C266CCC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335-01A1-461B-937F-CE6CCA60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B6C-880F-422F-81F4-D7D8438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7C9-36EE-4BC7-9536-5D010BE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BA2-014E-4D20-8AFF-F4FE5D6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04E-ECF6-4090-A857-1574EA0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07A-5078-4EDA-ACFE-04BAE449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73C1-73E1-49C4-99CE-DA7F5D8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2779-76BD-4C2D-A06A-5D3F4A4B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A57C-F83E-4ABD-9ABF-C0F722F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9F5D-E65F-4F88-91A9-D1554992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473-3F53-4B76-990E-4B0614A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9E0-647B-44B0-9407-843CFFA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7CA-5714-42DB-9E9E-67A33257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AA8-7DE2-4E5E-A963-B0ABC30A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FA9-5A0B-4CED-B8B6-E0166B1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36C-74D8-403D-A87A-792C3D6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72F-FAED-4BE7-98BA-4AD4394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4216-A402-4F64-B76B-E3514685248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09840" y="595008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FB55-9AF7-45BD-BF31-A7C907FF8E75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09840" y="595008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7920" y="838080"/>
            <a:ext cx="6172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谈读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00160"/>
            <a:ext cx="9144000" cy="239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3359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76364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68360" y="981000"/>
            <a:ext cx="57610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53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34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152280" y="1905120"/>
            <a:ext cx="9296280" cy="495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41840" y="1341360"/>
            <a:ext cx="538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刘墉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当今台湾最知名的作家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纽约哥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比亚大学博士研究生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圣若望大学研究所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及师大美术系毕业。现任圣若望大学专任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驻校艺术家及副教授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应邀在世界各地举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画展三十余次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现介绍他的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谈读书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"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34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4249800" cy="69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16360" y="508464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991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35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419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42920" y="5462640"/>
            <a:ext cx="763452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546264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7235640" cy="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382920" y="1341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2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09840" y="638172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-127080"/>
            <a:ext cx="9144000" cy="70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39840"/>
            <a:ext cx="9144000" cy="603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1640" y="260280"/>
            <a:ext cx="76341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509840" y="515772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893080" cy="289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08000" y="530064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509840" y="458136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84360" y="335772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8:09Z</dcterms:modified>
  <cp:revision>24</cp:revision>
  <dc:subject>主题班会课件(分28大类): http://shop62905894.taobao.com</dc:subject>
  <dc:title>主题班会课件(分28大类): http://shop62905894.taobao.com</dc:title>
</cp:coreProperties>
</file>