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C25-FEB0-4022-B665-1F75E3D9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614-74D0-4513-9BE6-B5611ED7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946-B55C-4997-B69C-998D4DE3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B72-04B3-45C0-BD5F-3CD3A764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BA0-49E4-49C9-BA87-B73DC71F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93D-305F-4848-A1FA-8529A0C9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E74-57FC-4FD1-80A8-C327855F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1DE-7A4E-4E62-857A-7641E089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3DC-D742-43FE-BCFB-3C4ED052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D18-DF7C-4E21-B6D1-E528E9FA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F32-A856-483D-8BFE-6E73A5B0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DBA-692A-4FB5-B514-C58D35B9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3886-0406-4D15-BFF4-1E429D4448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9154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汉仪雪峰体简"/>
                <a:ea typeface="汉仪雪峰体简"/>
              </a:rPr>
              <a:t>学 生 来 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邓校长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您好！我是高一（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）班的研究性学习小组的小组长。我们小组研究的课题是：关于中学生读书兴趣的探讨与调查。这是鉴于中学生特别喜欢看言情小说，武侠小说，漫画等书籍而提出的。我想您这阵子比较忙，很难抽出时间接受我们的访问，而且学习也很紧张，所以希望通过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E-mail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进行，希望您不要介意。我们想访问您对于中学生特别喜欢看言情小说，武侠小说，漫画等书籍有什么看法。您的回答对我们有很大的帮助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祝新年快乐，工作愉快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                                       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您的学生“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eye20”  (eye20@cmmail.c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2002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年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月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</a:rPr>
              <a:t>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500" spc="-1" strike="noStrike">
                <a:solidFill>
                  <a:srgbClr val="ff0066"/>
                </a:solidFill>
                <a:latin typeface="Times New Roman"/>
              </a:rPr>
              <a:t>另：对不起，第一次写信给您，我不知道该用怎样的语气和表达自己，可能有些地方写得不好，请原谅！！</a:t>
            </a:r>
            <a:r>
              <a:rPr b="1" lang="zh-CN" sz="21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04920"/>
            <a:ext cx="868680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我们第一遍读一本好书的时候，我们仿佛觉得找到了一个好朋友；当我们再一次读这本书的时候，仿佛又和老朋友重逢。”这是法国启蒙思想家、作家、哲学家伏尔泰的一句名言。我很喜欢这句话，把它摘抄在了《读书笔记》的第一页上。我相信我们每一个人都会有过这样的感受。所以，有很多书，我是每过一段时间就拿出来翻阅的，如《影响人类进程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名人》、《趣味词语故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》、《典故辞典》、《史记》等。然而，在我常常品味这句话的时候，我又发现，当我与“老朋友重逢”时，我竟有一种“初次相识，相逢恨晚”的感觉。为什么我对老朋友会有这样的陌生感觉呢？为什么我会这么健忘呢？终于有一天，在跟学生讲“我们在学习中，不要像猴子摘玉米那样，摘一个掉一个”的道理时，我顿然醒悟：我们读书不能学猴子，不能像漏斗，否则，看过的东西都会像过眼云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838080"/>
            <a:ext cx="85341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，我开设了几个读书摘抄簿，把自己所看书籍的精华摘抄下来。从此，我发现自己不再是一只“猴子”，不再是个“漏斗”了，那些精华终于变成了我的知识。不少同事和学生都说我的记性好，都说听我作报告及跟我聊天能听到不少知识和趣闻，其实，我的记性我最清楚，我不过是实践了古人说的那句俗话：“好记性不如烂笔头”。脑子比我灵、记性比我好的人多得很，如果他们也愿意像我那样多读、勤抄，那么，他们一定能成为真正的、知识渊博的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就是我决定将我这半年来的读书摘抄编印出来的原因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152280"/>
            <a:ext cx="876312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，我还想告诉我的朋友、我的学生，如果我们只是一味地读，也肯花些时间抄，而在讲话、写作时却不用，那么，我们充其量也只能是一只“书虫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   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多读、勤抄、常用，这才是使所读书籍变成我们的知识的最佳的和唯一的途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3880" y="5076720"/>
            <a:ext cx="2590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翻翻、浏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阅读、细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读、研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447920"/>
            <a:ext cx="7543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学（小说、诗歌、报告文学、散文、人物传记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科技（数理化、天文、地理、电脑、信息技术…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政治、经济、哲学、宗教、社会、国际、人际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化、生活、艺术（音乐、美术、书法、影视…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历史（历史故事、人物传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军事、体育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1523880"/>
            <a:ext cx="228600" cy="2971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133720"/>
            <a:ext cx="838080" cy="1981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8148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950"/>
                </a:lnTo>
                <a:cubicBezTo>
                  <a:pt x="10800" y="10850"/>
                  <a:pt x="5400" y="11750"/>
                  <a:pt x="0" y="11750"/>
                </a:cubicBezTo>
                <a:cubicBezTo>
                  <a:pt x="5400" y="11750"/>
                  <a:pt x="10800" y="12650"/>
                  <a:pt x="10800" y="135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952880"/>
            <a:ext cx="762120" cy="1752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763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汉仪雪峰体简"/>
              </a:rPr>
              <a:t>读      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648320"/>
            <a:ext cx="152640" cy="190476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4495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睡觉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厕所的时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人的时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6248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闲的时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4724280"/>
            <a:ext cx="838080" cy="1905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81080" y="4343400"/>
            <a:ext cx="1290600" cy="212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6680" y="304920"/>
            <a:ext cx="4191120" cy="1447560"/>
          </a:xfrm>
          <a:prstGeom prst="wedgeRoundRectCallout">
            <a:avLst>
              <a:gd name="adj1" fmla="val 60300"/>
              <a:gd name="adj2" fmla="val 82458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言情、武侠小说和漫画不是不能看，但如果只喜欢看这类书，那品位就太低啦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65560" y="2305080"/>
          <a:ext cx="5878440" cy="455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5560" y="2305080"/>
                    <a:ext cx="58784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9480" y="2438280"/>
            <a:ext cx="4496040" cy="1067040"/>
          </a:xfrm>
          <a:prstGeom prst="cloudCallout">
            <a:avLst>
              <a:gd name="adj1" fmla="val 4449"/>
              <a:gd name="adj2" fmla="val 1127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有些男生沉溺于电脑书，也不好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57200" y="4800600"/>
            <a:ext cx="116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19320" y="228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汉仪雪峰体简"/>
                <a:ea typeface="汉仪雪峰体简"/>
              </a:rPr>
              <a:t>1995</a:t>
            </a:r>
            <a:r>
              <a:rPr b="0" lang="zh-CN" sz="4800" spc="-1" strike="noStrike">
                <a:solidFill>
                  <a:srgbClr val="ff3300"/>
                </a:solidFill>
                <a:latin typeface="汉仪雪峰体简"/>
                <a:ea typeface="汉仪雪峰体简"/>
              </a:rPr>
              <a:t>年看过的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803240"/>
          <a:ext cx="7772400" cy="4063680"/>
        </p:xfrm>
        <a:graphic>
          <a:graphicData uri="http://schemas.openxmlformats.org/drawingml/2006/table">
            <a:tbl>
              <a:tblPr/>
              <a:tblGrid>
                <a:gridCol w="1392840"/>
                <a:gridCol w="637956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一句话外交小窍门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世界五千年》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~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册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文房四宝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衣冠古国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中国十谋士传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国父们如何治党治军治国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85800" y="533520"/>
          <a:ext cx="7772400" cy="5708520"/>
        </p:xfrm>
        <a:graphic>
          <a:graphicData uri="http://schemas.openxmlformats.org/drawingml/2006/table">
            <a:tbl>
              <a:tblPr/>
              <a:tblGrid>
                <a:gridCol w="1447920"/>
                <a:gridCol w="6324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上海滩旧闻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酒醉美人鱼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热血豪胆巴顿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语言诡辩技巧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社会家庭百科小知识集锦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台湾与大陆风云四十年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奇异的北极地区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神秘的南极大陆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星空探密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影响中国历史的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男人》（再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09480" y="609480"/>
          <a:ext cx="8001000" cy="5693040"/>
        </p:xfrm>
        <a:graphic>
          <a:graphicData uri="http://schemas.openxmlformats.org/drawingml/2006/table">
            <a:tbl>
              <a:tblPr/>
              <a:tblGrid>
                <a:gridCol w="1447920"/>
                <a:gridCol w="6553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影响中国历史的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女人》（再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邓小平的历程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张大千画选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任伯年作品集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黄宾虹山水画册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扬州八怪作品选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共产党宣言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科技五千年》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古代、现代、近代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册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中国宫廷秘闻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和谈、内战交响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—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毛蒋在抗战胜利初期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609480" y="609480"/>
          <a:ext cx="8001000" cy="5693040"/>
        </p:xfrm>
        <a:graphic>
          <a:graphicData uri="http://schemas.openxmlformats.org/drawingml/2006/table">
            <a:tbl>
              <a:tblPr/>
              <a:tblGrid>
                <a:gridCol w="1447920"/>
                <a:gridCol w="6553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一百个文学形象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叶利钦传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福特汽车家族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美国总统克林顿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伟大的人格——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马克思、恩格斯的故事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石油大王洛克菲勒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飞机大王休斯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军火大王杜邦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大冲击——中国返关贸总协议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香港经验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09480" y="609480"/>
          <a:ext cx="8001000" cy="5561280"/>
        </p:xfrm>
        <a:graphic>
          <a:graphicData uri="http://schemas.openxmlformats.org/drawingml/2006/table">
            <a:tbl>
              <a:tblPr/>
              <a:tblGrid>
                <a:gridCol w="1447920"/>
                <a:gridCol w="6553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操纵世界经济的犹太人赚钱绝招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世界政坛丑闻集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趣味数字万花筒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白话二十五史精选》（第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~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卷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海话四书五经精选》（第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~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卷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“通玄教师”汤若望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中国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新的轰动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基督教知识百问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二十五史故事丛书》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宋史卷、清史稿卷一、二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73" t="0" r="3033" b="0"/>
          <a:stretch/>
        </p:blipFill>
        <p:spPr>
          <a:xfrm>
            <a:off x="0" y="223920"/>
            <a:ext cx="9144000" cy="663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6520" y="2330280"/>
            <a:ext cx="647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汉仪雪峰体简"/>
              </a:rPr>
              <a:t>读书</a:t>
            </a:r>
            <a:r>
              <a:rPr b="0" lang="zh-CN" sz="9600" spc="-1" strike="noStrike">
                <a:solidFill>
                  <a:srgbClr val="3333cc"/>
                </a:solidFill>
                <a:latin typeface="Times New Roman"/>
                <a:ea typeface="汉仪雪峰体简"/>
              </a:rPr>
              <a:t>与</a:t>
            </a: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汉仪雪峰体简"/>
              </a:rPr>
              <a:t>做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09480" y="844560"/>
          <a:ext cx="8001000" cy="5175360"/>
        </p:xfrm>
        <a:graphic>
          <a:graphicData uri="http://schemas.openxmlformats.org/drawingml/2006/table">
            <a:tbl>
              <a:tblPr/>
              <a:tblGrid>
                <a:gridCol w="1447920"/>
                <a:gridCol w="6553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玉泉清茗（中国茶文化）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美食寻趣（中国馔食文化）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居室雅趣（中国装饰文化） 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醉乡日月（中国酒文化）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美丽的岛屿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 游历万里长城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 漫游自然保护区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 中国十大亨外传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 中国家庭采访记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09480" y="609480"/>
          <a:ext cx="8001000" cy="5693040"/>
        </p:xfrm>
        <a:graphic>
          <a:graphicData uri="http://schemas.openxmlformats.org/drawingml/2006/table">
            <a:tbl>
              <a:tblPr/>
              <a:tblGrid>
                <a:gridCol w="1447920"/>
                <a:gridCol w="6553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赵少昂画集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吴湖帆画集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何香凝画集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柏杨谈柏杨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音乐圣经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麦克阿瑟传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侵华恶魔冈村宁次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中华文化集粹丛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风云篇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中华文化集粹丛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薪传篇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中华文化集粹丛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巧篇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09480" y="609480"/>
          <a:ext cx="8001000" cy="5570640"/>
        </p:xfrm>
        <a:graphic>
          <a:graphicData uri="http://schemas.openxmlformats.org/drawingml/2006/table">
            <a:tbl>
              <a:tblPr/>
              <a:tblGrid>
                <a:gridCol w="1447920"/>
                <a:gridCol w="6553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智勇双全西列夫斯元帅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草莽英雄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体户阶层透视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5400" spc="-1" strike="noStrike">
                          <a:solidFill>
                            <a:srgbClr val="ff3300"/>
                          </a:solidFill>
                          <a:latin typeface="汉仪雪峰体简"/>
                          <a:ea typeface="汉仪雪峰体简"/>
                        </a:rPr>
                        <a:t>1996</a:t>
                      </a:r>
                      <a:r>
                        <a:rPr b="0" lang="zh-CN" sz="5400" spc="-1" strike="noStrike">
                          <a:solidFill>
                            <a:srgbClr val="ff3300"/>
                          </a:solidFill>
                          <a:latin typeface="汉仪雪峰体简"/>
                          <a:ea typeface="汉仪雪峰体简"/>
                        </a:rPr>
                        <a:t>年看过的书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透过硝烟的沉思——中外败战分析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艺术插花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漫话中国工艺美术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中学生人生启示录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快速记忆秘诀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文科十万个为什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哲人之思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09480" y="609480"/>
          <a:ext cx="8001000" cy="5693040"/>
        </p:xfrm>
        <a:graphic>
          <a:graphicData uri="http://schemas.openxmlformats.org/drawingml/2006/table">
            <a:tbl>
              <a:tblPr/>
              <a:tblGrid>
                <a:gridCol w="1447920"/>
                <a:gridCol w="6553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欧洲各国概况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生物演义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地理演义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历史演义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体育演义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化学演义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语文演义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中国七大古都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青少年百科知识揽胜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亚洲各国概况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762120" y="457200"/>
          <a:ext cx="7619760" cy="5692680"/>
        </p:xfrm>
        <a:graphic>
          <a:graphicData uri="http://schemas.openxmlformats.org/drawingml/2006/table">
            <a:tbl>
              <a:tblPr/>
              <a:tblGrid>
                <a:gridCol w="1295280"/>
                <a:gridCol w="6324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家庭文化知识大观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王明其人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中国古代文化生活丛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礼仪之邦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数学演义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中国古代文化生活丛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山水情韵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郭沫若的恋爱与交友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城市季风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京沪两地人文比较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唐玄宗与泰陵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西藏风情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枰声局影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国博弈文化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762120" y="457200"/>
          <a:ext cx="7619760" cy="5692680"/>
        </p:xfrm>
        <a:graphic>
          <a:graphicData uri="http://schemas.openxmlformats.org/drawingml/2006/table">
            <a:tbl>
              <a:tblPr/>
              <a:tblGrid>
                <a:gridCol w="1295280"/>
                <a:gridCol w="6324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毛泽东的晚年生活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广东大裂变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李光耀传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爱国的“叛国者”——马思聪传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“官司”惊动中南海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震惊世界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天——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林江反革命集团受审纪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毛泽东和他的“右派朋友”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中国邮市忧思录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世界趣闻录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世纪中国纪实 》（上、下集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62120" y="631800"/>
          <a:ext cx="7619760" cy="5692680"/>
        </p:xfrm>
        <a:graphic>
          <a:graphicData uri="http://schemas.openxmlformats.org/drawingml/2006/table">
            <a:tbl>
              <a:tblPr/>
              <a:tblGrid>
                <a:gridCol w="1295280"/>
                <a:gridCol w="6324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第一风流——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〈毛泽东诗词〉解说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斯芬克思之谜——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类应当了解自己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我看赫鲁晓夫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中越关系演变四十年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我是中国人民的儿子——邓小平 传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音乐演义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普法导读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李燕杰演讲答问录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名人风云录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林语堂在海外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762120" y="457200"/>
          <a:ext cx="7696080" cy="5692680"/>
        </p:xfrm>
        <a:graphic>
          <a:graphicData uri="http://schemas.openxmlformats.org/drawingml/2006/table">
            <a:tbl>
              <a:tblPr/>
              <a:tblGrid>
                <a:gridCol w="1307880"/>
                <a:gridCol w="6388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大师的起步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~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赵之谦画集 》（上、下册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影响人类文明的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科学技术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古文观止 》（上、下册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公民手册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史镜启鉴录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影响中国历史的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男人 》（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影响中国历史的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女人 》（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沉重的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7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中学百科全书 （音乐、美术卷）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1189080"/>
            <a:ext cx="8229600" cy="5668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19520" y="3200400"/>
            <a:ext cx="4343400" cy="2133720"/>
          </a:xfrm>
          <a:prstGeom prst="cloudCallout">
            <a:avLst>
              <a:gd name="adj1" fmla="val -76060"/>
              <a:gd name="adj2" fmla="val -79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读万卷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行万里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2120" y="457200"/>
          <a:ext cx="7619760" cy="2070000"/>
        </p:xfrm>
        <a:graphic>
          <a:graphicData uri="http://schemas.openxmlformats.org/drawingml/2006/table">
            <a:tbl>
              <a:tblPr/>
              <a:tblGrid>
                <a:gridCol w="1295280"/>
                <a:gridCol w="6324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月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书              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梁实秋隽语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国宝大观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世界百年缉毒纪实 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7176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0"/>
            <a:ext cx="6705720" cy="5221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43200" y="5257800"/>
            <a:ext cx="6248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电视与读书的心情不同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电视：怀着是一种欣赏、娱乐的心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    书：怀着是一种求知、学习的心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624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5000" r="0" b="3764"/>
          <a:stretch/>
        </p:blipFill>
        <p:spPr>
          <a:xfrm>
            <a:off x="3357720" y="0"/>
            <a:ext cx="5786280" cy="556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05320" y="5715000"/>
            <a:ext cx="5410080" cy="10666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汉仪雪峰体简"/>
              </a:rPr>
              <a:t>开卷有益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汉仪雪峰体简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方正美黑简体"/>
              </a:rPr>
              <a:t>【宋】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方正美黑简体"/>
              </a:rPr>
              <a:t>赵光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10714" t="70667" r="7137" b="0"/>
          <a:stretch/>
        </p:blipFill>
        <p:spPr>
          <a:xfrm>
            <a:off x="0" y="0"/>
            <a:ext cx="914400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21427" t="3675" r="7137" b="47692"/>
          <a:stretch/>
        </p:blipFill>
        <p:spPr>
          <a:xfrm>
            <a:off x="0" y="3119400"/>
            <a:ext cx="5638680" cy="3738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19920" y="3352680"/>
            <a:ext cx="2819160" cy="320040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邓兵读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汉仪雪峰体简"/>
                <a:ea typeface="汉仪雪峰体简"/>
              </a:rPr>
              <a:t>摘 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6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001000" y="1371600"/>
            <a:ext cx="1143000" cy="46483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100000">
                <a:srgbClr val="ff33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汉仪雪峰体简"/>
              </a:rPr>
              <a:t>邓兵读书摘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53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3562200" cy="4800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715000" y="5181480"/>
            <a:ext cx="3200400" cy="13716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文鼎广告体繁"/>
              </a:rPr>
              <a:t>邓兵读书摘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9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19320" y="5791320"/>
            <a:ext cx="7238880" cy="838080"/>
          </a:xfrm>
          <a:custGeom>
            <a:avLst/>
            <a:gdLst>
              <a:gd name="textAreaLeft" fmla="*/ 1809720 w 7238880"/>
              <a:gd name="textAreaRight" fmla="*/ 5429160 w 723888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邓兵读书摘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60948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信息时代“读书”与“摘抄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4057560"/>
            <a:ext cx="7391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网上阅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选择、复制、粘贴、保存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到大量有用的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编辑、复印、扫描、打印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印成《一中文摘》、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风云》、《春秋》、《一中家长通讯》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209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摘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剪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981080"/>
            <a:ext cx="1371600" cy="9907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传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2670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038480"/>
            <a:ext cx="762120" cy="23623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04812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05520" y="1676520"/>
            <a:ext cx="3733560" cy="1295280"/>
          </a:xfrm>
          <a:prstGeom prst="wedgeRoundRectCallout">
            <a:avLst>
              <a:gd name="adj1" fmla="val -63689"/>
              <a:gd name="adj2" fmla="val 4203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三年来，编印《一中文摘》</a:t>
            </a: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86</a:t>
            </a: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期，已超过</a:t>
            </a: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110</a:t>
            </a: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万字，这在以前是不可能办到的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52480" y="15228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名人论读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卷有益。                                            ——【宋】赵光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98108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书籍是人类知识的总结，书籍是全世界的营养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英】莎士比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048120"/>
            <a:ext cx="8534520" cy="18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书籍是人类进步的阶梯。书籍一面启示着我的智慧和心灵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面帮着我在一片烂泥塘里站了起来，如果不是书籍的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就会沉没在这片烂泥塘里，我就要被愚蠢和下流淹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苏】高尔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952880"/>
            <a:ext cx="83822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本新书像一艘船，带领我们从狭隘的地方，驶向生活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限广阔的海洋。                              ——【瑞士】凯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943600"/>
            <a:ext cx="8305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书就是社会，一本好书就是一个好社会，它能够陶冶人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情和气质，使之高尚。                   ——皮果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52480" y="3049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名人论读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002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好的书也像不好的朋友那样，可能会把你戕害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英】菲尔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72880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何时候我也不会满足，越是多读书，就越是深刻地感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满足，越感到自己知识贫乏。            ——【德】马克思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4191120"/>
            <a:ext cx="82296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一本好书，就是和许多高尚的人谈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德】歌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5410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旧书不厌百回读，熟读深思子自知。    ——【宋】苏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53352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新时期人的素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3352680"/>
            <a:ext cx="58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学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知识广博，眼界开阔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兴趣广泛，拥有专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782960"/>
            <a:ext cx="541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身体健康，运动专长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人口才，气质高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1905120"/>
            <a:ext cx="5943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人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品德高尚，性格开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志坚强，责任感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248520" y="1752480"/>
            <a:ext cx="2590560" cy="4114800"/>
          </a:xfrm>
          <a:prstGeom prst="wedgeRoundRectCallout">
            <a:avLst>
              <a:gd name="adj1" fmla="val -115930"/>
              <a:gd name="adj2" fmla="val -5339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祝愿南海一中的学生都能出人头地，成为高层次的人才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76320"/>
            <a:ext cx="891540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汉仪雪峰体简"/>
                <a:ea typeface="汉仪雪峰体简"/>
              </a:rPr>
              <a:t>多 读 </a:t>
            </a:r>
            <a:r>
              <a:rPr b="0" lang="zh-CN" sz="4000" spc="-1" strike="noStrike">
                <a:solidFill>
                  <a:srgbClr val="ff0000"/>
                </a:solidFill>
                <a:latin typeface="汉仪雪峰体简"/>
                <a:ea typeface="汉仪雪峰体简"/>
              </a:rPr>
              <a:t>· </a:t>
            </a:r>
            <a:r>
              <a:rPr b="0" lang="zh-CN" sz="4000" spc="-1" strike="noStrike">
                <a:solidFill>
                  <a:srgbClr val="ff0000"/>
                </a:solidFill>
                <a:latin typeface="汉仪雪峰体简"/>
                <a:ea typeface="汉仪雪峰体简"/>
              </a:rPr>
              <a:t>勤 抄 </a:t>
            </a:r>
            <a:r>
              <a:rPr b="0" lang="zh-CN" sz="4000" spc="-1" strike="noStrike">
                <a:solidFill>
                  <a:srgbClr val="ff0000"/>
                </a:solidFill>
                <a:latin typeface="汉仪雪峰体简"/>
                <a:ea typeface="汉仪雪峰体简"/>
              </a:rPr>
              <a:t>· </a:t>
            </a:r>
            <a:r>
              <a:rPr b="0" lang="zh-CN" sz="4000" spc="-1" strike="noStrike">
                <a:solidFill>
                  <a:srgbClr val="ff0000"/>
                </a:solidFill>
                <a:latin typeface="汉仪雪峰体简"/>
                <a:ea typeface="汉仪雪峰体简"/>
              </a:rPr>
              <a:t>常 用</a:t>
            </a:r>
            <a:r>
              <a:rPr b="1" lang="zh-CN" sz="4000" spc="-1" strike="noStrike">
                <a:solidFill>
                  <a:srgbClr val="ff0000"/>
                </a:solidFill>
                <a:latin typeface="汉仪雪峰体简"/>
                <a:ea typeface="汉仪雪峰体简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《读书摘抄》自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邓     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爱读书，不论是一本厚厚的书，还是一本薄薄的杂志，都能给我带来无穷的乐趣。读小学的时候，我很爱读小说。放假期间的每天午饭后，把一本厚厚的小说放在枕头前，身子趴在床上，两肘枕着枕头，两手撑着小脸，思绪就跟着张飞大战长板坡，跟着孙悟空智斗牛魔王，跟着鲁智深拳打镇关西，跟着小萝卜头去捉蝴蝶了。那时根本就没听说过什么“相对论”，但却实实在在地感受着“相对论”原理的千真万确——明明才过了半小时，怎么爸爸却说“你一个下午都干了啥？为什么懒得连饭都不煮”？爸爸不是才去上班的吗？哟，糟了，原来眼睛还没眨两下，一个下午就没了！至于灯下做书虫，被妈妈轻声提醒“快睡吧，明天还要上学呢！”方知已近凌晨的事情，则不知发生了多少回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533520"/>
            <a:ext cx="8915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加工作后，我对书的兴趣有增无减。我的书房和办公室里自然少不了书柜，而客厅的茶几下放的是书，床头摆的是书，车子的座位旁放着的还是书，就连厕所的蹲瓷旁，也一定要摆上个精致的书架（——有些书你可能觉得抽不出什么时间来看，这类书就最好是放在厕所里的书架上，每天利用那三五分钟的时间来看）。有些人常以工作忙作为不看或少看书的借口，在这方面，鲁迅先生说得好：“时间，就像海绵里的水一样，只要您愿意挤，总还是有的。”我平时看书（含报刊）一般是在中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:00~1: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晚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:30~12: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而到了星期六晚，则不看到星期天凌晨一两点，是不肯赴约去喝周公斟的夜茶的。那种不必为起早床而可以尽情看书的享受，在我看来，其层次之高，只有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多的宝贝女儿霖霖一见到我回家，就跑过来撅起小嘴亲吻我的感觉才能相比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320"/>
            <a:ext cx="861048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吃饭时，应该是什么菜都要吃，如果只吃自己爱吃的那一种，那么这位仁兄就肯定会患“营养不良症”。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读书亦如此，应该是各方面的书都要看，文学、政治、军事、社会、经济、天文、地理、历史、科普、艺术……都应该成为我们涉猎的对象，这样，你的知识结构才有可能日益完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我总认为，做为老师尤应如此，如果只精专业，或独好某类，那他就不可能成为一个学识渊博的人，当然也就不可能成为学生佩服的“学高为范”者。这些年来，我绝少看小说，那些大部头的世界名著我更是少看（多看简介）。其原因，一是我认为那些经典名著所描述的都是远离我们的时代发生的事情，其时代背景和人物思想与我们今天已相去甚远，（所以有这么一句幽默：名著，就是那些人们想知道它是说些什么却又没人愿意花时间去看的书）与其看这些书，不如看些更贴近我们生活的书；二是我实在没那么多的时间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我更愿意把有限的时间花在读后能真正增长知识的书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533520"/>
            <a:ext cx="8839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些年来，在人物传记方面，我看了许多诸如历史名人、第二次世界大战的名将、当今世界名人的传记；文史方面，我最爱看的是《史记》、《资治通鉴》、《上下五千年》、《典故辞典》；科普方面，《十万个为什么》、《千万个为什么》、《青少年科技丛书》等则更是我床头必不可少的书。我曾于三年前在电脑里列了一个《读书一览表》，表中列有“书名”、“作者”、“类别”、“精概”、“年月”等几项，每读一本书，就按此分项输录，这样就可随时知道自己读了多少书和什么书，哪些方面的书读多了点，该添些什么其它“营养”了。遗憾的是，去年电脑出故障，这个表连同我的其它许多珍贵的资料“灰飞烟灭”了。这项工作很有意义，我很希望我的朋友、我的学生都能自觉地这样做，这样，既可自我督促多看些书，还可提醒自己注意避免“营养不良”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04920"/>
            <a:ext cx="86104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甚少看小说，尤其是言情、武侠小说。其实，这两方面的书我也看过，言情类有琼瑶的《几度夕阳红》、《聚散两依依》；武侠类有梁羽生的《七剑下天山》，金庸的《射雕英雄传》。然而，看完之后，我就再也不看这些书了。因为我发现自己在看的过程中，已经完全陷入了作者所虚构的多角恋爱的怪圈和刀光剑影的云雾中，而当我看完后，却觉得大脑空空如也！后来又得知，“梁大侠”和“金大侠”根本就不懂得什么功夫！我很有一种“上当受骗”的感觉。于是我发誓再也不看了。这是读大学和刚参加工作时的事情。其实，应该承认，如果换个角度看这些小说，小青年们还是能够从中学到许多东西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838080"/>
            <a:ext cx="8839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学习作者如何用细腻的笔调去描写人物（其对人物的外貌、心理、表情、动作等的描写都是十分精彩的），如何构思错综复杂的情节等等，我相信，琼瑶的小说一定使得不少爱好者成了诗人。遗憾的是，能够带着学习写作技巧的眼光去看的人太少了，绝大多数的人如当年的我，被其情节深深吸引，常常想入非非而不能自拔。我很希望我们的学生，快点成熟、理智起来，女生少看（最好不看）言情小说，男生少看（最好不看）武侠小说，而把有限的时间花在多读些历史、政治、军事、天文、地理、科普、艺术等方面的书，这样，你就会发现自己的眼光更开阔了，意志更坚强了，人格更健全了，情操更高尚了。试试吧，朋友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3:49:5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3:13:34Z</dcterms:modified>
  <cp:revision>16</cp:revision>
  <dc:subject>主题班会课件(分28大类): http://shop62905894.taobao.com</dc:subject>
  <dc:title>主题班会课件(分28大类): http://shop62905894.taobao.com</dc:title>
</cp:coreProperties>
</file>