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DF3-81B8-4F36-9D97-55ADBEDE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01A-3411-48C8-8542-16609F9F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148-D53E-459C-9ADC-9DC55245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859-99DE-4010-894D-699E5E30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4D3A-EE0C-4A63-8790-C880E11E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4121-370B-4533-A281-796D2321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A71-8F01-42B7-AA72-780AC59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D34B-5729-4A5E-9E66-F7838050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62EC-1284-456F-835E-CE49C064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C0AB-E23C-433E-9DA2-739E6630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D8B9-A6DB-40A1-9F5F-DA4354CF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FD3-A138-4F00-82AD-59D967B3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B148-44F0-4EE6-861A-533A06F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2074-261A-4D6C-9362-C6EDF8EA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3266-29DD-4705-B06C-2DFF732D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47D0-DD23-4792-8C48-EA3404AB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1DCC-55ED-472C-9CBC-F5CA232F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735-55D0-474C-A892-1D3C57F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EC2-7B0B-4EA1-84FC-058908A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A10-BE27-483D-8900-D9507476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BEF-0833-4629-9F8A-5A31472C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D61-538F-46C6-B5F8-218ED1CB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581-D960-4128-A344-5869E03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BFB-93B0-4152-8C32-9EEB1A8D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C994-8D7B-4C73-A10A-C4EFA06FFD07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B587-984F-4B95-B5C7-91D601CD111A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708804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艾宾浩斯记忆曲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36800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艾宾浩斯遗忘曲线是关于遗忘的一种曲线，而且是对无意义的音节而言，对于与其他材料的对比，艾宾浩斯又得出了不同性质材料的不同遗忘曲线，不过他们大体上都是一致的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64087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人的大脑是一个记忆的宝库，人脑经历过的事物，思考过的问题，体验过的情感和情绪，练习过的动作，都可以成为人们记忆的内容。例如英文的学习中单词、短语和句子，甚至文章的内容都是通过记忆完成的。从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记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到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忆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是有个过程的，这其中包括了识记、保持、再认和回忆。有很多人在学习英语的过程中，只注重了学习当时的记忆效果，孰不知，要想做好学习的记忆工作，是要下一番工夫的，单纯的注重当时的记忆效果，而忽视了后期的保持和再认同样是达不到良好的效果的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什么是记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在信息的处理上，记忆是对输入信息的编码、贮存和提取的过程，从信息处理的角度上，英文的第一次学习和背诵只是一个输入编码的过程。人的记忆的能力从生理上讲是十分惊人的，它可以存贮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1015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比特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byte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字节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的信息，可是每个人的记忆宝库被挖掘的只占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10%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还有更多的记忆发挥空间。这是因为，有些人只关注了记忆的当时效果，却忽视了记忆中的更大的问题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即记忆的牢固度问题，那就牵涉到心理学中常说的关于记忆遗忘的规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艾宾浩斯记忆规律曲线解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德国有一位著名的心理学家名叫艾宾浩斯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(Hermann Ebbinghau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1850-1909)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，他在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1885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年发表了他的实验报告后，记忆研究就成了心理学中被研究最多的领域之一，而艾宾浩斯正是发现记忆遗忘规律的第一人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661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根据我们所知道的，记忆的保持在时间上是不同的，有短时的记忆和长时的记忆两种。而我们平时的记忆的过程是这样的：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2430360"/>
            <a:ext cx="80643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720" y="1050840"/>
            <a:ext cx="4321080" cy="576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输入的信息在经过人的注意过程的习后，便成为了人的短时的记忆，但是如果不经过及时的复习，这些记住过的东西就会遗忘，而经过了及时的复习，这些短时的记忆就会成为了人的一种长时的记忆，从而在大脑中保持着很长的时间。那么，对于我们来讲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怎样才叫做遗忘呢，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所谓遗忘就是我们对于曾经记忆过的东西不能再认起来，也不能回忆起来，或者是错误的再认和错误的回忆，这些都是遗忘。艾宾浩斯在做这个实验的时候是拿自己作为测试对象的，他得出了一些关于记忆的结论。他选用了一些根本没有意义的音节，也就是那些不能拼出单词来的众多字母的组合，比如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asww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cfhhj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ijikmb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rfyjbc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等等。他经过对自己的测试，得到了一些数据。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643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　然后，艾宾浩斯又根据了这些点描绘出了一条曲线，这就是非常有名的揭示遗忘规律的曲线：艾宾浩斯遗忘曲线，图中竖轴表示学习中记住的知识数量，横轴表示时间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天数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，曲线表示记忆量变化的规律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8974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记忆的先快后慢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　这条曲线告诉人们在学习中的遗忘是有规律的，遗忘的进程不是均衡的，不是固定的一天丢掉几个，转天又丢几个的，而是在记忆的最初阶段遗忘的速度很快，后来就逐渐减慢了，到了相当长的时候后，几乎就不再遗忘了，这就是遗忘的发展规律，即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"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先快后慢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"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的原则。观察这条遗忘曲线，你会发现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学得的知识在一天后，如不抓紧复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就只剩下原来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5%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随着时间的推移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遗忘的速度减慢，遗忘的数量也就减少。有人做过一个实验，两组学生学习一段课文，甲组在学习后不久进行一次复习，乙组不予复习，一天后甲组保持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98%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，乙组保持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56%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；一周后甲组保持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83%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，乙组保持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33%</a:t>
            </a: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。乙组的遗忘平均值比甲组高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292929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3672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不同记忆对象有不同的遗忘曲线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艾宾浩斯还在关于记忆的实验中发现，记住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意义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音节，平均需要重复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16.5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次；为了记住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个无意义章节，需重复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次；而记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六首诗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中的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480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个音节，平均只需要重复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次！这个实验告诉我们，凡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理解了的知识，就能记得迅速、全面而牢固。不然，愣是死记硬背，那也是费力不讨好的。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因此，比较容易记忆的是那些有意义的材料，而那些无意义的材料在记忆的时候比较费力气，在以后回忆起来的时候也很不轻松。艾宾浩斯遗忘曲线是关于遗忘的一种曲线，而且是对无意义的音节而言，对于与其他材料的对比，艾宾浩斯又得出了不同性质材料的不同遗忘曲线，不过他们大体上都是一致的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1:44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5:45Z</dcterms:modified>
  <cp:revision>5</cp:revision>
  <dc:subject>主题班会课件(分28大类): http://shop62905894.taobao.com</dc:subject>
  <dc:title>主题班会课件(分28大类): http://shop62905894.taobao.com</dc:title>
</cp:coreProperties>
</file>