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0D0F-41A9-4CA7-9D61-7735F298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9B10-52C3-47C0-82F3-FB1251A9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9445-3C19-424A-8B29-C82FE231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6023-8026-4277-8901-7B49C88D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E861-6372-43F4-9235-F08F79CD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A48D-7C4F-401A-9D3A-B9D8DC32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7CB7-3458-4C6E-B62C-C6A02C2B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7F3-A3C3-4DCC-B3FF-A7732E44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7129-321B-4F51-AA0E-5790629F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6143-306B-4316-978B-C8838A97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02FA-E2A3-496D-AF99-72087E67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3743-C88D-4D36-AF16-D6854FB5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CCAE-5343-4438-BBD1-6DCA2AD755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675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考试期间要求及应试指导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5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让我们为目标而努力奋斗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52120" y="40464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主题班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525240"/>
            <a:ext cx="835344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主题班会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期末复习总动员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414972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江苏省淮安中学高一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(20)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班  张正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程变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星期二  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节   体育（原） →   化学（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星期四  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节   信息       →        化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节  音乐       →        数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星期五  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节   美术       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节   通用技术   →      物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节   体育       →         数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星期六  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节   信息       →        物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期末复习总动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49636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学们，一个学期很快就要过去了，也就是说进入高中我们已经快半年了，半年中的学习到底怎么样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期末考试的成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就是你们向家长和老师汇报的最好说明。我们辛辛苦苦半年的学习成果是到了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收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时候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就好像庄稼一样，如果平时的汗水都洒下，但如果收获的时候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用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那么半年的心血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白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。这样不是太可惜了吗？反过来，如果是农民那就意味着要饿肚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个人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87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姓名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学号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次月考成绩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总分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班名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名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期末统测目标：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3716280"/>
          <a:ext cx="8642160" cy="1979640"/>
        </p:xfrm>
        <a:graphic>
          <a:graphicData uri="http://schemas.openxmlformats.org/drawingml/2006/table">
            <a:tbl>
              <a:tblPr/>
              <a:tblGrid>
                <a:gridCol w="720720"/>
                <a:gridCol w="718920"/>
                <a:gridCol w="720720"/>
                <a:gridCol w="720720"/>
                <a:gridCol w="719280"/>
                <a:gridCol w="720720"/>
                <a:gridCol w="720720"/>
                <a:gridCol w="719280"/>
                <a:gridCol w="720720"/>
                <a:gridCol w="720720"/>
                <a:gridCol w="718920"/>
                <a:gridCol w="72072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班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复习要有信心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班是一个团结友爱的集体，其中每一个成员都很聪明，虽然大家在学习方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成绩有差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但并不能说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谁行谁不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只能说成绩好的同学走在前面了，大家要向他（她）看齐，奋起直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暂时落后的，说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习方法要改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学习要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前更用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向跑在前面的同学学习经验，看他们是怎么样学习的，取长补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每天进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%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就是卓越、成功的开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总比困难多，只要肯用心，没有什么困难不能克服的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复习要学会挤时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期末考试将至，距终考只剩十几天的时间了。时光匆匆流去，面对即将到来的统测，我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如何抓紧时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努力学习 ？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每天上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每天早读、晚读、早自习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晚自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每天中午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0-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自习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晚读前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左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挤时间了吗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复习安排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600200"/>
          <a:ext cx="8435520" cy="5257080"/>
        </p:xfrm>
        <a:graphic>
          <a:graphicData uri="http://schemas.openxmlformats.org/drawingml/2006/table">
            <a:tbl>
              <a:tblPr/>
              <a:tblGrid>
                <a:gridCol w="850680"/>
                <a:gridCol w="1294560"/>
                <a:gridCol w="1295280"/>
                <a:gridCol w="1294920"/>
                <a:gridCol w="1295280"/>
                <a:gridCol w="1294560"/>
                <a:gridCol w="1110240"/>
              </a:tblGrid>
              <a:tr h="13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晨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地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政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历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地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早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英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语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英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语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英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语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晚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语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英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语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英语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历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政治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历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晚自习安排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0---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0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0---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物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0---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0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化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0---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0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周六周日自己安排，可整理各科的作业试卷进行复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复习要有计划性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------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有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首先，复习要有计划性，不能眉毛胡子一把抓。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理清头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针对自己的实际情况。如自己哪一部分觉得学得不踏实，你就在这一部分多下功夫。如果是哪一科较弱，就在这一科多花点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各学科的复习，你每天计划好了吗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复习要讲究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复习要讲究方法，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善于自己总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自己梳理学过的各科的知识体系。不能满把抓，要明确自己在各个知识点中掌握的情况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分清轻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的放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过复习，复苏我们以前掌握但现在遗忘的知识。这样才能找会我们的辛劳所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考试日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208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周三下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0---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0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综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周四上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00---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00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数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周四下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0---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0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物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周五上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00---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00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语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周五下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0---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0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化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周六上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00---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00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英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周六下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0---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0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复习要劳逸结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820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意劳逸结合，既要刻苦学习，又要保证休息和锻炼，有了旺盛的精力，才会有好的学习资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气渐渐变冷，但还是要及时的起身，甚至更早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因为我们必须期末考出好成绩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意增加衣服，防止生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午应尽快回班级休息或学习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必须停止所有的球类活动，积极参加学校组织的跑步活动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能做到吗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预祝大家都能取得佳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学们，我们一定要明确自己的目标：统测总分班级名次！考好不难，难的只是目标不明确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你感到迷茫时，你就要对自己说：我一定要考好！我一定要成功！我是最棒的！我一定要努力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超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某某某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样，你就可以给自己打气，同学们，不妨把这几个字写下来，当作自己的动力，鼓励自己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祝大家都能取得佳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半年的成果在此一举，其重要性，我不在多言，相信同学们都能够重视。让我们一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行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起来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预祝大家在期末考试中都能取得佳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个故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-------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高处何处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很久很久以前，在一个很远很远的地方，一位老酋长正病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找来村中最优秀的三个年轻人，对他们说：“这是我要离开你们的时候了，我要你们为我做最后一件事。你们三个都是身强体壮而又智慧过人的好孩子，现在，请你们尽其可能地去攀登那座我们一向奉为神圣的大山。你们要尽其可能爬到最高的、最凌越的地方，然后，折回头来告诉我你们的见闻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天后，第一个年轻人回来了，他笑生双靥，衣履光鲜：“酋长，我到达山顶了，我看到繁花夹道，流泉淙淙，鸟鸣嘤嘤，那地方真不坏啊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个故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-------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高处何处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酋长笑笑说：“孩子，那条路我当年也走过，你说的鸟语花香的地方不是山顶，而是山麓。你回去吧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周以后，第二个年轻人也回来了，他神情疲倦，满脸风霜：“酋长，我到达山顶了。我看到高大肃穆的松树林，我看到秃鹰盘旋，那是一个好地方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惜啊！孩子，那不是山顶，那是山腰。不过，也难为你了，你回去吧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月过去了，大家都开始为第三位年轻人的安危担心，他却一步一蹭，衣不蔽体地回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个故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-------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高处何处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发枯唇燥：“酋长，我终于到达山顶，只剩下清炯的眼神。但是，我该怎么说呢？那里只有高风悲旋，蓝天四垂。”“你难道在那里一无所见吗？难道连蝴蝶也没有一只吗？”“是的，酋长，高处一无所有。你所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到的，只有你自己。只有‘个人’被放在天地间的渺小感，只有想千古英雄的悲激心情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孩子，你到的是真的山顶。按照我们的传统，天意要立你做新酋长，祝福你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真英雄何所遇？他遇到的是全身的伤痕，是孤单的长途，以及愈来愈真切的渺小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寓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学习贵在坚持，先苦后甜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个故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留一只眼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前，有一位画家想画出一幅人人见了都喜欢的画。画毕，他拿到市场上去展出。画旁放了一支笔，并附上说明：每一位观赏者，如果认为此画有欠佳之笔，均可在画中作上记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晚上，画家取回了画，发现整个画面都涂满了记号——没有一笔一划不被指责。画家十分不快，对这次尝试深感失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个故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留一只眼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画家决定换一种方式去试试。他又摹了一张同样的画拿到市场展出。可这一次，他要求每位观赏者将其最为欣赏的妙笔都标上记号。当画家再取回画时，他发现画面又被涂遍了记号——一切曾被指责的笔划，如今却都换上了赞美的标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寓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人生成功之道在于留一只眼睛看自己，看脚下的路子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7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考试及考试期间要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考试期间应及时、有序、有计划复习下一门学科，各科科代表作指导，不许对答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请第二组值日班干负责全面工作（卫生、纪律、学习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考试杜绝作弊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校给予严重警告以上处分，张榜公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年级组让其家长来校并将其带回家反醒三天以上，班级让其在班会表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该学科学分一定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下面所有考试停考，这学期所有学科平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绩都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特别提醒：作弊和提供作弊者一样处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8440" y="0"/>
            <a:ext cx="8540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应试策略与应试心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一、应试心理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难我难我不畏难，人易我易我不大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是考场上一定要长自己的志气，同学们，做人要厚道。但是考场上你一定要长自己的志气，你不能长别人的志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些女同学跟我说一看别人翻卷子心理就慌，一看别人拿笔写心理就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别人翻卷子是因为不会做在找自己会做的试题，别人在那里写，不会做，写上让阅卷老师挑，这样你的志气就可能长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8440" y="0"/>
            <a:ext cx="8540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应试策略与应试心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一、应试心理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要学会排除干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考完一科可以总结一科的经验教训，但不要后悔，不要放弃，不要总是在那里对答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考完一科放下一科，继续往前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考试要有一个好的心态，考试的过程就是知识能量的释放过程，能力能量释放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些释放需要催化剂，良好的心理品质就是催化剂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应试策略与应试心理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487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二、解题方面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顺口溜就是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“慢做会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求全对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，稳做中档题，一分也不要浪费，舍去全不会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句话“舍去全不会”要慎用。考试的时候，同学打开试卷一看试题不会，舍了，翻开第二页，一看那题又不会， “舍去全不会”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都舍了你怎么得分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一道题不是给每一个学生预备的，有些题不是你实力达到的，你应该大胆的取舍，没有取舍就没有收获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应试策略与应试心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三、应试步骤及策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步是获取信息，解读信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：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审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注意的是两点，一定要防止思维定式。第二是一定要高度集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步是调动知识和运用知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：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还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带入到学科知识网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调动知识，然后是运用知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步是描述和阐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答题拿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四步是论证和探讨问题 ：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检查、审核、排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应试策略与应试心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四、如何提高一卷的得分率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，要珍惜第一选择，因为往往第一选择是最正确的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点就是一定要抽出一点时间把前面几个选择再审查一遍，把错误纠正过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始答一卷的时候，往往处在紧张的状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随着答卷的时间延长，心理状态比较平稳起来，后面的判断比较稳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07720" y="306000"/>
            <a:ext cx="57596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应试策略与应试心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遇到了自己不会做的题目，就特别容易大脑一片空白，这是怎么回事？有什么办法可以解决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句话，不是每一道题都是给每一个考生预备的，当你不会做这道题的时候，你脑子里应该这样想，这道题是给别人预备的，不是给我预备的，我完全可以放弃。没有放弃，就没有获得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1:43:1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25:18Z</dcterms:modified>
  <cp:revision>1</cp:revision>
  <dc:subject>主题班会课件(分28大类): http://shop62905894.taobao.com</dc:subject>
  <dc:title>主题班会课件(分28大类): http://shop62905894.taobao.com</dc:title>
</cp:coreProperties>
</file>