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C3631-9A85-4E2A-8FF6-76A1DE064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339A2-7919-4C9C-9E8C-DAAB7AC5A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EEE6D-B62A-4BF8-94AC-F484AD4F9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0485B-9452-41B8-945C-6F57DB61B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89ACD-67FA-431E-8653-669224FB4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89F4D-2172-46A1-9AB5-7B23AEBB7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21254-C388-4120-80D0-316540145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5E19F-F7E3-4F51-936D-BB47CFE98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449E3-16B3-4185-864A-989DCDC41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8755E-9049-4EBD-8E20-EDC68784E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E90B5-BC40-4058-BEE2-F0BA2FC26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ABE35-A221-409E-97BC-1FBFEB91B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445DC-5560-40EA-A21B-83A2334376D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file:///C:/Documents%20and%20Settings/Administrator/Local%20Settings/Temp/Rar$DI63.250/&#29677;&#32423;&#24120;&#35268;&#32771;&#26680;%2010&#26376;.doc" TargetMode="Externa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C:/Documents%20and%20Settings/Administrator/Local%20Settings/Temp/Rar$DI63.250/&#26399;&#20013;&#32771;&#35797;&#30446;&#26631;.xls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684360" y="1341360"/>
            <a:ext cx="7559640" cy="388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华文行楷"/>
              </a:rPr>
              <a:t>考试习惯指导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0" y="333360"/>
            <a:ext cx="882000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4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、将解题的辅助条件列在草稿纸上，有助于消除紧张感，以便集中注意力进入解题状态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5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、有粗心习惯者，验算时尤应注意简单的题目，因为这样的题目往往容易忽视而出错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6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、平时应养成答题时不受干扰的心态，不必要求周围绝对安静，这样可以练就在一般环境下专心答题的好习惯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7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、不论是测验还是考试，结束后不要急于与人对答案，而应集中精力投入下一场考试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33520" y="0"/>
            <a:ext cx="571500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考试策略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统览试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648320" y="60948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适度紧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33520" y="1295280"/>
            <a:ext cx="48006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草稿纸有序使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648320" y="1371600"/>
            <a:ext cx="3124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看分花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1981080"/>
            <a:ext cx="39625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先易后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72000" y="1981080"/>
            <a:ext cx="3124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简明扼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33520" y="2743200"/>
            <a:ext cx="38098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卷面整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743200"/>
            <a:ext cx="34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力争不丢一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09480" y="3505320"/>
            <a:ext cx="25146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小秋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533520" y="1143000"/>
            <a:ext cx="7467480" cy="13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常规管理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宿舍问题：物品摆放、无文化氛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304920" y="1143000"/>
            <a:ext cx="647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安全、纪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 txBox="1"/>
          <p:nvPr/>
        </p:nvSpPr>
        <p:spPr>
          <a:xfrm>
            <a:off x="755640" y="914400"/>
            <a:ext cx="7848720" cy="438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华文行楷"/>
              </a:rPr>
              <a:t>我们坚信：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华文行楷"/>
              <a:ea typeface="华文行楷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华文行楷"/>
              </a:rPr>
              <a:t>一定能夺取南通联考辉煌！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24000" y="0"/>
            <a:ext cx="7696080" cy="50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几个时间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本周六、日进行期中考前模拟考试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11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月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22~24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即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13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周周一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~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周三进行南通联考（期中考试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月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日高考会考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5118120"/>
            <a:ext cx="845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问题：压力意识不够，目标不很明确，注意力发散、浮躁，吃苦精神不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609480"/>
            <a:ext cx="8534520" cy="38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做一个怎样的高三学生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①</a:t>
            </a:r>
            <a:r>
              <a:rPr b="0" lang="zh-CN" sz="28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明确的目标定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②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强烈的危机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③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饱满的自信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④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坚强的意志力（注意力、耐错力、抗干扰力、耐苦力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⑤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流水线式的学习习惯，效率要高，讲究实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90720"/>
            <a:ext cx="807732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登一登，进山门，这里不需要豪言壮语，需要有战胜自我的勇气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拼一拼，过山冈，这里拒绝懒惰浮躁，需要有百折不回的信念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搏一搏，上山顶，这里排斥骄傲自满，需要有勇攀高峰的意志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我们一定能在（高校）山顶相聚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533520" y="1219320"/>
            <a:ext cx="807696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面对挫折要勇敢，抛开忧愁，不放弃努力，就会从挫折中提炼出成功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7200" y="838080"/>
            <a:ext cx="784872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创一个怎样的班级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三风：班风（到班要静、氛围要浓、竞争激烈、风气要正）；学风（苦、乐、高）；作风（起居有规、进出有纪、宽松有度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②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三心：心理、用心、信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③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三力：意志力、注意力、动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④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竞争与希望同在；压力与动力并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04920" y="990720"/>
            <a:ext cx="84582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基础过关总结工作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与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月份比较：明显下滑，相当一部分同学不重视，出现低分严重现象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良率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及格率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228600" y="0"/>
            <a:ext cx="8458200" cy="54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方法指导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考前——信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精神饱满进考场，轻轻松松看试卷，认认真真做题目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考中——细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审视题目莫紧张，看清要求莫浮躁，写全过程莫跳跃，仔细检查莫遗憾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基础题不大意，拿足分；中等题不麻痹，拿稳分；偏难题不急躁，拿本分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考后——恒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考后不去想，准备下一场；考分虽是宝，提升更重要；考好莫骄傲，有人比我好；考差莫泄气，下次再努力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95280" y="0"/>
            <a:ext cx="79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养成良好的考试习惯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69228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考试成绩与考试习惯之间有着密切联系，养成良好的考试习惯，就应该要求自己把平时的每次答题都当作正式考试来认真对待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、拿到试卷后应先把全卷浏览一遍，并大致估算一下完成每一部分试题需花的时间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、试题的设置往往由易到难，所以应从头开始答题，这样有利于保持良好的解题心态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3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、遇到难题时切忌“卡壳”，可跳过难题先做其它题目，等全卷完成后再答难题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8T12:28:30Z</dcterms:created>
  <dc:creator>主题班会课件(分28大类): http://shop62905894.taobao.com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3T22:28:26Z</dcterms:modified>
  <cp:revision>18</cp:revision>
  <dc:subject>主题班会课件(分28大类): http://shop62905894.taobao.com</dc:subject>
  <dc:title>主题班会课件(分28大类): http://shop62905894.taobao.com</dc:title>
</cp:coreProperties>
</file>