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7.jpeg" ContentType="image/jpeg"/>
  <Override PartName="/ppt/media/image12.jpeg" ContentType="image/jpeg"/>
  <Override PartName="/ppt/media/image5.wmf" ContentType="image/x-wmf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A3C6-59EC-4FEE-9E29-E23BF359808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58B5-18D2-4509-8EF9-9416AC2145F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高三学生不存在能否考上大学的问题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而是考什么大学的问题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高三学生均站在同一起跑线上，谁不停地奔跑谁就会最先到达终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人的潜能是无限的，谁都可以创造最后的辉煌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勤学如春起之苗，不见其增，日有所长。高中的学习是一种剧烈的活动，六十万考生均站在同一个起跑线上。高二的生活要重新安排，要认识到高考竞争的残酷性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5B87-E696-435C-8988-440BCB423F7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分析目前的高考竞争环境：农村考生的优势在哪里？城市考生的优势在哪里？知己知彼，方能百战不殆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她们也想走向世界。我一定要好好学习，我要走出去，我要改变家乡落后的面貌！我要让我的父母过上好日子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他们的小学就是这样度过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抗日战争时期，我们靠什么打败了日本帝国主义，是靠先进的武器吗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他们能不想改变现状吗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这些高中生在吃什么？他们在想什么？这两个同学在饭里找什么？他们中为什么没有少男少女的打情骂俏？正是在这里，走出了高达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％的两院院士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他们的父亲正在为学费发愁。孩子考上大学后怎么办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AEC9-CA4E-4640-ACB7-515F8F0D1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E8A6-48D6-40ED-965A-90EDA9AF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6BCF-B401-4E3B-8A18-CD7E38F9B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AF99-4ECA-4981-A15E-3E7E7AA2E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9153-8248-4EE9-B409-5B018B89B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0A80-1E1E-4D83-803D-1C3D6CD5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A015-6225-4510-B177-3EC50EDD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24C5-8059-4A98-84D6-D68C690E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0972-7853-46A2-B34E-3A849ABE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C4D9-AF83-4CCE-BC35-3212C715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F741-C1DA-4DF0-A035-0902377D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CFC9-B457-473A-8CFA-7908D832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1B29-6D84-4D06-954F-DDFC000E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7255-965D-4A24-AF37-2C8829BA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6022-D0D3-4103-AD4A-1BBE0EDB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B6C2-35B4-43BE-BBE4-8C72FAFAE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DCEB-4BB8-46A8-A133-48DCE9BE1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303D-32FC-48E3-9F63-32379944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60B4-2B54-4274-BAD4-59B64953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EB66-5597-49FA-8AC9-76CBC4C2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F4A4-05CC-4368-BA73-469CCDC4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1483-0279-4B34-913B-F5363E1D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C5DD-FF3E-4BEA-B4CF-2C3CAB38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67E0-663D-42B3-82A5-B5EA1290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1B49-9136-49A1-AB15-9BA06227F9AD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1228-1A4A-48C5-8795-3778721AEE4D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32000" y="2133720"/>
            <a:ext cx="62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Verdana"/>
              </a:rPr>
              <a:t>第一次月考总结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-609480" y="-704880"/>
            <a:ext cx="10693440" cy="7562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0"/>
            <a:ext cx="9677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老师不在时，我们就像失去了一个支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我们就散漫起来了，包括我自己在内，晚自修寻找机会讲话诸如此类缺乏自制力的表现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　　　　　　　　——来自我班某同学的心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057400"/>
            <a:ext cx="9144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我不禁有一些悲哀。因为没有了老师的管理，班上的一部分同学纪律放松了，或多或小对认真学习的同学有些影响，有时竟在晚自习上看小说、报纸，真荒唐。还有我们宿舍还有部分同学也因缺少自制力，冒着被扣分的危险，晚上像开集会似的，声音很大，直到半夜，而第二天上课却在“钓鱼” 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　　　　　　　——来自某同学的心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95280" y="333360"/>
            <a:ext cx="7921800" cy="11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6600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老师不在时，我们是这样做的：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6600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2514600"/>
            <a:ext cx="2057400" cy="2514600"/>
          </a:xfrm>
          <a:prstGeom prst="wedgeEllipseCallout">
            <a:avLst>
              <a:gd name="adj1" fmla="val -32407"/>
              <a:gd name="adj2" fmla="val 6212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4495680"/>
            <a:ext cx="1990800" cy="23623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800000" y="3071880"/>
            <a:ext cx="146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终于发现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们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足之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38480" y="20574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、学习缺乏自觉性和自律性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28954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、学习不够勤奋；做表面文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37339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、学习有畏难情绪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44956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四、学习中不敢请教老师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5181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五、没有合理安排时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14800" y="57913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六、学习缺乏钻研，易于满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4360" y="40464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99"/>
                </a:solidFill>
                <a:latin typeface="Tahoma"/>
                <a:ea typeface="华文行楷"/>
              </a:rPr>
              <a:t>★</a:t>
            </a:r>
            <a:r>
              <a:rPr b="0" lang="zh-CN" sz="3200" spc="-1" strike="noStrike">
                <a:solidFill>
                  <a:srgbClr val="336699"/>
                </a:solidFill>
                <a:latin typeface="Tahoma"/>
                <a:ea typeface="华文行楷"/>
              </a:rPr>
              <a:t>我要学 我能学 我会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1125360"/>
            <a:ext cx="64008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ahoma"/>
                <a:ea typeface="楷体_GB2312"/>
              </a:rPr>
              <a:t>▲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新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新宋体"/>
              </a:rPr>
              <a:t>当我一步步的赶上并超过了那些原以为可望而不可及的学生时，回头看看，觉得他们和我一样普通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724280"/>
            <a:ext cx="825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▲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高效的学习方法</a:t>
            </a:r>
            <a:r>
              <a:rPr b="1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。他们在学习中也不是一开始就找到了高效的学习方法，而是在借鉴别人经验的基础上，大量的实践中，逐渐发展、调整和完善起来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2852640"/>
            <a:ext cx="4876920" cy="1152720"/>
          </a:xfrm>
          <a:prstGeom prst="cloudCallout">
            <a:avLst>
              <a:gd name="adj1" fmla="val -50782"/>
              <a:gd name="adj2" fmla="val 95314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真正使他们脱颖而出的原因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Verdana"/>
                <a:ea typeface="华文彩云"/>
              </a:rPr>
              <a:t>高一学生均站在同一起跑线上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5791320" cy="48006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181480" y="3657600"/>
            <a:ext cx="3581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32720" y="2565360"/>
            <a:ext cx="216036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dddddd"/>
                </a:solidFill>
                <a:latin typeface="Arial"/>
              </a:rPr>
              <a:t>　人的潜能是无限的，谁都可以创造最后的辉煌！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-111600" y="2106720"/>
            <a:ext cx="9118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谁不停地奔跑谁就会最先到达终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666880" y="1828800"/>
            <a:ext cx="3810240" cy="3200400"/>
          </a:xfrm>
          <a:prstGeom prst="can">
            <a:avLst>
              <a:gd name="adj" fmla="val 25000"/>
            </a:avLst>
          </a:prstGeom>
          <a:solidFill>
            <a:srgbClr val="ccecff">
              <a:alpha val="50000"/>
            </a:srgbClr>
          </a:solidFill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463920" y="2751120"/>
            <a:ext cx="2327400" cy="22496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886200" y="1066680"/>
            <a:ext cx="338040" cy="1268640"/>
          </a:xfrm>
          <a:custGeom>
            <a:avLst/>
            <a:gdLst/>
            <a:ahLst/>
            <a:rect l="l" t="t" r="r" b="b"/>
            <a:pathLst>
              <a:path w="213" h="1039">
                <a:moveTo>
                  <a:pt x="45" y="0"/>
                </a:moveTo>
                <a:cubicBezTo>
                  <a:pt x="34" y="34"/>
                  <a:pt x="23" y="68"/>
                  <a:pt x="12" y="102"/>
                </a:cubicBezTo>
                <a:cubicBezTo>
                  <a:pt x="8" y="113"/>
                  <a:pt x="0" y="136"/>
                  <a:pt x="0" y="136"/>
                </a:cubicBezTo>
                <a:cubicBezTo>
                  <a:pt x="7" y="238"/>
                  <a:pt x="0" y="282"/>
                  <a:pt x="23" y="362"/>
                </a:cubicBezTo>
                <a:cubicBezTo>
                  <a:pt x="30" y="385"/>
                  <a:pt x="38" y="407"/>
                  <a:pt x="45" y="429"/>
                </a:cubicBezTo>
                <a:cubicBezTo>
                  <a:pt x="54" y="455"/>
                  <a:pt x="91" y="497"/>
                  <a:pt x="91" y="497"/>
                </a:cubicBezTo>
                <a:cubicBezTo>
                  <a:pt x="121" y="591"/>
                  <a:pt x="100" y="545"/>
                  <a:pt x="158" y="633"/>
                </a:cubicBezTo>
                <a:cubicBezTo>
                  <a:pt x="171" y="653"/>
                  <a:pt x="181" y="700"/>
                  <a:pt x="181" y="700"/>
                </a:cubicBezTo>
                <a:cubicBezTo>
                  <a:pt x="196" y="806"/>
                  <a:pt x="213" y="958"/>
                  <a:pt x="124" y="1039"/>
                </a:cubicBezTo>
              </a:path>
            </a:pathLst>
          </a:custGeom>
          <a:noFill/>
          <a:ln w="50760">
            <a:solidFill>
              <a:srgbClr val="ffff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1219320"/>
            <a:ext cx="338400" cy="1116000"/>
          </a:xfrm>
          <a:custGeom>
            <a:avLst/>
            <a:gdLst/>
            <a:ahLst/>
            <a:rect l="l" t="t" r="r" b="b"/>
            <a:pathLst>
              <a:path w="213" h="1039">
                <a:moveTo>
                  <a:pt x="45" y="0"/>
                </a:moveTo>
                <a:cubicBezTo>
                  <a:pt x="34" y="34"/>
                  <a:pt x="23" y="68"/>
                  <a:pt x="12" y="102"/>
                </a:cubicBezTo>
                <a:cubicBezTo>
                  <a:pt x="8" y="113"/>
                  <a:pt x="0" y="136"/>
                  <a:pt x="0" y="136"/>
                </a:cubicBezTo>
                <a:cubicBezTo>
                  <a:pt x="7" y="238"/>
                  <a:pt x="0" y="282"/>
                  <a:pt x="23" y="362"/>
                </a:cubicBezTo>
                <a:cubicBezTo>
                  <a:pt x="30" y="385"/>
                  <a:pt x="38" y="407"/>
                  <a:pt x="45" y="429"/>
                </a:cubicBezTo>
                <a:cubicBezTo>
                  <a:pt x="54" y="455"/>
                  <a:pt x="91" y="497"/>
                  <a:pt x="91" y="497"/>
                </a:cubicBezTo>
                <a:cubicBezTo>
                  <a:pt x="121" y="591"/>
                  <a:pt x="100" y="545"/>
                  <a:pt x="158" y="633"/>
                </a:cubicBezTo>
                <a:cubicBezTo>
                  <a:pt x="171" y="653"/>
                  <a:pt x="181" y="700"/>
                  <a:pt x="181" y="700"/>
                </a:cubicBezTo>
                <a:cubicBezTo>
                  <a:pt x="196" y="806"/>
                  <a:pt x="213" y="958"/>
                  <a:pt x="124" y="1039"/>
                </a:cubicBezTo>
              </a:path>
            </a:pathLst>
          </a:custGeom>
          <a:noFill/>
          <a:ln w="60480">
            <a:solidFill>
              <a:srgbClr val="ffff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600000">
            <a:off x="4800600" y="761760"/>
            <a:ext cx="338040" cy="1649160"/>
          </a:xfrm>
          <a:custGeom>
            <a:avLst/>
            <a:gdLst/>
            <a:ahLst/>
            <a:rect l="l" t="t" r="r" b="b"/>
            <a:pathLst>
              <a:path w="213" h="1039">
                <a:moveTo>
                  <a:pt x="45" y="0"/>
                </a:moveTo>
                <a:cubicBezTo>
                  <a:pt x="34" y="34"/>
                  <a:pt x="23" y="68"/>
                  <a:pt x="12" y="102"/>
                </a:cubicBezTo>
                <a:cubicBezTo>
                  <a:pt x="8" y="113"/>
                  <a:pt x="0" y="136"/>
                  <a:pt x="0" y="136"/>
                </a:cubicBezTo>
                <a:cubicBezTo>
                  <a:pt x="7" y="238"/>
                  <a:pt x="0" y="282"/>
                  <a:pt x="23" y="362"/>
                </a:cubicBezTo>
                <a:cubicBezTo>
                  <a:pt x="30" y="385"/>
                  <a:pt x="38" y="407"/>
                  <a:pt x="45" y="429"/>
                </a:cubicBezTo>
                <a:cubicBezTo>
                  <a:pt x="54" y="455"/>
                  <a:pt x="91" y="497"/>
                  <a:pt x="91" y="497"/>
                </a:cubicBezTo>
                <a:cubicBezTo>
                  <a:pt x="121" y="591"/>
                  <a:pt x="100" y="545"/>
                  <a:pt x="158" y="633"/>
                </a:cubicBezTo>
                <a:cubicBezTo>
                  <a:pt x="171" y="653"/>
                  <a:pt x="181" y="700"/>
                  <a:pt x="181" y="700"/>
                </a:cubicBezTo>
                <a:cubicBezTo>
                  <a:pt x="196" y="806"/>
                  <a:pt x="213" y="958"/>
                  <a:pt x="124" y="1039"/>
                </a:cubicBezTo>
              </a:path>
            </a:pathLst>
          </a:custGeom>
          <a:noFill/>
          <a:ln w="47520">
            <a:solidFill>
              <a:srgbClr val="ffff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914400"/>
            <a:ext cx="380880" cy="1496880"/>
          </a:xfrm>
          <a:custGeom>
            <a:avLst/>
            <a:gdLst/>
            <a:ahLst/>
            <a:rect l="l" t="t" r="r" b="b"/>
            <a:pathLst>
              <a:path w="213" h="1039">
                <a:moveTo>
                  <a:pt x="45" y="0"/>
                </a:moveTo>
                <a:cubicBezTo>
                  <a:pt x="34" y="34"/>
                  <a:pt x="23" y="68"/>
                  <a:pt x="12" y="102"/>
                </a:cubicBezTo>
                <a:cubicBezTo>
                  <a:pt x="8" y="113"/>
                  <a:pt x="0" y="136"/>
                  <a:pt x="0" y="136"/>
                </a:cubicBezTo>
                <a:cubicBezTo>
                  <a:pt x="7" y="238"/>
                  <a:pt x="0" y="282"/>
                  <a:pt x="23" y="362"/>
                </a:cubicBezTo>
                <a:cubicBezTo>
                  <a:pt x="30" y="385"/>
                  <a:pt x="38" y="407"/>
                  <a:pt x="45" y="429"/>
                </a:cubicBezTo>
                <a:cubicBezTo>
                  <a:pt x="54" y="455"/>
                  <a:pt x="91" y="497"/>
                  <a:pt x="91" y="497"/>
                </a:cubicBezTo>
                <a:cubicBezTo>
                  <a:pt x="121" y="591"/>
                  <a:pt x="100" y="545"/>
                  <a:pt x="158" y="633"/>
                </a:cubicBezTo>
                <a:cubicBezTo>
                  <a:pt x="171" y="653"/>
                  <a:pt x="181" y="700"/>
                  <a:pt x="181" y="700"/>
                </a:cubicBezTo>
                <a:cubicBezTo>
                  <a:pt x="196" y="806"/>
                  <a:pt x="213" y="958"/>
                  <a:pt x="124" y="1039"/>
                </a:cubicBezTo>
              </a:path>
            </a:pathLst>
          </a:custGeom>
          <a:noFill/>
          <a:ln w="63360">
            <a:solidFill>
              <a:srgbClr val="ffff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200000">
            <a:off x="5409720" y="1143000"/>
            <a:ext cx="262080" cy="1219320"/>
          </a:xfrm>
          <a:custGeom>
            <a:avLst/>
            <a:gdLst/>
            <a:ahLst/>
            <a:rect l="l" t="t" r="r" b="b"/>
            <a:pathLst>
              <a:path w="213" h="1039">
                <a:moveTo>
                  <a:pt x="45" y="0"/>
                </a:moveTo>
                <a:cubicBezTo>
                  <a:pt x="34" y="34"/>
                  <a:pt x="23" y="68"/>
                  <a:pt x="12" y="102"/>
                </a:cubicBezTo>
                <a:cubicBezTo>
                  <a:pt x="8" y="113"/>
                  <a:pt x="0" y="136"/>
                  <a:pt x="0" y="136"/>
                </a:cubicBezTo>
                <a:cubicBezTo>
                  <a:pt x="7" y="238"/>
                  <a:pt x="0" y="282"/>
                  <a:pt x="23" y="362"/>
                </a:cubicBezTo>
                <a:cubicBezTo>
                  <a:pt x="30" y="385"/>
                  <a:pt x="38" y="407"/>
                  <a:pt x="45" y="429"/>
                </a:cubicBezTo>
                <a:cubicBezTo>
                  <a:pt x="54" y="455"/>
                  <a:pt x="91" y="497"/>
                  <a:pt x="91" y="497"/>
                </a:cubicBezTo>
                <a:cubicBezTo>
                  <a:pt x="121" y="591"/>
                  <a:pt x="100" y="545"/>
                  <a:pt x="158" y="633"/>
                </a:cubicBezTo>
                <a:cubicBezTo>
                  <a:pt x="171" y="653"/>
                  <a:pt x="181" y="700"/>
                  <a:pt x="181" y="700"/>
                </a:cubicBezTo>
                <a:cubicBezTo>
                  <a:pt x="196" y="806"/>
                  <a:pt x="213" y="958"/>
                  <a:pt x="124" y="1039"/>
                </a:cubicBezTo>
              </a:path>
            </a:pathLst>
          </a:custGeom>
          <a:noFill/>
          <a:ln w="60480">
            <a:solidFill>
              <a:srgbClr val="ffff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846080" y="3462840"/>
            <a:ext cx="5288760" cy="3427200"/>
            <a:chOff x="1846080" y="3462840"/>
            <a:chExt cx="5288760" cy="3427200"/>
          </a:xfrm>
        </p:grpSpPr>
        <p:grpSp>
          <p:nvGrpSpPr>
            <p:cNvPr id="142" name=""/>
            <p:cNvGrpSpPr/>
            <p:nvPr/>
          </p:nvGrpSpPr>
          <p:grpSpPr>
            <a:xfrm>
              <a:off x="1846080" y="3462840"/>
              <a:ext cx="5288760" cy="3427200"/>
              <a:chOff x="1846080" y="3462840"/>
              <a:chExt cx="5288760" cy="3427200"/>
            </a:xfrm>
          </p:grpSpPr>
          <p:sp>
            <p:nvSpPr>
              <p:cNvPr id="143" name=""/>
              <p:cNvSpPr/>
              <p:nvPr/>
            </p:nvSpPr>
            <p:spPr>
              <a:xfrm rot="15360000">
                <a:off x="4583160" y="5177880"/>
                <a:ext cx="1490400" cy="1592280"/>
              </a:xfrm>
              <a:custGeom>
                <a:avLst/>
                <a:gdLst/>
                <a:ahLst/>
                <a:rect l="l" t="t" r="r" b="b"/>
                <a:pathLst>
                  <a:path w="939" h="1147">
                    <a:moveTo>
                      <a:pt x="0" y="863"/>
                    </a:moveTo>
                    <a:cubicBezTo>
                      <a:pt x="15" y="859"/>
                      <a:pt x="30" y="856"/>
                      <a:pt x="45" y="852"/>
                    </a:cubicBezTo>
                    <a:cubicBezTo>
                      <a:pt x="68" y="845"/>
                      <a:pt x="113" y="829"/>
                      <a:pt x="113" y="829"/>
                    </a:cubicBezTo>
                    <a:cubicBezTo>
                      <a:pt x="135" y="814"/>
                      <a:pt x="158" y="799"/>
                      <a:pt x="180" y="784"/>
                    </a:cubicBezTo>
                    <a:cubicBezTo>
                      <a:pt x="195" y="774"/>
                      <a:pt x="244" y="700"/>
                      <a:pt x="259" y="682"/>
                    </a:cubicBezTo>
                    <a:cubicBezTo>
                      <a:pt x="314" y="616"/>
                      <a:pt x="363" y="545"/>
                      <a:pt x="418" y="479"/>
                    </a:cubicBezTo>
                    <a:cubicBezTo>
                      <a:pt x="454" y="435"/>
                      <a:pt x="433" y="422"/>
                      <a:pt x="485" y="389"/>
                    </a:cubicBezTo>
                    <a:cubicBezTo>
                      <a:pt x="506" y="329"/>
                      <a:pt x="490" y="366"/>
                      <a:pt x="542" y="287"/>
                    </a:cubicBezTo>
                    <a:cubicBezTo>
                      <a:pt x="549" y="276"/>
                      <a:pt x="557" y="264"/>
                      <a:pt x="564" y="253"/>
                    </a:cubicBezTo>
                    <a:cubicBezTo>
                      <a:pt x="572" y="242"/>
                      <a:pt x="587" y="219"/>
                      <a:pt x="587" y="219"/>
                    </a:cubicBezTo>
                    <a:cubicBezTo>
                      <a:pt x="608" y="155"/>
                      <a:pt x="645" y="98"/>
                      <a:pt x="700" y="61"/>
                    </a:cubicBezTo>
                    <a:cubicBezTo>
                      <a:pt x="706" y="44"/>
                      <a:pt x="712" y="0"/>
                      <a:pt x="745" y="5"/>
                    </a:cubicBezTo>
                    <a:cubicBezTo>
                      <a:pt x="765" y="8"/>
                      <a:pt x="790" y="59"/>
                      <a:pt x="802" y="72"/>
                    </a:cubicBezTo>
                    <a:cubicBezTo>
                      <a:pt x="866" y="145"/>
                      <a:pt x="843" y="132"/>
                      <a:pt x="903" y="151"/>
                    </a:cubicBezTo>
                    <a:cubicBezTo>
                      <a:pt x="914" y="159"/>
                      <a:pt x="939" y="160"/>
                      <a:pt x="937" y="174"/>
                    </a:cubicBezTo>
                    <a:cubicBezTo>
                      <a:pt x="934" y="201"/>
                      <a:pt x="907" y="219"/>
                      <a:pt x="892" y="242"/>
                    </a:cubicBezTo>
                    <a:cubicBezTo>
                      <a:pt x="884" y="253"/>
                      <a:pt x="869" y="276"/>
                      <a:pt x="869" y="276"/>
                    </a:cubicBezTo>
                    <a:cubicBezTo>
                      <a:pt x="833" y="387"/>
                      <a:pt x="752" y="483"/>
                      <a:pt x="689" y="581"/>
                    </a:cubicBezTo>
                    <a:cubicBezTo>
                      <a:pt x="673" y="606"/>
                      <a:pt x="639" y="614"/>
                      <a:pt x="621" y="637"/>
                    </a:cubicBezTo>
                    <a:cubicBezTo>
                      <a:pt x="551" y="728"/>
                      <a:pt x="608" y="684"/>
                      <a:pt x="542" y="727"/>
                    </a:cubicBezTo>
                    <a:cubicBezTo>
                      <a:pt x="518" y="802"/>
                      <a:pt x="551" y="722"/>
                      <a:pt x="497" y="784"/>
                    </a:cubicBezTo>
                    <a:cubicBezTo>
                      <a:pt x="453" y="835"/>
                      <a:pt x="448" y="874"/>
                      <a:pt x="395" y="908"/>
                    </a:cubicBezTo>
                    <a:cubicBezTo>
                      <a:pt x="357" y="964"/>
                      <a:pt x="384" y="934"/>
                      <a:pt x="305" y="987"/>
                    </a:cubicBezTo>
                    <a:cubicBezTo>
                      <a:pt x="294" y="995"/>
                      <a:pt x="271" y="1010"/>
                      <a:pt x="271" y="1010"/>
                    </a:cubicBezTo>
                    <a:cubicBezTo>
                      <a:pt x="187" y="1136"/>
                      <a:pt x="257" y="1033"/>
                      <a:pt x="203" y="1111"/>
                    </a:cubicBezTo>
                    <a:cubicBezTo>
                      <a:pt x="195" y="1122"/>
                      <a:pt x="180" y="1145"/>
                      <a:pt x="180" y="1145"/>
                    </a:cubicBezTo>
                    <a:cubicBezTo>
                      <a:pt x="108" y="1127"/>
                      <a:pt x="144" y="1147"/>
                      <a:pt x="90" y="1066"/>
                    </a:cubicBezTo>
                    <a:cubicBezTo>
                      <a:pt x="82" y="1055"/>
                      <a:pt x="67" y="1032"/>
                      <a:pt x="67" y="1032"/>
                    </a:cubicBezTo>
                    <a:cubicBezTo>
                      <a:pt x="29" y="915"/>
                      <a:pt x="88" y="1086"/>
                      <a:pt x="34" y="965"/>
                    </a:cubicBezTo>
                    <a:cubicBezTo>
                      <a:pt x="30" y="955"/>
                      <a:pt x="7" y="885"/>
                      <a:pt x="0" y="863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2232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780000">
                <a:off x="2555640" y="5181120"/>
                <a:ext cx="1676520" cy="1233720"/>
              </a:xfrm>
              <a:custGeom>
                <a:avLst/>
                <a:gdLst/>
                <a:ahLst/>
                <a:rect l="l" t="t" r="r" b="b"/>
                <a:pathLst>
                  <a:path w="1163" h="825">
                    <a:moveTo>
                      <a:pt x="383" y="339"/>
                    </a:moveTo>
                    <a:cubicBezTo>
                      <a:pt x="472" y="309"/>
                      <a:pt x="445" y="310"/>
                      <a:pt x="519" y="260"/>
                    </a:cubicBezTo>
                    <a:cubicBezTo>
                      <a:pt x="617" y="116"/>
                      <a:pt x="838" y="32"/>
                      <a:pt x="1005" y="0"/>
                    </a:cubicBezTo>
                    <a:cubicBezTo>
                      <a:pt x="1078" y="9"/>
                      <a:pt x="1106" y="8"/>
                      <a:pt x="1163" y="45"/>
                    </a:cubicBezTo>
                    <a:cubicBezTo>
                      <a:pt x="1156" y="92"/>
                      <a:pt x="1162" y="124"/>
                      <a:pt x="1129" y="158"/>
                    </a:cubicBezTo>
                    <a:cubicBezTo>
                      <a:pt x="1103" y="185"/>
                      <a:pt x="1027" y="203"/>
                      <a:pt x="1027" y="203"/>
                    </a:cubicBezTo>
                    <a:cubicBezTo>
                      <a:pt x="1016" y="211"/>
                      <a:pt x="1005" y="220"/>
                      <a:pt x="993" y="226"/>
                    </a:cubicBezTo>
                    <a:cubicBezTo>
                      <a:pt x="982" y="231"/>
                      <a:pt x="969" y="230"/>
                      <a:pt x="959" y="237"/>
                    </a:cubicBezTo>
                    <a:cubicBezTo>
                      <a:pt x="880" y="290"/>
                      <a:pt x="966" y="250"/>
                      <a:pt x="903" y="305"/>
                    </a:cubicBezTo>
                    <a:cubicBezTo>
                      <a:pt x="864" y="339"/>
                      <a:pt x="810" y="366"/>
                      <a:pt x="767" y="395"/>
                    </a:cubicBezTo>
                    <a:cubicBezTo>
                      <a:pt x="720" y="427"/>
                      <a:pt x="649" y="490"/>
                      <a:pt x="598" y="508"/>
                    </a:cubicBezTo>
                    <a:cubicBezTo>
                      <a:pt x="587" y="512"/>
                      <a:pt x="574" y="514"/>
                      <a:pt x="564" y="520"/>
                    </a:cubicBezTo>
                    <a:cubicBezTo>
                      <a:pt x="452" y="583"/>
                      <a:pt x="537" y="552"/>
                      <a:pt x="462" y="576"/>
                    </a:cubicBezTo>
                    <a:cubicBezTo>
                      <a:pt x="372" y="636"/>
                      <a:pt x="410" y="599"/>
                      <a:pt x="350" y="689"/>
                    </a:cubicBezTo>
                    <a:cubicBezTo>
                      <a:pt x="327" y="723"/>
                      <a:pt x="282" y="734"/>
                      <a:pt x="248" y="757"/>
                    </a:cubicBezTo>
                    <a:cubicBezTo>
                      <a:pt x="225" y="772"/>
                      <a:pt x="206" y="793"/>
                      <a:pt x="180" y="802"/>
                    </a:cubicBezTo>
                    <a:cubicBezTo>
                      <a:pt x="157" y="810"/>
                      <a:pt x="112" y="825"/>
                      <a:pt x="112" y="825"/>
                    </a:cubicBezTo>
                    <a:cubicBezTo>
                      <a:pt x="97" y="821"/>
                      <a:pt x="79" y="823"/>
                      <a:pt x="67" y="813"/>
                    </a:cubicBezTo>
                    <a:cubicBezTo>
                      <a:pt x="58" y="805"/>
                      <a:pt x="61" y="790"/>
                      <a:pt x="56" y="779"/>
                    </a:cubicBezTo>
                    <a:cubicBezTo>
                      <a:pt x="50" y="767"/>
                      <a:pt x="41" y="757"/>
                      <a:pt x="33" y="746"/>
                    </a:cubicBezTo>
                    <a:cubicBezTo>
                      <a:pt x="0" y="645"/>
                      <a:pt x="26" y="563"/>
                      <a:pt x="124" y="531"/>
                    </a:cubicBezTo>
                    <a:cubicBezTo>
                      <a:pt x="145" y="510"/>
                      <a:pt x="170" y="496"/>
                      <a:pt x="191" y="475"/>
                    </a:cubicBezTo>
                    <a:cubicBezTo>
                      <a:pt x="201" y="465"/>
                      <a:pt x="204" y="450"/>
                      <a:pt x="214" y="441"/>
                    </a:cubicBezTo>
                    <a:cubicBezTo>
                      <a:pt x="235" y="423"/>
                      <a:pt x="259" y="410"/>
                      <a:pt x="282" y="395"/>
                    </a:cubicBezTo>
                    <a:cubicBezTo>
                      <a:pt x="322" y="368"/>
                      <a:pt x="383" y="392"/>
                      <a:pt x="383" y="339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940000">
                <a:off x="5229720" y="5250960"/>
                <a:ext cx="1814400" cy="1066680"/>
              </a:xfrm>
              <a:custGeom>
                <a:avLst/>
                <a:gdLst/>
                <a:ahLst/>
                <a:rect l="l" t="t" r="r" b="b"/>
                <a:pathLst>
                  <a:path w="1163" h="825">
                    <a:moveTo>
                      <a:pt x="383" y="339"/>
                    </a:moveTo>
                    <a:cubicBezTo>
                      <a:pt x="472" y="309"/>
                      <a:pt x="445" y="310"/>
                      <a:pt x="519" y="260"/>
                    </a:cubicBezTo>
                    <a:cubicBezTo>
                      <a:pt x="617" y="116"/>
                      <a:pt x="838" y="32"/>
                      <a:pt x="1005" y="0"/>
                    </a:cubicBezTo>
                    <a:cubicBezTo>
                      <a:pt x="1078" y="9"/>
                      <a:pt x="1106" y="8"/>
                      <a:pt x="1163" y="45"/>
                    </a:cubicBezTo>
                    <a:cubicBezTo>
                      <a:pt x="1156" y="92"/>
                      <a:pt x="1162" y="124"/>
                      <a:pt x="1129" y="158"/>
                    </a:cubicBezTo>
                    <a:cubicBezTo>
                      <a:pt x="1103" y="185"/>
                      <a:pt x="1027" y="203"/>
                      <a:pt x="1027" y="203"/>
                    </a:cubicBezTo>
                    <a:cubicBezTo>
                      <a:pt x="1016" y="211"/>
                      <a:pt x="1005" y="220"/>
                      <a:pt x="993" y="226"/>
                    </a:cubicBezTo>
                    <a:cubicBezTo>
                      <a:pt x="982" y="231"/>
                      <a:pt x="969" y="230"/>
                      <a:pt x="959" y="237"/>
                    </a:cubicBezTo>
                    <a:cubicBezTo>
                      <a:pt x="880" y="290"/>
                      <a:pt x="966" y="250"/>
                      <a:pt x="903" y="305"/>
                    </a:cubicBezTo>
                    <a:cubicBezTo>
                      <a:pt x="864" y="339"/>
                      <a:pt x="810" y="366"/>
                      <a:pt x="767" y="395"/>
                    </a:cubicBezTo>
                    <a:cubicBezTo>
                      <a:pt x="720" y="427"/>
                      <a:pt x="649" y="490"/>
                      <a:pt x="598" y="508"/>
                    </a:cubicBezTo>
                    <a:cubicBezTo>
                      <a:pt x="587" y="512"/>
                      <a:pt x="574" y="514"/>
                      <a:pt x="564" y="520"/>
                    </a:cubicBezTo>
                    <a:cubicBezTo>
                      <a:pt x="452" y="583"/>
                      <a:pt x="537" y="552"/>
                      <a:pt x="462" y="576"/>
                    </a:cubicBezTo>
                    <a:cubicBezTo>
                      <a:pt x="372" y="636"/>
                      <a:pt x="410" y="599"/>
                      <a:pt x="350" y="689"/>
                    </a:cubicBezTo>
                    <a:cubicBezTo>
                      <a:pt x="327" y="723"/>
                      <a:pt x="282" y="734"/>
                      <a:pt x="248" y="757"/>
                    </a:cubicBezTo>
                    <a:cubicBezTo>
                      <a:pt x="225" y="772"/>
                      <a:pt x="206" y="793"/>
                      <a:pt x="180" y="802"/>
                    </a:cubicBezTo>
                    <a:cubicBezTo>
                      <a:pt x="157" y="810"/>
                      <a:pt x="112" y="825"/>
                      <a:pt x="112" y="825"/>
                    </a:cubicBezTo>
                    <a:cubicBezTo>
                      <a:pt x="97" y="821"/>
                      <a:pt x="79" y="823"/>
                      <a:pt x="67" y="813"/>
                    </a:cubicBezTo>
                    <a:cubicBezTo>
                      <a:pt x="58" y="805"/>
                      <a:pt x="61" y="790"/>
                      <a:pt x="56" y="779"/>
                    </a:cubicBezTo>
                    <a:cubicBezTo>
                      <a:pt x="50" y="767"/>
                      <a:pt x="41" y="757"/>
                      <a:pt x="33" y="746"/>
                    </a:cubicBezTo>
                    <a:cubicBezTo>
                      <a:pt x="0" y="645"/>
                      <a:pt x="26" y="563"/>
                      <a:pt x="124" y="531"/>
                    </a:cubicBezTo>
                    <a:cubicBezTo>
                      <a:pt x="145" y="510"/>
                      <a:pt x="170" y="496"/>
                      <a:pt x="191" y="475"/>
                    </a:cubicBezTo>
                    <a:cubicBezTo>
                      <a:pt x="201" y="465"/>
                      <a:pt x="204" y="450"/>
                      <a:pt x="214" y="441"/>
                    </a:cubicBezTo>
                    <a:cubicBezTo>
                      <a:pt x="235" y="423"/>
                      <a:pt x="259" y="410"/>
                      <a:pt x="282" y="395"/>
                    </a:cubicBezTo>
                    <a:cubicBezTo>
                      <a:pt x="322" y="368"/>
                      <a:pt x="383" y="392"/>
                      <a:pt x="383" y="339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1300000">
                <a:off x="3317760" y="4419360"/>
                <a:ext cx="1425600" cy="1438200"/>
              </a:xfrm>
              <a:custGeom>
                <a:avLst/>
                <a:gdLst/>
                <a:ahLst/>
                <a:rect l="l" t="t" r="r" b="b"/>
                <a:pathLst>
                  <a:path w="869" h="1254">
                    <a:moveTo>
                      <a:pt x="169" y="248"/>
                    </a:moveTo>
                    <a:cubicBezTo>
                      <a:pt x="176" y="271"/>
                      <a:pt x="183" y="293"/>
                      <a:pt x="191" y="316"/>
                    </a:cubicBezTo>
                    <a:cubicBezTo>
                      <a:pt x="195" y="327"/>
                      <a:pt x="203" y="350"/>
                      <a:pt x="203" y="350"/>
                    </a:cubicBezTo>
                    <a:cubicBezTo>
                      <a:pt x="199" y="395"/>
                      <a:pt x="199" y="441"/>
                      <a:pt x="191" y="486"/>
                    </a:cubicBezTo>
                    <a:cubicBezTo>
                      <a:pt x="180" y="553"/>
                      <a:pt x="137" y="600"/>
                      <a:pt x="101" y="655"/>
                    </a:cubicBezTo>
                    <a:cubicBezTo>
                      <a:pt x="80" y="687"/>
                      <a:pt x="60" y="723"/>
                      <a:pt x="45" y="757"/>
                    </a:cubicBezTo>
                    <a:cubicBezTo>
                      <a:pt x="35" y="779"/>
                      <a:pt x="22" y="824"/>
                      <a:pt x="22" y="824"/>
                    </a:cubicBezTo>
                    <a:cubicBezTo>
                      <a:pt x="29" y="925"/>
                      <a:pt x="0" y="999"/>
                      <a:pt x="79" y="1050"/>
                    </a:cubicBezTo>
                    <a:cubicBezTo>
                      <a:pt x="99" y="1110"/>
                      <a:pt x="80" y="1076"/>
                      <a:pt x="158" y="1129"/>
                    </a:cubicBezTo>
                    <a:cubicBezTo>
                      <a:pt x="227" y="1176"/>
                      <a:pt x="314" y="1205"/>
                      <a:pt x="395" y="1220"/>
                    </a:cubicBezTo>
                    <a:cubicBezTo>
                      <a:pt x="414" y="1223"/>
                      <a:pt x="433" y="1226"/>
                      <a:pt x="451" y="1231"/>
                    </a:cubicBezTo>
                    <a:cubicBezTo>
                      <a:pt x="474" y="1237"/>
                      <a:pt x="519" y="1254"/>
                      <a:pt x="519" y="1254"/>
                    </a:cubicBezTo>
                    <a:cubicBezTo>
                      <a:pt x="542" y="1246"/>
                      <a:pt x="564" y="1239"/>
                      <a:pt x="587" y="1231"/>
                    </a:cubicBezTo>
                    <a:cubicBezTo>
                      <a:pt x="598" y="1227"/>
                      <a:pt x="621" y="1220"/>
                      <a:pt x="621" y="1220"/>
                    </a:cubicBezTo>
                    <a:cubicBezTo>
                      <a:pt x="659" y="1194"/>
                      <a:pt x="694" y="1177"/>
                      <a:pt x="722" y="1141"/>
                    </a:cubicBezTo>
                    <a:cubicBezTo>
                      <a:pt x="739" y="1120"/>
                      <a:pt x="752" y="1096"/>
                      <a:pt x="767" y="1073"/>
                    </a:cubicBezTo>
                    <a:cubicBezTo>
                      <a:pt x="775" y="1062"/>
                      <a:pt x="790" y="1039"/>
                      <a:pt x="790" y="1039"/>
                    </a:cubicBezTo>
                    <a:cubicBezTo>
                      <a:pt x="806" y="991"/>
                      <a:pt x="830" y="953"/>
                      <a:pt x="847" y="903"/>
                    </a:cubicBezTo>
                    <a:cubicBezTo>
                      <a:pt x="851" y="892"/>
                      <a:pt x="854" y="881"/>
                      <a:pt x="858" y="870"/>
                    </a:cubicBezTo>
                    <a:cubicBezTo>
                      <a:pt x="862" y="859"/>
                      <a:pt x="869" y="836"/>
                      <a:pt x="869" y="836"/>
                    </a:cubicBezTo>
                    <a:cubicBezTo>
                      <a:pt x="857" y="705"/>
                      <a:pt x="833" y="531"/>
                      <a:pt x="711" y="452"/>
                    </a:cubicBezTo>
                    <a:cubicBezTo>
                      <a:pt x="707" y="441"/>
                      <a:pt x="710" y="425"/>
                      <a:pt x="700" y="418"/>
                    </a:cubicBezTo>
                    <a:cubicBezTo>
                      <a:pt x="681" y="404"/>
                      <a:pt x="652" y="408"/>
                      <a:pt x="632" y="395"/>
                    </a:cubicBezTo>
                    <a:cubicBezTo>
                      <a:pt x="554" y="343"/>
                      <a:pt x="590" y="358"/>
                      <a:pt x="530" y="339"/>
                    </a:cubicBezTo>
                    <a:cubicBezTo>
                      <a:pt x="508" y="324"/>
                      <a:pt x="485" y="309"/>
                      <a:pt x="463" y="294"/>
                    </a:cubicBezTo>
                    <a:cubicBezTo>
                      <a:pt x="452" y="286"/>
                      <a:pt x="450" y="270"/>
                      <a:pt x="440" y="260"/>
                    </a:cubicBezTo>
                    <a:cubicBezTo>
                      <a:pt x="430" y="250"/>
                      <a:pt x="417" y="245"/>
                      <a:pt x="406" y="237"/>
                    </a:cubicBezTo>
                    <a:cubicBezTo>
                      <a:pt x="377" y="195"/>
                      <a:pt x="361" y="147"/>
                      <a:pt x="338" y="102"/>
                    </a:cubicBezTo>
                    <a:cubicBezTo>
                      <a:pt x="332" y="90"/>
                      <a:pt x="321" y="80"/>
                      <a:pt x="316" y="68"/>
                    </a:cubicBezTo>
                    <a:cubicBezTo>
                      <a:pt x="306" y="46"/>
                      <a:pt x="293" y="0"/>
                      <a:pt x="293" y="0"/>
                    </a:cubicBezTo>
                    <a:cubicBezTo>
                      <a:pt x="262" y="97"/>
                      <a:pt x="268" y="44"/>
                      <a:pt x="282" y="158"/>
                    </a:cubicBezTo>
                    <a:cubicBezTo>
                      <a:pt x="268" y="203"/>
                      <a:pt x="260" y="222"/>
                      <a:pt x="214" y="237"/>
                    </a:cubicBezTo>
                    <a:cubicBezTo>
                      <a:pt x="203" y="233"/>
                      <a:pt x="192" y="226"/>
                      <a:pt x="180" y="226"/>
                    </a:cubicBezTo>
                    <a:cubicBezTo>
                      <a:pt x="109" y="226"/>
                      <a:pt x="156" y="242"/>
                      <a:pt x="169" y="248"/>
                    </a:cubicBezTo>
                    <a:close/>
                  </a:path>
                </a:pathLst>
              </a:custGeom>
              <a:solidFill>
                <a:srgbClr val="ff0000"/>
              </a:solidFill>
              <a:ln cap="rnd" w="6480">
                <a:solidFill>
                  <a:srgbClr val="ff66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740000">
                <a:off x="5680440" y="4191120"/>
                <a:ext cx="838080" cy="1371600"/>
              </a:xfrm>
              <a:custGeom>
                <a:avLst/>
                <a:gdLst/>
                <a:ahLst/>
                <a:rect l="l" t="t" r="r" b="b"/>
                <a:pathLst>
                  <a:path w="869" h="1254">
                    <a:moveTo>
                      <a:pt x="169" y="248"/>
                    </a:moveTo>
                    <a:cubicBezTo>
                      <a:pt x="176" y="271"/>
                      <a:pt x="183" y="293"/>
                      <a:pt x="191" y="316"/>
                    </a:cubicBezTo>
                    <a:cubicBezTo>
                      <a:pt x="195" y="327"/>
                      <a:pt x="203" y="350"/>
                      <a:pt x="203" y="350"/>
                    </a:cubicBezTo>
                    <a:cubicBezTo>
                      <a:pt x="199" y="395"/>
                      <a:pt x="199" y="441"/>
                      <a:pt x="191" y="486"/>
                    </a:cubicBezTo>
                    <a:cubicBezTo>
                      <a:pt x="180" y="553"/>
                      <a:pt x="137" y="600"/>
                      <a:pt x="101" y="655"/>
                    </a:cubicBezTo>
                    <a:cubicBezTo>
                      <a:pt x="80" y="687"/>
                      <a:pt x="60" y="723"/>
                      <a:pt x="45" y="757"/>
                    </a:cubicBezTo>
                    <a:cubicBezTo>
                      <a:pt x="35" y="779"/>
                      <a:pt x="22" y="824"/>
                      <a:pt x="22" y="824"/>
                    </a:cubicBezTo>
                    <a:cubicBezTo>
                      <a:pt x="29" y="925"/>
                      <a:pt x="0" y="999"/>
                      <a:pt x="79" y="1050"/>
                    </a:cubicBezTo>
                    <a:cubicBezTo>
                      <a:pt x="99" y="1110"/>
                      <a:pt x="80" y="1076"/>
                      <a:pt x="158" y="1129"/>
                    </a:cubicBezTo>
                    <a:cubicBezTo>
                      <a:pt x="227" y="1176"/>
                      <a:pt x="314" y="1205"/>
                      <a:pt x="395" y="1220"/>
                    </a:cubicBezTo>
                    <a:cubicBezTo>
                      <a:pt x="414" y="1223"/>
                      <a:pt x="433" y="1226"/>
                      <a:pt x="451" y="1231"/>
                    </a:cubicBezTo>
                    <a:cubicBezTo>
                      <a:pt x="474" y="1237"/>
                      <a:pt x="519" y="1254"/>
                      <a:pt x="519" y="1254"/>
                    </a:cubicBezTo>
                    <a:cubicBezTo>
                      <a:pt x="542" y="1246"/>
                      <a:pt x="564" y="1239"/>
                      <a:pt x="587" y="1231"/>
                    </a:cubicBezTo>
                    <a:cubicBezTo>
                      <a:pt x="598" y="1227"/>
                      <a:pt x="621" y="1220"/>
                      <a:pt x="621" y="1220"/>
                    </a:cubicBezTo>
                    <a:cubicBezTo>
                      <a:pt x="659" y="1194"/>
                      <a:pt x="694" y="1177"/>
                      <a:pt x="722" y="1141"/>
                    </a:cubicBezTo>
                    <a:cubicBezTo>
                      <a:pt x="739" y="1120"/>
                      <a:pt x="752" y="1096"/>
                      <a:pt x="767" y="1073"/>
                    </a:cubicBezTo>
                    <a:cubicBezTo>
                      <a:pt x="775" y="1062"/>
                      <a:pt x="790" y="1039"/>
                      <a:pt x="790" y="1039"/>
                    </a:cubicBezTo>
                    <a:cubicBezTo>
                      <a:pt x="806" y="991"/>
                      <a:pt x="830" y="953"/>
                      <a:pt x="847" y="903"/>
                    </a:cubicBezTo>
                    <a:cubicBezTo>
                      <a:pt x="851" y="892"/>
                      <a:pt x="854" y="881"/>
                      <a:pt x="858" y="870"/>
                    </a:cubicBezTo>
                    <a:cubicBezTo>
                      <a:pt x="862" y="859"/>
                      <a:pt x="869" y="836"/>
                      <a:pt x="869" y="836"/>
                    </a:cubicBezTo>
                    <a:cubicBezTo>
                      <a:pt x="857" y="705"/>
                      <a:pt x="833" y="531"/>
                      <a:pt x="711" y="452"/>
                    </a:cubicBezTo>
                    <a:cubicBezTo>
                      <a:pt x="707" y="441"/>
                      <a:pt x="710" y="425"/>
                      <a:pt x="700" y="418"/>
                    </a:cubicBezTo>
                    <a:cubicBezTo>
                      <a:pt x="681" y="404"/>
                      <a:pt x="652" y="408"/>
                      <a:pt x="632" y="395"/>
                    </a:cubicBezTo>
                    <a:cubicBezTo>
                      <a:pt x="554" y="343"/>
                      <a:pt x="590" y="358"/>
                      <a:pt x="530" y="339"/>
                    </a:cubicBezTo>
                    <a:cubicBezTo>
                      <a:pt x="508" y="324"/>
                      <a:pt x="485" y="309"/>
                      <a:pt x="463" y="294"/>
                    </a:cubicBezTo>
                    <a:cubicBezTo>
                      <a:pt x="452" y="286"/>
                      <a:pt x="450" y="270"/>
                      <a:pt x="440" y="260"/>
                    </a:cubicBezTo>
                    <a:cubicBezTo>
                      <a:pt x="430" y="250"/>
                      <a:pt x="417" y="245"/>
                      <a:pt x="406" y="237"/>
                    </a:cubicBezTo>
                    <a:cubicBezTo>
                      <a:pt x="377" y="195"/>
                      <a:pt x="361" y="147"/>
                      <a:pt x="338" y="102"/>
                    </a:cubicBezTo>
                    <a:cubicBezTo>
                      <a:pt x="332" y="90"/>
                      <a:pt x="321" y="80"/>
                      <a:pt x="316" y="68"/>
                    </a:cubicBezTo>
                    <a:cubicBezTo>
                      <a:pt x="306" y="46"/>
                      <a:pt x="293" y="0"/>
                      <a:pt x="293" y="0"/>
                    </a:cubicBezTo>
                    <a:cubicBezTo>
                      <a:pt x="262" y="97"/>
                      <a:pt x="268" y="44"/>
                      <a:pt x="282" y="158"/>
                    </a:cubicBezTo>
                    <a:cubicBezTo>
                      <a:pt x="268" y="203"/>
                      <a:pt x="260" y="222"/>
                      <a:pt x="214" y="237"/>
                    </a:cubicBezTo>
                    <a:cubicBezTo>
                      <a:pt x="203" y="233"/>
                      <a:pt x="192" y="226"/>
                      <a:pt x="180" y="226"/>
                    </a:cubicBezTo>
                    <a:cubicBezTo>
                      <a:pt x="109" y="226"/>
                      <a:pt x="156" y="242"/>
                      <a:pt x="169" y="248"/>
                    </a:cubicBezTo>
                    <a:close/>
                  </a:path>
                </a:pathLst>
              </a:custGeom>
              <a:solidFill>
                <a:srgbClr val="ff0000"/>
              </a:solidFill>
              <a:ln cap="rnd" w="6480">
                <a:solidFill>
                  <a:srgbClr val="ff66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9380000">
                <a:off x="2556000" y="3428640"/>
                <a:ext cx="762120" cy="2614680"/>
              </a:xfrm>
              <a:custGeom>
                <a:avLst/>
                <a:gdLst/>
                <a:ahLst/>
                <a:rect l="l" t="t" r="r" b="b"/>
                <a:pathLst>
                  <a:path w="869" h="1254">
                    <a:moveTo>
                      <a:pt x="169" y="248"/>
                    </a:moveTo>
                    <a:cubicBezTo>
                      <a:pt x="176" y="271"/>
                      <a:pt x="183" y="293"/>
                      <a:pt x="191" y="316"/>
                    </a:cubicBezTo>
                    <a:cubicBezTo>
                      <a:pt x="195" y="327"/>
                      <a:pt x="203" y="350"/>
                      <a:pt x="203" y="350"/>
                    </a:cubicBezTo>
                    <a:cubicBezTo>
                      <a:pt x="199" y="395"/>
                      <a:pt x="199" y="441"/>
                      <a:pt x="191" y="486"/>
                    </a:cubicBezTo>
                    <a:cubicBezTo>
                      <a:pt x="180" y="553"/>
                      <a:pt x="137" y="600"/>
                      <a:pt x="101" y="655"/>
                    </a:cubicBezTo>
                    <a:cubicBezTo>
                      <a:pt x="80" y="687"/>
                      <a:pt x="60" y="723"/>
                      <a:pt x="45" y="757"/>
                    </a:cubicBezTo>
                    <a:cubicBezTo>
                      <a:pt x="35" y="779"/>
                      <a:pt x="22" y="824"/>
                      <a:pt x="22" y="824"/>
                    </a:cubicBezTo>
                    <a:cubicBezTo>
                      <a:pt x="29" y="925"/>
                      <a:pt x="0" y="999"/>
                      <a:pt x="79" y="1050"/>
                    </a:cubicBezTo>
                    <a:cubicBezTo>
                      <a:pt x="99" y="1110"/>
                      <a:pt x="80" y="1076"/>
                      <a:pt x="158" y="1129"/>
                    </a:cubicBezTo>
                    <a:cubicBezTo>
                      <a:pt x="227" y="1176"/>
                      <a:pt x="314" y="1205"/>
                      <a:pt x="395" y="1220"/>
                    </a:cubicBezTo>
                    <a:cubicBezTo>
                      <a:pt x="414" y="1223"/>
                      <a:pt x="433" y="1226"/>
                      <a:pt x="451" y="1231"/>
                    </a:cubicBezTo>
                    <a:cubicBezTo>
                      <a:pt x="474" y="1237"/>
                      <a:pt x="519" y="1254"/>
                      <a:pt x="519" y="1254"/>
                    </a:cubicBezTo>
                    <a:cubicBezTo>
                      <a:pt x="542" y="1246"/>
                      <a:pt x="564" y="1239"/>
                      <a:pt x="587" y="1231"/>
                    </a:cubicBezTo>
                    <a:cubicBezTo>
                      <a:pt x="598" y="1227"/>
                      <a:pt x="621" y="1220"/>
                      <a:pt x="621" y="1220"/>
                    </a:cubicBezTo>
                    <a:cubicBezTo>
                      <a:pt x="659" y="1194"/>
                      <a:pt x="694" y="1177"/>
                      <a:pt x="722" y="1141"/>
                    </a:cubicBezTo>
                    <a:cubicBezTo>
                      <a:pt x="739" y="1120"/>
                      <a:pt x="752" y="1096"/>
                      <a:pt x="767" y="1073"/>
                    </a:cubicBezTo>
                    <a:cubicBezTo>
                      <a:pt x="775" y="1062"/>
                      <a:pt x="790" y="1039"/>
                      <a:pt x="790" y="1039"/>
                    </a:cubicBezTo>
                    <a:cubicBezTo>
                      <a:pt x="806" y="991"/>
                      <a:pt x="830" y="953"/>
                      <a:pt x="847" y="903"/>
                    </a:cubicBezTo>
                    <a:cubicBezTo>
                      <a:pt x="851" y="892"/>
                      <a:pt x="854" y="881"/>
                      <a:pt x="858" y="870"/>
                    </a:cubicBezTo>
                    <a:cubicBezTo>
                      <a:pt x="862" y="859"/>
                      <a:pt x="869" y="836"/>
                      <a:pt x="869" y="836"/>
                    </a:cubicBezTo>
                    <a:cubicBezTo>
                      <a:pt x="857" y="705"/>
                      <a:pt x="833" y="531"/>
                      <a:pt x="711" y="452"/>
                    </a:cubicBezTo>
                    <a:cubicBezTo>
                      <a:pt x="707" y="441"/>
                      <a:pt x="710" y="425"/>
                      <a:pt x="700" y="418"/>
                    </a:cubicBezTo>
                    <a:cubicBezTo>
                      <a:pt x="681" y="404"/>
                      <a:pt x="652" y="408"/>
                      <a:pt x="632" y="395"/>
                    </a:cubicBezTo>
                    <a:cubicBezTo>
                      <a:pt x="554" y="343"/>
                      <a:pt x="590" y="358"/>
                      <a:pt x="530" y="339"/>
                    </a:cubicBezTo>
                    <a:cubicBezTo>
                      <a:pt x="508" y="324"/>
                      <a:pt x="485" y="309"/>
                      <a:pt x="463" y="294"/>
                    </a:cubicBezTo>
                    <a:cubicBezTo>
                      <a:pt x="452" y="286"/>
                      <a:pt x="450" y="270"/>
                      <a:pt x="440" y="260"/>
                    </a:cubicBezTo>
                    <a:cubicBezTo>
                      <a:pt x="430" y="250"/>
                      <a:pt x="417" y="245"/>
                      <a:pt x="406" y="237"/>
                    </a:cubicBezTo>
                    <a:cubicBezTo>
                      <a:pt x="377" y="195"/>
                      <a:pt x="361" y="147"/>
                      <a:pt x="338" y="102"/>
                    </a:cubicBezTo>
                    <a:cubicBezTo>
                      <a:pt x="332" y="90"/>
                      <a:pt x="321" y="80"/>
                      <a:pt x="316" y="68"/>
                    </a:cubicBezTo>
                    <a:cubicBezTo>
                      <a:pt x="306" y="46"/>
                      <a:pt x="293" y="0"/>
                      <a:pt x="293" y="0"/>
                    </a:cubicBezTo>
                    <a:cubicBezTo>
                      <a:pt x="262" y="97"/>
                      <a:pt x="268" y="44"/>
                      <a:pt x="282" y="158"/>
                    </a:cubicBezTo>
                    <a:cubicBezTo>
                      <a:pt x="268" y="203"/>
                      <a:pt x="260" y="222"/>
                      <a:pt x="214" y="237"/>
                    </a:cubicBezTo>
                    <a:cubicBezTo>
                      <a:pt x="203" y="233"/>
                      <a:pt x="192" y="226"/>
                      <a:pt x="180" y="226"/>
                    </a:cubicBezTo>
                    <a:cubicBezTo>
                      <a:pt x="109" y="226"/>
                      <a:pt x="156" y="242"/>
                      <a:pt x="169" y="248"/>
                    </a:cubicBezTo>
                    <a:close/>
                  </a:path>
                </a:pathLst>
              </a:custGeom>
              <a:solidFill>
                <a:srgbClr val="ff0000"/>
              </a:solidFill>
              <a:ln cap="rnd" w="6480">
                <a:solidFill>
                  <a:srgbClr val="ff66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220000">
                <a:off x="4689360" y="4343040"/>
                <a:ext cx="1143000" cy="1685880"/>
              </a:xfrm>
              <a:custGeom>
                <a:avLst/>
                <a:gdLst/>
                <a:ahLst/>
                <a:rect l="l" t="t" r="r" b="b"/>
                <a:pathLst>
                  <a:path w="869" h="1254">
                    <a:moveTo>
                      <a:pt x="169" y="248"/>
                    </a:moveTo>
                    <a:cubicBezTo>
                      <a:pt x="176" y="271"/>
                      <a:pt x="183" y="293"/>
                      <a:pt x="191" y="316"/>
                    </a:cubicBezTo>
                    <a:cubicBezTo>
                      <a:pt x="195" y="327"/>
                      <a:pt x="203" y="350"/>
                      <a:pt x="203" y="350"/>
                    </a:cubicBezTo>
                    <a:cubicBezTo>
                      <a:pt x="199" y="395"/>
                      <a:pt x="199" y="441"/>
                      <a:pt x="191" y="486"/>
                    </a:cubicBezTo>
                    <a:cubicBezTo>
                      <a:pt x="180" y="553"/>
                      <a:pt x="137" y="600"/>
                      <a:pt x="101" y="655"/>
                    </a:cubicBezTo>
                    <a:cubicBezTo>
                      <a:pt x="80" y="687"/>
                      <a:pt x="60" y="723"/>
                      <a:pt x="45" y="757"/>
                    </a:cubicBezTo>
                    <a:cubicBezTo>
                      <a:pt x="35" y="779"/>
                      <a:pt x="22" y="824"/>
                      <a:pt x="22" y="824"/>
                    </a:cubicBezTo>
                    <a:cubicBezTo>
                      <a:pt x="29" y="925"/>
                      <a:pt x="0" y="999"/>
                      <a:pt x="79" y="1050"/>
                    </a:cubicBezTo>
                    <a:cubicBezTo>
                      <a:pt x="99" y="1110"/>
                      <a:pt x="80" y="1076"/>
                      <a:pt x="158" y="1129"/>
                    </a:cubicBezTo>
                    <a:cubicBezTo>
                      <a:pt x="227" y="1176"/>
                      <a:pt x="314" y="1205"/>
                      <a:pt x="395" y="1220"/>
                    </a:cubicBezTo>
                    <a:cubicBezTo>
                      <a:pt x="414" y="1223"/>
                      <a:pt x="433" y="1226"/>
                      <a:pt x="451" y="1231"/>
                    </a:cubicBezTo>
                    <a:cubicBezTo>
                      <a:pt x="474" y="1237"/>
                      <a:pt x="519" y="1254"/>
                      <a:pt x="519" y="1254"/>
                    </a:cubicBezTo>
                    <a:cubicBezTo>
                      <a:pt x="542" y="1246"/>
                      <a:pt x="564" y="1239"/>
                      <a:pt x="587" y="1231"/>
                    </a:cubicBezTo>
                    <a:cubicBezTo>
                      <a:pt x="598" y="1227"/>
                      <a:pt x="621" y="1220"/>
                      <a:pt x="621" y="1220"/>
                    </a:cubicBezTo>
                    <a:cubicBezTo>
                      <a:pt x="659" y="1194"/>
                      <a:pt x="694" y="1177"/>
                      <a:pt x="722" y="1141"/>
                    </a:cubicBezTo>
                    <a:cubicBezTo>
                      <a:pt x="739" y="1120"/>
                      <a:pt x="752" y="1096"/>
                      <a:pt x="767" y="1073"/>
                    </a:cubicBezTo>
                    <a:cubicBezTo>
                      <a:pt x="775" y="1062"/>
                      <a:pt x="790" y="1039"/>
                      <a:pt x="790" y="1039"/>
                    </a:cubicBezTo>
                    <a:cubicBezTo>
                      <a:pt x="806" y="991"/>
                      <a:pt x="830" y="953"/>
                      <a:pt x="847" y="903"/>
                    </a:cubicBezTo>
                    <a:cubicBezTo>
                      <a:pt x="851" y="892"/>
                      <a:pt x="854" y="881"/>
                      <a:pt x="858" y="870"/>
                    </a:cubicBezTo>
                    <a:cubicBezTo>
                      <a:pt x="862" y="859"/>
                      <a:pt x="869" y="836"/>
                      <a:pt x="869" y="836"/>
                    </a:cubicBezTo>
                    <a:cubicBezTo>
                      <a:pt x="857" y="705"/>
                      <a:pt x="833" y="531"/>
                      <a:pt x="711" y="452"/>
                    </a:cubicBezTo>
                    <a:cubicBezTo>
                      <a:pt x="707" y="441"/>
                      <a:pt x="710" y="425"/>
                      <a:pt x="700" y="418"/>
                    </a:cubicBezTo>
                    <a:cubicBezTo>
                      <a:pt x="681" y="404"/>
                      <a:pt x="652" y="408"/>
                      <a:pt x="632" y="395"/>
                    </a:cubicBezTo>
                    <a:cubicBezTo>
                      <a:pt x="554" y="343"/>
                      <a:pt x="590" y="358"/>
                      <a:pt x="530" y="339"/>
                    </a:cubicBezTo>
                    <a:cubicBezTo>
                      <a:pt x="508" y="324"/>
                      <a:pt x="485" y="309"/>
                      <a:pt x="463" y="294"/>
                    </a:cubicBezTo>
                    <a:cubicBezTo>
                      <a:pt x="452" y="286"/>
                      <a:pt x="450" y="270"/>
                      <a:pt x="440" y="260"/>
                    </a:cubicBezTo>
                    <a:cubicBezTo>
                      <a:pt x="430" y="250"/>
                      <a:pt x="417" y="245"/>
                      <a:pt x="406" y="237"/>
                    </a:cubicBezTo>
                    <a:cubicBezTo>
                      <a:pt x="377" y="195"/>
                      <a:pt x="361" y="147"/>
                      <a:pt x="338" y="102"/>
                    </a:cubicBezTo>
                    <a:cubicBezTo>
                      <a:pt x="332" y="90"/>
                      <a:pt x="321" y="80"/>
                      <a:pt x="316" y="68"/>
                    </a:cubicBezTo>
                    <a:cubicBezTo>
                      <a:pt x="306" y="46"/>
                      <a:pt x="293" y="0"/>
                      <a:pt x="293" y="0"/>
                    </a:cubicBezTo>
                    <a:cubicBezTo>
                      <a:pt x="262" y="97"/>
                      <a:pt x="268" y="44"/>
                      <a:pt x="282" y="158"/>
                    </a:cubicBezTo>
                    <a:cubicBezTo>
                      <a:pt x="268" y="203"/>
                      <a:pt x="260" y="222"/>
                      <a:pt x="214" y="237"/>
                    </a:cubicBezTo>
                    <a:cubicBezTo>
                      <a:pt x="203" y="233"/>
                      <a:pt x="192" y="226"/>
                      <a:pt x="180" y="226"/>
                    </a:cubicBezTo>
                    <a:cubicBezTo>
                      <a:pt x="109" y="226"/>
                      <a:pt x="156" y="242"/>
                      <a:pt x="169" y="248"/>
                    </a:cubicBezTo>
                    <a:close/>
                  </a:path>
                </a:pathLst>
              </a:custGeom>
              <a:solidFill>
                <a:srgbClr val="ff0000"/>
              </a:solidFill>
              <a:ln cap="rnd" w="6480">
                <a:solidFill>
                  <a:srgbClr val="ff66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2160000">
                <a:off x="5744880" y="4723920"/>
                <a:ext cx="544680" cy="752760"/>
              </a:xfrm>
              <a:custGeom>
                <a:avLst/>
                <a:gdLst/>
                <a:ahLst/>
                <a:rect l="l" t="t" r="r" b="b"/>
                <a:pathLst>
                  <a:path w="343" h="666">
                    <a:moveTo>
                      <a:pt x="75" y="113"/>
                    </a:moveTo>
                    <a:cubicBezTo>
                      <a:pt x="111" y="260"/>
                      <a:pt x="0" y="596"/>
                      <a:pt x="210" y="666"/>
                    </a:cubicBezTo>
                    <a:cubicBezTo>
                      <a:pt x="230" y="660"/>
                      <a:pt x="266" y="651"/>
                      <a:pt x="278" y="632"/>
                    </a:cubicBezTo>
                    <a:cubicBezTo>
                      <a:pt x="291" y="612"/>
                      <a:pt x="293" y="587"/>
                      <a:pt x="301" y="565"/>
                    </a:cubicBezTo>
                    <a:cubicBezTo>
                      <a:pt x="309" y="541"/>
                      <a:pt x="327" y="521"/>
                      <a:pt x="335" y="497"/>
                    </a:cubicBezTo>
                    <a:cubicBezTo>
                      <a:pt x="327" y="380"/>
                      <a:pt x="343" y="340"/>
                      <a:pt x="289" y="260"/>
                    </a:cubicBezTo>
                    <a:cubicBezTo>
                      <a:pt x="277" y="223"/>
                      <a:pt x="250" y="186"/>
                      <a:pt x="222" y="158"/>
                    </a:cubicBezTo>
                    <a:cubicBezTo>
                      <a:pt x="158" y="93"/>
                      <a:pt x="217" y="183"/>
                      <a:pt x="154" y="102"/>
                    </a:cubicBezTo>
                    <a:cubicBezTo>
                      <a:pt x="110" y="46"/>
                      <a:pt x="115" y="50"/>
                      <a:pt x="97" y="0"/>
                    </a:cubicBezTo>
                    <a:cubicBezTo>
                      <a:pt x="67" y="46"/>
                      <a:pt x="62" y="59"/>
                      <a:pt x="75" y="113"/>
                    </a:cubicBezTo>
                    <a:close/>
                  </a:path>
                </a:pathLst>
              </a:custGeom>
              <a:solidFill>
                <a:srgbClr val="ff6600"/>
              </a:solidFill>
              <a:ln w="60480">
                <a:solidFill>
                  <a:srgbClr val="ff99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2280000">
                <a:off x="4716720" y="5082840"/>
                <a:ext cx="696960" cy="860400"/>
              </a:xfrm>
              <a:custGeom>
                <a:avLst/>
                <a:gdLst/>
                <a:ahLst/>
                <a:rect l="l" t="t" r="r" b="b"/>
                <a:pathLst>
                  <a:path w="343" h="666">
                    <a:moveTo>
                      <a:pt x="75" y="113"/>
                    </a:moveTo>
                    <a:cubicBezTo>
                      <a:pt x="111" y="260"/>
                      <a:pt x="0" y="596"/>
                      <a:pt x="210" y="666"/>
                    </a:cubicBezTo>
                    <a:cubicBezTo>
                      <a:pt x="230" y="660"/>
                      <a:pt x="266" y="651"/>
                      <a:pt x="278" y="632"/>
                    </a:cubicBezTo>
                    <a:cubicBezTo>
                      <a:pt x="291" y="612"/>
                      <a:pt x="293" y="587"/>
                      <a:pt x="301" y="565"/>
                    </a:cubicBezTo>
                    <a:cubicBezTo>
                      <a:pt x="309" y="541"/>
                      <a:pt x="327" y="521"/>
                      <a:pt x="335" y="497"/>
                    </a:cubicBezTo>
                    <a:cubicBezTo>
                      <a:pt x="327" y="380"/>
                      <a:pt x="343" y="340"/>
                      <a:pt x="289" y="260"/>
                    </a:cubicBezTo>
                    <a:cubicBezTo>
                      <a:pt x="277" y="223"/>
                      <a:pt x="250" y="186"/>
                      <a:pt x="222" y="158"/>
                    </a:cubicBezTo>
                    <a:cubicBezTo>
                      <a:pt x="158" y="93"/>
                      <a:pt x="217" y="183"/>
                      <a:pt x="154" y="102"/>
                    </a:cubicBezTo>
                    <a:cubicBezTo>
                      <a:pt x="110" y="46"/>
                      <a:pt x="115" y="50"/>
                      <a:pt x="97" y="0"/>
                    </a:cubicBezTo>
                    <a:cubicBezTo>
                      <a:pt x="67" y="46"/>
                      <a:pt x="62" y="59"/>
                      <a:pt x="75" y="113"/>
                    </a:cubicBezTo>
                    <a:close/>
                  </a:path>
                </a:pathLst>
              </a:custGeom>
              <a:solidFill>
                <a:srgbClr val="ff6600"/>
              </a:solidFill>
              <a:ln w="60480">
                <a:solidFill>
                  <a:srgbClr val="ff99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 rot="20340000">
              <a:off x="2916000" y="4509720"/>
              <a:ext cx="544320" cy="1056960"/>
            </a:xfrm>
            <a:custGeom>
              <a:avLst/>
              <a:gdLst/>
              <a:ahLst/>
              <a:rect l="l" t="t" r="r" b="b"/>
              <a:pathLst>
                <a:path w="343" h="666">
                  <a:moveTo>
                    <a:pt x="75" y="113"/>
                  </a:moveTo>
                  <a:cubicBezTo>
                    <a:pt x="111" y="260"/>
                    <a:pt x="0" y="596"/>
                    <a:pt x="210" y="666"/>
                  </a:cubicBezTo>
                  <a:cubicBezTo>
                    <a:pt x="230" y="660"/>
                    <a:pt x="266" y="651"/>
                    <a:pt x="278" y="632"/>
                  </a:cubicBezTo>
                  <a:cubicBezTo>
                    <a:pt x="291" y="612"/>
                    <a:pt x="293" y="587"/>
                    <a:pt x="301" y="565"/>
                  </a:cubicBezTo>
                  <a:cubicBezTo>
                    <a:pt x="309" y="541"/>
                    <a:pt x="327" y="521"/>
                    <a:pt x="335" y="497"/>
                  </a:cubicBezTo>
                  <a:cubicBezTo>
                    <a:pt x="327" y="380"/>
                    <a:pt x="343" y="340"/>
                    <a:pt x="289" y="260"/>
                  </a:cubicBezTo>
                  <a:cubicBezTo>
                    <a:pt x="277" y="223"/>
                    <a:pt x="250" y="186"/>
                    <a:pt x="222" y="158"/>
                  </a:cubicBezTo>
                  <a:cubicBezTo>
                    <a:pt x="158" y="93"/>
                    <a:pt x="217" y="183"/>
                    <a:pt x="154" y="102"/>
                  </a:cubicBezTo>
                  <a:cubicBezTo>
                    <a:pt x="110" y="46"/>
                    <a:pt x="115" y="50"/>
                    <a:pt x="97" y="0"/>
                  </a:cubicBezTo>
                  <a:cubicBezTo>
                    <a:pt x="67" y="46"/>
                    <a:pt x="62" y="59"/>
                    <a:pt x="75" y="113"/>
                  </a:cubicBezTo>
                  <a:close/>
                </a:path>
              </a:pathLst>
            </a:custGeom>
            <a:solidFill>
              <a:srgbClr val="ff6600"/>
            </a:solidFill>
            <a:ln w="60480">
              <a:solidFill>
                <a:srgbClr val="ff99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1480000">
              <a:off x="3708360" y="4941360"/>
              <a:ext cx="863640" cy="615960"/>
            </a:xfrm>
            <a:custGeom>
              <a:avLst/>
              <a:gdLst/>
              <a:ahLst/>
              <a:rect l="l" t="t" r="r" b="b"/>
              <a:pathLst>
                <a:path w="343" h="666">
                  <a:moveTo>
                    <a:pt x="75" y="113"/>
                  </a:moveTo>
                  <a:cubicBezTo>
                    <a:pt x="111" y="260"/>
                    <a:pt x="0" y="596"/>
                    <a:pt x="210" y="666"/>
                  </a:cubicBezTo>
                  <a:cubicBezTo>
                    <a:pt x="230" y="660"/>
                    <a:pt x="266" y="651"/>
                    <a:pt x="278" y="632"/>
                  </a:cubicBezTo>
                  <a:cubicBezTo>
                    <a:pt x="291" y="612"/>
                    <a:pt x="293" y="587"/>
                    <a:pt x="301" y="565"/>
                  </a:cubicBezTo>
                  <a:cubicBezTo>
                    <a:pt x="309" y="541"/>
                    <a:pt x="327" y="521"/>
                    <a:pt x="335" y="497"/>
                  </a:cubicBezTo>
                  <a:cubicBezTo>
                    <a:pt x="327" y="380"/>
                    <a:pt x="343" y="340"/>
                    <a:pt x="289" y="260"/>
                  </a:cubicBezTo>
                  <a:cubicBezTo>
                    <a:pt x="277" y="223"/>
                    <a:pt x="250" y="186"/>
                    <a:pt x="222" y="158"/>
                  </a:cubicBezTo>
                  <a:cubicBezTo>
                    <a:pt x="158" y="93"/>
                    <a:pt x="217" y="183"/>
                    <a:pt x="154" y="102"/>
                  </a:cubicBezTo>
                  <a:cubicBezTo>
                    <a:pt x="110" y="46"/>
                    <a:pt x="115" y="50"/>
                    <a:pt x="97" y="0"/>
                  </a:cubicBezTo>
                  <a:cubicBezTo>
                    <a:pt x="67" y="46"/>
                    <a:pt x="62" y="59"/>
                    <a:pt x="75" y="113"/>
                  </a:cubicBezTo>
                  <a:close/>
                </a:path>
              </a:pathLst>
            </a:custGeom>
            <a:solidFill>
              <a:srgbClr val="ff6600"/>
            </a:solidFill>
            <a:ln w="60480">
              <a:solidFill>
                <a:srgbClr val="ff99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5791320" y="3657600"/>
            <a:ext cx="228600" cy="228600"/>
          </a:xfrm>
          <a:prstGeom prst="ellipse">
            <a:avLst/>
          </a:prstGeom>
          <a:noFill/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3429000"/>
            <a:ext cx="15264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2819520"/>
            <a:ext cx="304920" cy="3045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4114800"/>
            <a:ext cx="152640" cy="2286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15000" y="449568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419112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1280" y="4419720"/>
            <a:ext cx="15264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81280" y="3048120"/>
            <a:ext cx="15264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81952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3440" y="91440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华文行楷"/>
              </a:rPr>
              <a:t>青蛙的故事告诉我们什么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青蛙的故事告诉我们什么？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们每个人身上，都免不了有一些根深蒂固的坏习惯，它们并不是突然形成的，而是随着时间的推移逐步养成，甚至我们自己都没有注意到它的存在。这无疑再次说明，有目的地生活是多么重要。我们完全可以选择改变某些不好的习惯，而培养一些良好的习惯。但是，更多时候，我们却选择了“不选择”，随波逐流，随遇而安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心！或许，你就是那只即将被煮熟的“冷水中的青蛙”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838080" y="304920"/>
            <a:ext cx="6172200" cy="6324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470000" y="762120"/>
            <a:ext cx="7596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我一定要让孩子上学！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85800" y="333360"/>
            <a:ext cx="8077320" cy="5229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066680" y="563868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一定要好好学习，我要走出去，我要改变家乡落后的面貌！我要让我的父母过上好日子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53308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9933"/>
                </a:solidFill>
                <a:latin typeface="Verdana"/>
              </a:rPr>
              <a:t>我一定要好好学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143000" y="304920"/>
            <a:ext cx="7620120" cy="61722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我们的小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84360" y="228600"/>
            <a:ext cx="7621560" cy="63691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80720" y="548640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我要走向世界！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0" y="0"/>
          <a:ext cx="9108720" cy="6857640"/>
        </p:xfrm>
        <a:graphic>
          <a:graphicData uri="http://schemas.openxmlformats.org/drawingml/2006/table">
            <a:tbl>
              <a:tblPr/>
              <a:tblGrid>
                <a:gridCol w="740520"/>
                <a:gridCol w="862560"/>
                <a:gridCol w="862200"/>
                <a:gridCol w="864000"/>
                <a:gridCol w="862920"/>
                <a:gridCol w="862560"/>
                <a:gridCol w="864000"/>
                <a:gridCol w="862920"/>
                <a:gridCol w="834120"/>
                <a:gridCol w="1492920"/>
              </a:tblGrid>
              <a:tr h="425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班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语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数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英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物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化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历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地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总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名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一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8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9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2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5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45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17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一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0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1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9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7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28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79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一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9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0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0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4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36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一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1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7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7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37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6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一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6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7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0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14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36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一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7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8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33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89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一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1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8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5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7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9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5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7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2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一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5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6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7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5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82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83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一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5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4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68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8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6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8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18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一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1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2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1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6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1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5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8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一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5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9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4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67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58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一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4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7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5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69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56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一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67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6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69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8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74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8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67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504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一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宋体"/>
                        </a:rPr>
                        <a:t>6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宋体"/>
                        </a:rPr>
                        <a:t>72.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6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宋体"/>
                        </a:rPr>
                        <a:t>8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宋体"/>
                        </a:rPr>
                        <a:t>69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6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年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3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7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7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55640" y="0"/>
            <a:ext cx="785484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28640" y="34286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教室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762120" y="304920"/>
            <a:ext cx="8001000" cy="49528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066680" y="5334120"/>
            <a:ext cx="6782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556272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些高中生在吃什么？他们在想什么？这两个同学在饭里找什么？他们中为什么没有少男少女的打情骂俏？正是在这里，走出了高达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的两院院士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就餐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762120" y="304920"/>
            <a:ext cx="8076960" cy="56451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547640" y="587700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睡觉前，再把今天学的功课看看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寝室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914400" y="457200"/>
            <a:ext cx="7467480" cy="51181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547640" y="58770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孩子的学费怎么办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838080" y="533520"/>
            <a:ext cx="7620120" cy="51051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042920" y="587700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我不能不上学！我要减轻父母的负担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17200" y="304920"/>
            <a:ext cx="17780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9933"/>
                </a:solidFill>
                <a:latin typeface="Verdana"/>
              </a:rPr>
              <a:t>打工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我们缺什么？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生于忧患，死于安乐。太舒适的环境是我们养成了贪图享受、不愿吃苦的坏毛病。高考是没有硝烟的战争，虽然不需要流血牺牲，但却需要付出汗水和辛劳。高中了，我们必须时时注意，时刻警醒，未雨绸缪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缺什么？责任心、吃苦精神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为了最后的微笑—挑战自我，开发自身潜力。今后的胜利，我们必须奋勇拼搏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机遇和鲜花只垂青于那些具有远大志向，奋勇拼搏的人。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成绩暂时落后的同学怎么办？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7543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三只青蛙掉进鲜奶桶中。第一只青蛙说：“这是命。”于是它盘起后腿，一动不动等待着死亡的降临。第二只青蛙说：“这桶看来太深了，凭我的跳跃能力，是不可能跳出去了。今天死定了。”于是，它沉入桶底淹死了。第三只青蛙打量着四周说：“真是不幸！但我的后腿还有劲，我要找到垫脚的东西，跳出这可怕的桶？”于是，这第三只青蛙一边划一边跳。慢慢地，鲜奶在它的搅拌下变成了奶油块。在奶油块的支撑下，运用牛顿第三定律，这只青蛙奋力一跃，终于跳出了奶桶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启示：今天不行我明天行，明天不行我后天行，最后胜利一定属于我们！前进才是硬道理，奋勇拼搏才是硬道理</a:t>
            </a:r>
            <a:r>
              <a:rPr b="1" lang="zh-CN" sz="2200" spc="-1" strike="noStrike">
                <a:solidFill>
                  <a:srgbClr val="ff0000"/>
                </a:solidFill>
                <a:latin typeface="Verdana"/>
              </a:rPr>
              <a:t> ，科学应考才是硬道理！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我们缺什么？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生于忧患，死于安乐。太舒适的环境是我们养成了贪图享受、不愿吃苦的坏毛病。高考是没有硝烟的战争，虽然不需要流血牺牲，但却需要付出汗水和辛劳。高中了，我们必须时时注意，时刻警醒，未雨绸缪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缺什么？责任心、吃苦精神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为了最后的微笑—挑战自我，开发自身潜力。今后的胜利，我们必须奋勇拼搏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机遇和鲜花只垂青于那些具有远大志向，奋勇拼搏的人。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、忠言逆耳利于行——成功者的忠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81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独学而无友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则孤陋而寡闻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81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、不喜欢老师的同学是很难进步的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81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、错误的概念和方法是非常顽固的，非一次校正就能改正的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81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、学习具有计划性规律性的同学会学得更好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81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、教室安静才能独立思考。限时练习才能提高效率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81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、心情愉快才能学得更好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81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、闲事闲话闲思是学习的大敌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81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、不要被失败吓倒，不要被胜利冲昏头脑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Verdana"/>
              </a:rPr>
              <a:t>如何营造正确的学习风气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、看小自己，做大事情。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从今以后不要说“重点班”这个字眼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摆正位置，放平心态，知耻而后勇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树立正气，杜绝不良思想的蔓延…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坚决打击上课、自修聊天无所事事的行为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严厉关注并处理课间疯闹乱窜的行为，尤其“出挑”的男女生言行举止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加强班级干部的监管力度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0920" y="260280"/>
            <a:ext cx="864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Verdana"/>
              </a:rPr>
              <a:t>全校前</a:t>
            </a:r>
            <a:r>
              <a:rPr b="1" lang="zh-CN" sz="4800" spc="-1" strike="noStrike">
                <a:solidFill>
                  <a:srgbClr val="ff0000"/>
                </a:solidFill>
                <a:latin typeface="Verdana"/>
              </a:rPr>
              <a:t>30</a:t>
            </a:r>
            <a:r>
              <a:rPr b="1" lang="zh-CN" sz="4800" spc="-1" strike="noStrike">
                <a:solidFill>
                  <a:srgbClr val="ff0000"/>
                </a:solidFill>
                <a:latin typeface="Verdana"/>
              </a:rPr>
              <a:t>名学生分布情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0" y="1052640"/>
          <a:ext cx="9036000" cy="5848200"/>
        </p:xfrm>
        <a:graphic>
          <a:graphicData uri="http://schemas.openxmlformats.org/drawingml/2006/table">
            <a:tbl>
              <a:tblPr/>
              <a:tblGrid>
                <a:gridCol w="1619280"/>
                <a:gridCol w="1152360"/>
                <a:gridCol w="1224000"/>
                <a:gridCol w="1081080"/>
                <a:gridCol w="1295640"/>
                <a:gridCol w="1295280"/>
                <a:gridCol w="136836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班级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（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（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（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（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（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（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0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（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（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一（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3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（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 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 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0" y="635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不去想是否能够成功，既然选择了远方，便只顾风雨兼程。”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不去想未来是平坦还是泥泞，只要热爱生命，一切，都在意料之中。”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0" y="692280"/>
          <a:ext cx="9144000" cy="6048360"/>
        </p:xfrm>
        <a:graphic>
          <a:graphicData uri="http://schemas.openxmlformats.org/drawingml/2006/table">
            <a:tbl>
              <a:tblPr/>
              <a:tblGrid>
                <a:gridCol w="1763640"/>
                <a:gridCol w="1368360"/>
                <a:gridCol w="863640"/>
                <a:gridCol w="863640"/>
                <a:gridCol w="865080"/>
                <a:gridCol w="935280"/>
                <a:gridCol w="936720"/>
                <a:gridCol w="863280"/>
                <a:gridCol w="684360"/>
              </a:tblGrid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班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最高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（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4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（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5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（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5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（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3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（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1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（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5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（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8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（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7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（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6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（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9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（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7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（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5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（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5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（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7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0" y="708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87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各班级分数段分布情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179280" y="2997360"/>
          <a:ext cx="8964720" cy="1888920"/>
        </p:xfrm>
        <a:graphic>
          <a:graphicData uri="http://schemas.openxmlformats.org/drawingml/2006/table">
            <a:tbl>
              <a:tblPr/>
              <a:tblGrid>
                <a:gridCol w="701640"/>
                <a:gridCol w="698400"/>
                <a:gridCol w="701640"/>
                <a:gridCol w="698760"/>
                <a:gridCol w="723960"/>
                <a:gridCol w="722160"/>
                <a:gridCol w="722160"/>
                <a:gridCol w="755640"/>
                <a:gridCol w="792360"/>
                <a:gridCol w="762120"/>
                <a:gridCol w="842760"/>
                <a:gridCol w="843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名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人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1809000" y="907920"/>
            <a:ext cx="55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</a:rPr>
              <a:t>全校共有</a:t>
            </a:r>
            <a:r>
              <a:rPr b="1" lang="zh-CN" sz="4800" spc="-1" strike="noStrike">
                <a:solidFill>
                  <a:srgbClr val="ff0000"/>
                </a:solidFill>
                <a:latin typeface="Verdana"/>
              </a:rPr>
              <a:t>750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</a:rPr>
              <a:t>名同学参加考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</a:rPr>
              <a:t>班级名次分布如下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Verdana"/>
              </a:rPr>
              <a:t>班级学风情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3640" y="1752480"/>
            <a:ext cx="856908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一、缺少浓烈的竞争氛围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上课不能集中精力，甚至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聊天讲话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、吃零食、睡觉，不能认真记笔记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自修课学习效率相当低，有些同学装模作样，没有目标，不能入境。（尤其没有老师的时候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课间很少有同学问问题（课堂上疑难题），热情不高，自修课借问题闲聊，效率大减…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Verdana"/>
              </a:rPr>
              <a:t>班级学风情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不能很好的支配课余时间（晚饭后读报课前），要在这个时间背诵文科或看理科例题公式或整理课堂笔记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课后作业应付了事，蒙混过关，不能严格要求自己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、不能很好的把握休息时间（午睡），使得自己学得很累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7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缺少自觉意识，自控能力差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Verdana"/>
              </a:rPr>
              <a:t>班级学风情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82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二、行为散漫随便，心态不稳定，杂念太多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学习重心偏移，把处理同学关系，交往放在第一位，甚至有的同学心理上有不好的想法，思想严重堕落（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谈恋爱、玩游戏、看课外书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）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课间乱窜，追逐打闹，没有学生的样子，甚至有不雅的动作，显得特别乱…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、自修课做完作业后没有目标，东一头西一头。无计划性、无紧迫感…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-609480" y="-704880"/>
            <a:ext cx="10693440" cy="7562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57200" y="1219320"/>
            <a:ext cx="8686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我们的不足之处在哪里呢？</a:t>
            </a:r>
            <a:endParaRPr b="0" lang="en-US" sz="24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02:10:43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2:45:38Z</dcterms:modified>
  <cp:revision>285</cp:revision>
  <dc:subject>主题班会课件(分28大类): http://shop62905894.taobao.com</dc:subject>
  <dc:title>主题班会课件(分28大类): http://shop62905894.taobao.com</dc:title>
</cp:coreProperties>
</file>