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0.gif" ContentType="image/gif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740A-0EF1-4F43-86DB-E3862BE1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53E0-FE33-4593-945B-02968A0A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103C-2308-4B74-98EC-BD722DC1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15DD-E078-4AF4-8E26-61F935128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6859-BC91-472E-B936-81C2EA77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9232-1576-4300-9DA5-26A00AB6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1944-C75A-4137-8F85-F1561348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5E97-BCE4-4E39-BAD8-6977EB2F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B1DC-C60D-4625-BDFB-1D97A2C9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43DB-0897-4E73-8537-5533D69D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3136-5C79-4AE6-81CF-E6634FA8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5A48-BE90-4402-88EB-F60E38E0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88A2-A2BE-4E34-9D2D-4BE6D1E60A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是一个人终身都必须做的事情。一个人能否成功，能否获得生活的幸福，在一定程度上取决于他的学习方法。而一个人的学习能力又取决于他从小养成的优良学习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28800" y="228600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好成绩是怎样锤炼出来的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4800600" cy="4191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09680" y="457200"/>
            <a:ext cx="693432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书山有路勤为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学海无涯苦做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名校学生的高三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152280"/>
            <a:ext cx="8305560" cy="37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河北衡水中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三餐时间一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早晨、中午起床一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以最后离开餐厅、寝室为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行走坐卧随身都带着书、本子、卡片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四候”，即候觉、候饭、候操、候厕，在等候的短暂时间内，也识记背诵。比如候操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人都在高声读背，场面震撼人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个零”，即课上零走神、课间零打闹、自习零抬头、个人零违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296280" cy="6972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228600"/>
            <a:ext cx="7315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江苏洋思中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哪段书当天不会背、哪道题没做完，是坚决不允许吃饭和睡觉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辽宁盘锦中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教育家魏书生教书的学校，每个学生每天必须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以上的日记或其它文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39625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这些硬性要求，对谁都要受点苦，甚至说受点罪。一句话，名校也是苦出来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2120" y="1676520"/>
            <a:ext cx="800100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在中国的当代，在应试日趋激烈的情况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苦学是成才的基本途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Arial"/>
              </a:rPr>
              <a:t>怎样才算苦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1174320"/>
            <a:ext cx="784872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一、绝对的学习时间要比别人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早晨到位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中午在教室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周六、周日活动时间能否利用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晚上躺在床上将白天学过的知识过电影，回忆梳理盘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cc3300"/>
                </a:solidFill>
                <a:latin typeface="方正粗圆简体"/>
                <a:ea typeface="方正粗圆简体"/>
              </a:rPr>
              <a:t>苦不苦，看时间利用的充分不充分。看时间的有效利用，不需要挑灯夜战，不需要心血来潮时再加班加点，更不需要打手电筒在被窝里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方正粗圆简体"/>
                <a:ea typeface="方正粗圆简体"/>
              </a:rPr>
              <a:t>习，按学校规定的作息时间充分利用就可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638680" y="380880"/>
            <a:ext cx="31514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316440"/>
            <a:ext cx="82296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二、当日事当日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纠错本、经典题本、札记本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记本每天都有新的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每天做完作业练习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背住理解的单词、语段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搞懂新的疑点、难点、易混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方正粗圆简体"/>
                <a:ea typeface="方正粗圆简体"/>
              </a:rPr>
              <a:t>做到“四不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不自欺欺人，不千方百计找借口，不轻易原谅自己，不叫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19920" y="1066680"/>
            <a:ext cx="2895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761280" y="687600"/>
            <a:ext cx="1452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三、专心致志，心无旁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上课不走神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平时无杂念，心绪宁静，能入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心猿意马，一门心思放在学习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方正粗圆简体"/>
                <a:ea typeface="方正粗圆简体"/>
              </a:rPr>
              <a:t>有压力才有动力，置之死地而后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方正粗圆简体"/>
                <a:ea typeface="方正粗圆简体"/>
              </a:rPr>
              <a:t>业精于勤荒于嬉，细节决定成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943600" y="380880"/>
            <a:ext cx="25146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888480"/>
            <a:ext cx="8915400" cy="51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四、有恒心，有韧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有炽热的报答父母之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有改变和掌握自己命运的坚定决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抵得住诱惑，耐得住寂寞，保持耻辱向善之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道题钻研不下来誓不罢休，高强度训练一次不应付，作业每次都写完，规范的做题步骤一步都不少，作文写字笔划坚决不出格，长期如一或不断改进。韧劲需要苦学苦练，严格自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方正粗圆简体"/>
              </a:rPr>
              <a:t>不怕苦苦一阵子，怕苦苦一辈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方正粗圆简体"/>
              </a:rPr>
              <a:t>千磨万击还坚劲，咬定青山不放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389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方法与学习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97160" y="1981080"/>
            <a:ext cx="383832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心中有理想，心中有追求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心中有足乐，便不以为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31520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676520" y="1981080"/>
            <a:ext cx="54864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3300"/>
                </a:solidFill>
                <a:latin typeface="Arial"/>
                <a:ea typeface="楷体_GB2312"/>
              </a:rPr>
              <a:t>高考状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3300"/>
                </a:solidFill>
                <a:latin typeface="Arial"/>
                <a:ea typeface="楷体_GB2312"/>
              </a:rPr>
              <a:t>谈学习心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641600" y="1981080"/>
            <a:ext cx="528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5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山东理科状元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孙林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457200"/>
            <a:ext cx="9144000" cy="44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睡前“七问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第一个问题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今天上课前都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准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好了吗？因为只有做了充分的课      前预习，才能在上课时跟上老师的思路，和老师同步进入角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第二个问题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今天在课堂上我与老师互动得如何？我主动参与了吗？我是今天的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主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第三个问题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从这堂课中，我在知识、能力、方法、技能、情感上有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收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四个问题：在课堂上我投入了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激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吗？有激情地学习，才是有兴趣的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第五个问题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今天的得与失在哪里？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善于总结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才能有所进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第六个问题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明天我还有哪些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任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第七个问题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今天我过得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快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吗？我们要学会享受学习，才能体会到学习的乐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78920" y="1905120"/>
            <a:ext cx="493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6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安徽文科状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曹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2520" y="0"/>
            <a:ext cx="8691480" cy="29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成功就在一千零一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在高二时，英语阅读和完形很薄弱，我订了一个计划，每天做两篇阅读、一篇完形，两个月后还是没起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位英语老师告诉我量变积累到一定程度才能引起质变，我静下心，继续按计划做，高三英语有明显突破，尤其是考试中完形基本上没有再错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想告诉大家的是即使你的成绩暂时不是很好，也千万别对自己绝望而放弃努力。大目标短时间内不能很快见效，但是你可以看到自己每天在努力，在完成每天制订的学习任务，距离成功又近了一步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基础差并不可怕，关键是要坚持不懈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可能走了一千步还没有看到成功，但是不要放弃，坚持不懈，你会发现，也许成功就在一千零一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717560" y="2209680"/>
            <a:ext cx="534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5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江西理科状元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傅必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533520"/>
            <a:ext cx="8763120" cy="30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给自己制订好学习计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计划有短期的和长期的，在开始任何学习前，我都会为自己制订一个周密的计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短期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比如刚才说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小时自习，分成若干段，每段时间做一科，小结或是做题，都一一计划好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长期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比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月看课本计划，用半个月看完一本课本，每天看几页，一天中的哪个时段看，都事先拿一张大白纸写下来，每天完成后都做好标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注意定期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制订学习计划是提高学习效率的一种好办法。有些同学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月时会深深地感觉到，自己怎么越练习越不会做，其实这是不注意小结造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第一轮复习，每周日下午放假，怎么利用这段时间呢？不是一味做题，也不是去彻底放松，而是复习一周的笔记和错题。按照复习的进度，差不多一周复习完一章，因此每周日成了很自然的“分水岭”。保持复习节奏，定期小结，才不会陷入题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到了第二轮时，我采取的是每半个月小结的节奏。看第一轮的笔记，总结第二轮大量练习的得失，是我在这个时间段小结的主旋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结就像是紧张练习中的“调味剂”，常常让我乐在其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61976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077320" cy="4114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1523880"/>
            <a:ext cx="883908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3300"/>
                </a:solidFill>
                <a:latin typeface="Arial"/>
                <a:ea typeface="楷体_GB2312"/>
              </a:rPr>
              <a:t>高考状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3300"/>
                </a:solidFill>
                <a:latin typeface="Arial"/>
                <a:ea typeface="楷体_GB2312"/>
              </a:rPr>
              <a:t>谈语数外学习方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心中有目标：做到坚定不移，不受周围事物的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《路曲心直》视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822320" y="1219320"/>
            <a:ext cx="511848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解题过程中很多同学因为找不到思路常常无从下笔。数学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无外乎两类：求解题和证明题。求解题让你求的是一个结果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证明题让你证明的是一个结论。我个人比较推祟这样一种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将已知条件列出来，看看能推出哪些结论，而这些结论又可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看作条件，再看看这些新的条件又能导出哪些新的结论，一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层，就像树干的分支一样，越来越多。既然可以顺向推导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同样也可以逆向推导。从你要求的结果或需要证明的问题出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看看需要哪些条件才能得出所要的结果，而要得到这些条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又需要哪些更多的条件，一层一层，反向思维。当树枝越伸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多时，最终会有两条交织在一起，此时题目也就迎刃而解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开始使用这种方法时，的确比较费时，但相当有效，待逐渐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练之后，往往能够一眼就看中问题的关键，迅速找到突破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73600" y="166680"/>
            <a:ext cx="56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湖北理科状元：朱师达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北京大学元培实验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70120" y="685800"/>
            <a:ext cx="522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科成绩：语文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9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、数学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、英语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1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、理综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1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610480" y="5791320"/>
            <a:ext cx="533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741240"/>
            <a:ext cx="79250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高考真题总结规律法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对于语文基础，例如字音、字形、成语，我是这样复习的：先做近十年此类型的高考真题，从中摸索出规律，了解高考在这方面考察什么内容，以怎样的形式考察，分析之后，再做全面的音形练习。例如按照《五年高考 三年模拟》上的知识清单练习，练完之后看看自己错了哪些，用红笔划出，专门记在一个小本子上，进行重点记忆。以后每隔几天看一遍，这样坚持下去，一些容易错的地方就会慢慢改正过来，而且记忆比较深刻。开始的时候可以隔两三天看一遍，三遍以后，就可以每隔一两个星期再翻看一遍，这样就不会遗忘。比如“节骨眼”这个词，很容易写成“结骨眼”；雷镇子的“镇”字，听起来很像是地震的“震”，但实际上却是镇子的“镇”；还有黄澄澄，听起来很像是橙色的“橙”，但实际上是三点水的“澄”字。这种方法贵在持之以恒，一定要坚持下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徽理科状元 耿泉　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88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考入：清华大学电子信息科学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科成绩：语文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、数学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4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、英语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8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、理综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4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1880" y="5562720"/>
            <a:ext cx="533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128916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文言文分类总结法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高考所选取的文言文虽来自课外，知识点却均出自课内。实词、虚词、句式、古今异义等，知识点零散，但如果善于分类，善于总结，并且活学活用，就一定能够“课内开花课外香”。由于没有古文的运用环境，很多同学对文言文都很陌生，读不顺，也背不熟。如何解决这个问题，一句话——靠平时的积累，课外时间可以多读一些文言小说，再者，重视课堂上的学习。高中文言文考查的方向主要集中在实词、虚词用法，文言句式，内容理解。在平时的学习中，就要注意分类总结，把课文中所涉及的知识点都记录下来，进行强化记忆。当你读到来自课外的一些文段时，就不会感觉陌生，词的用法都是一样的，联想平日所记的知识就能融会贯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049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湖北理科状元 朱师达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考入：北京大学元培实验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科成绩：语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数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英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理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1880" y="5410080"/>
            <a:ext cx="495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28916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日记训练法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作文可以通过记日记的方式来训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主要通过日记来练笔，把平时生活中发生的那些大事小事都以日记的形式记录下来，或者把日记写成读后感、观后感。比如看完一本书、一些杂志、某个电视节目，会有一些感受，那就写出来，记在日记本上。你平时经常写日记的话，写作文的思路往往来得很快，可以从平时的日记里获得很多素材，要是灵感一下子和日记契合上了，下笔就觉得不费事，写得顺畅，比较流利。我初高中都一直坚持记日记。我的日记除了记录日常生活中的一些事情及一些读后感、观后感外，有时也把一些名言警句、一些好文章摘抄到里面，可以激励自己，或者激发一下自己的创作灵感。长期这样记日记，对作文水平的提高有很大帮助。此外，我们也可以找一些和自己写作风格比较相近的范文，学习它们的长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2860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吉林文科状元 孙田宇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8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考入：北京大学光华管理学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科成绩：语文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、数学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、英语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8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、文综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　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534520" y="5562720"/>
            <a:ext cx="6094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73656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首先，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英语老师上课复习的重要内容和例句等作较详细的笔记，经常抽时间看笔记，把典型例句背下来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其次，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从初中到高中的书上的词组、常用词组、重要句型、重点词的搭配用法等做一系统的整理，尤其是动词、形容词的用法。这项工作的工作量比较大，但不要怕难，因为它是提高英语能力包括应试能力的一个非常有效的手段。整理完后你必须把它们读熟，能背下来效果更好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第三，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从初中到高中的课文全部背诵一遍。听起来吓人，但由于是已学过、读过，大部分背诵过，所以工作量并不算太大，背诵的目的是培养对外国语言的感应能力，即“语感”。一旦形成初步的语感，做题便比较得心应手了，正确率也比较稳定，这是一个有效的速成法，供大家参考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外，建议大家每天抽半小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好在早上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坚持读读背背课文、词组、习惯用法等，短期内可能看不出效果，坚持下来就会有明显的体会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最后，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语和语文一样要做相当数量的题，英语题也是比较容易重复出现的，要大量做题来适应各种题型。其中，完形填空和短文改错大都可以用上语感结合推断的办法加以解决。对于新出现的填单词的题型不少同学感到棘手，其实这主要是对单词的熟悉程度问题，你背过的课文和句型在这里会充分显示它的价值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440" y="120600"/>
            <a:ext cx="576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胡湛智</a:t>
            </a:r>
            <a:r>
              <a:rPr b="1" lang="zh-CN" sz="2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北京大学生命科学学院学生，贵州省高考理科状元</a:t>
            </a:r>
            <a:r>
              <a:rPr b="1" lang="zh-CN" sz="2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772400" y="5791320"/>
            <a:ext cx="8002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93160" y="304920"/>
            <a:ext cx="7035480" cy="62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语作文是比较容易得分的题型，占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之多。要想提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语作文水平，一方面背课文，另一方面可以从造句开始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逐步构造复杂的句子，再发展到写段落、篇章。还有一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办法，称为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ee Writing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每天抽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时间，任意写些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词句子，不要过多考虑什么通顺连贯，惟一的要求就是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停地写出单词来，这种方法成效快，可以试试。千万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防止用“翻译法”写作文，即先写中文底稿，再译为英文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不但费时，并且对英文水平的提高没有好处。我再向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介绍两个背单词的小经验，一是背单词要避免“拼字母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式的背法，而是尽量结合读音规则和音标来背；二是背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词最好放到句子、篇章等具体的语言环境中去背。前一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办法是背词的拼法，后一个则是背词的意义，同时要对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音标等做到心中有数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458200" y="5638680"/>
            <a:ext cx="685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-88560" y="0"/>
            <a:ext cx="1460160" cy="70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前程似锦，勇攀书山甘洒汗水放飞心中梦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志存高远，泛游学海竞逐群雄一朝金榜题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696440" cy="4114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04920" y="1905120"/>
            <a:ext cx="883908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3300"/>
                </a:solidFill>
                <a:latin typeface="Arial"/>
                <a:ea typeface="楷体_GB2312"/>
              </a:rPr>
              <a:t>高考状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3300"/>
                </a:solidFill>
                <a:latin typeface="Arial"/>
                <a:ea typeface="楷体_GB2312"/>
              </a:rPr>
              <a:t>谈理综学习方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8600" y="1066680"/>
            <a:ext cx="8381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理学习一定要自己动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动手把学过的公式，积累的结论推导一遍，借机熟悉公式及其适用条件，同时拥有了较强计算能力。如今年高考题，能量守恒，动量守恒方程大部分人都会列，后面就看计算。另外，还需我们自己动手总结几个典型模型，如：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绳拴小球做圆周运动，子弹打木块，单摆等等。还有通电杆在磁场中运动，带电粒子在复合场中运动等都需要较高的计算能力及分析能力，因此大家一定不能在平时偷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6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2007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年新疆理科状元　林佳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924680" y="5715000"/>
            <a:ext cx="790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600" y="0"/>
            <a:ext cx="82296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化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介于语文英语和数学物理之间，因为它既有许多要死记的东西，又需很灵活的思维方式。也许大家在做化学题时已经感受到了，其类型是较明显的。一章节有其代表性题目，一种类型的题有其特定的解法，抓住了这些，真正弄懂了，就万变不离其宗了。平时就要积累这种经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么，平时着重记什么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素、单质、化合物的特性，变化规律等。一言以蔽之，个性与共性。在这些基础上，最好能适当加深。其实就是觉得化学的学习不能只拘泥于课本，而应该尽可能地扩展知识空间。所谓“一览众山小”，那是登上了五岳之首的缘故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229600" y="5715000"/>
            <a:ext cx="84132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将目标化为行动 ： 目标要细化为日常生活 中具体的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视频《化目标为行动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48160" y="228600"/>
            <a:ext cx="5679360" cy="63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生物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科目不仅需要学习上课老师所讲的内容，另外，还要课后自己补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识，多读一些课外书，扩大自己的知识面，另外还要作适量的习题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最为重要的是对基础知识的掌握，基本概念的理解，最有效的记住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理解记忆和联想记忆的方法，一般，自己理解的知识，更有深刻的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，很清晰的思路，作习题是为了巩固概念，加深自己的映像，使得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己的知识更加的牢靠。一般，高二上学期的生物课，记忆性的东西较多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些都是最为基本的知识，你只要对基本的概念理解到为就可以了。而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半学期理论性的东西较多，不仅需要记忆，还要增加适量的习题，特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算概率的题目，还有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复制那几章，需要用作习题的方式来帮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解。高三时，要特别的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注重实验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注重实验的一般的研究角度和入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方法，分析误差的常规的方法，作适量的题目，对实验更加熟练，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实验的类型，但是，课本是很重要的，不要为作题而作题，还是要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归到课本上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582040" y="6019920"/>
            <a:ext cx="5619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219320" y="266688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3300"/>
                </a:solidFill>
                <a:latin typeface="Arial"/>
                <a:ea typeface="楷体_GB2312"/>
              </a:rPr>
              <a:t>身边的榜样谈学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习不懂就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的同学基础不好，学习过程中老是有不懂的问题，又羞于向人请教，结果是成绩越来越差。这时，唯一的方法是，向人请教，不懂的地方一定要弄懂，一点一滴地积累，才能进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视频《辩日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培养毅力，学会坚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应该再试一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个青年人把他的第一本小说《气球上的五星期》书稿寄到了出版社。过了一个星期，书稿被退了回来。他想了想，又将书稿寄给了另一家出版社。过了几天，书稿退了回来。他咬咬牙，又将书稿寄到第三家出版社……最后他寄了十六家出版社，被退回来了十六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十六次失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对于一位爱好文学的人来说，无疑是个致命的打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果然，他先是失望至极，继而拍案大怒，还一把将书稿扔进了火炉里，但在这样一个时刻，他的妻子把书稿抢了出来，还郑重地劝了他—句：“你应该再试一次。” —句话提醒了他。他冷静地想了想，决定再试—次。他第十七次把书稿寄了出去。果然，第十七位出版商看中了这本书，决定立即出版，而小说也果然—炮打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随着小说的热销，世界开始对他刮目相看，他成功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此成了闻名世界的大作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个青年人就是凡尔纳，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世纪法国作家，著名的科幻小说和冒险小说作家 ，曾写过《海底两万里》、《地心游记》等著名书籍，被称为“科学幻想之父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凡尔纳成功的原因是什么呢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显而易见，是坚持。而坚持的一个最常见的表现形式，就是勇敢地再试一次。是的，在许多时候，只要少试一次，胜利就会与你擦肩而过。既然如此，为什么不再试一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762120" y="1905120"/>
            <a:ext cx="7696080" cy="3124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科学方法伴我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541008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广西灵山中学　　檀业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高中系列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04:32:3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31:22Z</dcterms:modified>
  <cp:revision>2</cp:revision>
  <dc:subject>主题班会课件(分28大类): http://shop62905894.taobao.com</dc:subject>
  <dc:title>主题班会课件(分28大类): http://shop62905894.taobao.com</dc:title>
</cp:coreProperties>
</file>