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13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F802-5B3F-43E5-933F-1ECACCD1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1047-B091-42F8-AED2-1884927B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07B7-3C10-4950-9690-ACF9F24B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E1CF-103D-4DE2-A6FC-B6C35097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47E6-041C-4A2C-8FC3-2C1E5722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D601-1222-4323-A534-BCE09BAC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14EE-750C-4274-81F0-5BC497C9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1B3C-91E1-49A3-AEB6-6A6085E3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B57D-2A6C-4C28-B743-CBAAA381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0125-09A2-463A-9966-CFB87D1F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9DBD-56AE-40F7-B2AC-A191B0FA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54F4-4E84-4373-A536-D4567D4B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B594-6333-43C3-B09C-555F49FB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E1CA-302E-45EE-89B7-B931BAF5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BC08-8236-41F7-B120-70462F89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0721-3398-4A93-A8E9-6817693B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C7B3-8260-4F51-A740-C30E9747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92913-B592-4278-A0C3-B681DBBD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02B53-D390-4C39-9FCD-3971781A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3B4D9-35DD-47C7-87A3-4B76ECD7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D33A-2EBB-4832-8C76-50E27D4A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088CD-3499-48EF-AB23-3F48A0B0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0C68-AC55-4E95-BD8B-ED731A4F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E4670-FC20-4586-A0EE-BA801800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53A4-0453-48DE-81B5-E2A38B2A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C548-C6FB-4A3A-A462-7ED6ABE3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B1E6C-274B-43D4-91CB-707E24B7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A38E-A606-4871-A312-4C93149F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CFE2-3900-47B4-B676-F3F1E28E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DA7A7-A1D3-4868-AABA-9542EB4D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6B7B4-D40B-4A5D-B11D-948375AB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7F6ED-8DB5-4BB1-B672-EE17EF25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F1FD3-0873-45FD-BF40-D34E628D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D7618-ED1A-4A83-8659-116A6D23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58670-4364-4C77-BAE8-97E086CA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DB045-ADF3-4646-AC08-68D967BC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0AA6A-9FA9-4EED-B410-FC380789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9A27F-9F6E-4FE0-BF64-901513A2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E2E89-DD6A-47C8-91D7-E510A252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37741-B086-483E-8F6C-D2D3169E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8DC40-85BE-4F50-9F51-012D0126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A5E8F-1601-4465-ACC6-D547C44F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8F7526-E226-47CC-B284-CB31B7E1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85091-B52E-4A99-B502-1B10BFA4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1A5C-3B48-4C12-A839-EB74B81A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666A5-7087-4F74-8ABB-683BD9C2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D1512-8A59-4BDF-9E3E-E87CC4B2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64A1A-128B-4896-AA26-572C7B75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589BA-C67B-48DD-B0F6-08317684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4B6FC-3F06-4E6C-A99E-4650235C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E893B-DFEA-4BD1-9FBC-FA608CB0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BC6A6-9D72-4DB5-976E-104D5E77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2D0D-A7E4-441A-8662-5EE07BC2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BE84A-3384-4B0B-9737-B89B68B1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E1391-AFCE-47DC-952C-CFF731F5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8C6B-D1F0-4689-B8D8-4726D5BF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A298D-7977-4905-BA6D-838F6B17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84F6-4F94-4D1E-BC00-F0A6B9C8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25419-0470-4AFF-A1AD-A1D61FF8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5B8E2-E884-4045-A6E6-28962E13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61C8D-C19E-4D36-9F3E-B05C8869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D3D16-0DC9-4724-A505-999FCF0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89F24-E32E-40C3-AF2E-4367F6F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A747B-FB52-4E00-AB7E-763BD1E2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3D2C6-53C0-4AA8-911D-8D74195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C04FB-A7C8-4C65-ADEF-1FA7458F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83C1-54BE-42AD-9FCB-028D1E40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962C9-C972-499B-93A3-CE44B8DA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B9810-0C5B-4629-935B-E0E5B5BB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B283E-6BC3-4F61-BE96-92D24DF4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E255-5F43-44BC-940D-FC6F602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F693-E0FA-484D-A79D-9625CCCF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60F8-2EF9-46F7-A7F5-5DF853FE84BA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A648-C449-468C-8EC0-F383984DF08F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D2D2-F3F3-49F3-A989-FD8416C128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8301-7CE7-4FA3-94DE-3F20822332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0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2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3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5809-96CB-422F-9403-A3DB6F9BF993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1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2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AFCA-D3C5-472B-AD60-497573E54909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048120" y="44956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5b781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623520" y="6629400"/>
            <a:ext cx="358560" cy="36684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7315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1371600" y="2743200"/>
            <a:ext cx="7315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Knowledge    is     pow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9880" y="495288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－－主题班会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3" name=""/>
          <p:cNvSpPr/>
          <p:nvPr/>
        </p:nvSpPr>
        <p:spPr>
          <a:xfrm>
            <a:off x="441360" y="6270480"/>
            <a:ext cx="9540720" cy="366840"/>
          </a:xfrm>
          <a:prstGeom prst="rect">
            <a:avLst/>
          </a:prstGeom>
          <a:solidFill>
            <a:srgbClr val="2f1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080" y="657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2760" y="6575400"/>
            <a:ext cx="9693360" cy="366840"/>
          </a:xfrm>
          <a:prstGeom prst="rect">
            <a:avLst/>
          </a:prstGeom>
          <a:solidFill>
            <a:srgbClr val="2f1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2760" y="6880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9080" y="657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1360" y="6804000"/>
            <a:ext cx="9312120" cy="366840"/>
          </a:xfrm>
          <a:prstGeom prst="rect">
            <a:avLst/>
          </a:prstGeom>
          <a:solidFill>
            <a:srgbClr val="2f1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609480"/>
            <a:ext cx="822960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识就是力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609480" y="-228600"/>
            <a:ext cx="1051560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5029200" y="3808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甲、春风、裁缝、当机立断（猜一个与四个词语都有关的词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44197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Tahoma"/>
              </a:rPr>
              <a:t>剪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906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ahoma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-1066680" y="-228600"/>
            <a:ext cx="10744200" cy="7315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029200" y="380880"/>
            <a:ext cx="358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唱三叹”中的“叹”字本义是：（ 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．叹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．赞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．附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．叹服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9f9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762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ahoma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4800600" y="45720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古代楷书四大家哪一位不是唐朝人而是元朝人</a:t>
            </a: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?( 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欧阳询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柳公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颜真卿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df9f9"/>
                </a:solidFill>
                <a:latin typeface="黑体"/>
                <a:ea typeface="黑体"/>
              </a:rPr>
              <a:t>赵孟頫</a:t>
            </a:r>
            <a:r>
              <a:rPr b="1" lang="zh-CN" sz="1800" spc="-1" strike="noStrike">
                <a:solidFill>
                  <a:srgbClr val="fdf9f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10280" y="20574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9f9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15000" y="5562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85800" y="1295280"/>
            <a:ext cx="33526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书时眼睛距离课本大约是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 )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左右。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厘米 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厘米   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. 2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400800" y="6019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ahoma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心有灵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  </a:t>
            </a:r>
            <a:r>
              <a:rPr b="0" lang="zh-CN" sz="3200" spc="-1" strike="noStrike" u="sng">
                <a:solidFill>
                  <a:srgbClr val="f0b854"/>
                </a:solidFill>
                <a:uFillTx/>
                <a:latin typeface="Arial"/>
                <a:hlinkClick r:id="rId3" action="ppaction://hlinksldjump"/>
              </a:rPr>
              <a:t>蔬果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  </a:t>
            </a:r>
            <a:r>
              <a:rPr b="0" lang="zh-CN" sz="32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动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</a:t>
            </a:r>
            <a:r>
              <a:rPr b="0" lang="zh-CN" sz="3200" spc="-1" strike="noStrike" u="sng">
                <a:solidFill>
                  <a:srgbClr val="f0b854"/>
                </a:solidFill>
                <a:uFillTx/>
                <a:latin typeface="Arial"/>
                <a:hlinkClick r:id="rId5" action="ppaction://hlinksldjump"/>
              </a:rPr>
              <a:t>日常用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</a:t>
            </a:r>
            <a:r>
              <a:rPr b="0" lang="zh-CN" sz="32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体育项目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-380880" y="0"/>
            <a:ext cx="9524880" cy="77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苹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黄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草莓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通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南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雪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桃子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白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榴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9f9"/>
                </a:solidFill>
                <a:latin typeface="Tahoma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-152640" y="0"/>
            <a:ext cx="8994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猴子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老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老鼠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蜻蜓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飞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鹦鹉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狮子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                                                  </a:t>
            </a:r>
            <a:r>
              <a:rPr b="0" lang="zh-CN" sz="3200" spc="-1" strike="noStrike">
                <a:solidFill>
                  <a:srgbClr val="fdf9f9"/>
                </a:solidFill>
                <a:latin typeface="Arial"/>
              </a:rPr>
              <a:t>猫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934320" y="3808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9f9"/>
                </a:solidFill>
                <a:latin typeface="Tahoma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-228600" y="457200"/>
            <a:ext cx="9677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毛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热水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保温瓶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签字笔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床单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空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灭蚊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灯泡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涂改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10280" y="457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ahoma"/>
              </a:rPr>
              <a:t>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-304920" y="-360"/>
            <a:ext cx="975384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跳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羽毛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网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射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自由操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跳高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竞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马术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三级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438280" y="1143000"/>
            <a:ext cx="6248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轻松一刻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欣赏小品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&lt;&lt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货文凭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 rot="5400000">
            <a:off x="5562360" y="2057400"/>
            <a:ext cx="4419720" cy="1676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行楷"/>
              </a:rPr>
              <a:t>知识问答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-914400" y="-228600"/>
            <a:ext cx="1135368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28600" y="2362320"/>
            <a:ext cx="6781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     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知识竞赛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04920" y="457200"/>
            <a:ext cx="3809880" cy="552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 Black"/>
              </a:rPr>
              <a:t>游戏规则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第一环节为必答环节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每组需答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小题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每题限时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分钟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答对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题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10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分，答错不倒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第二环节为抢答题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答对一题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10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分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答错倒扣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5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分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每人最多只可抢答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 Black"/>
              </a:rPr>
              <a:t>最高分的组组员均可获得特别奖励一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80880" y="4191120"/>
            <a:ext cx="9144000" cy="2438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游戏规则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游戏分四个小组和三个环节进行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第一环节为普通问答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答对一题得两分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);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第二环节为风险问答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答对得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答错倒扣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);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第三环节为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心有灵犀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"(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猜对一个得一分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);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游戏结束后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得分最高的小组可获得奖励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             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-380880" y="-838080"/>
            <a:ext cx="9753480" cy="7696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 rot="5400000">
            <a:off x="-1181160" y="2171520"/>
            <a:ext cx="4952880" cy="10666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普通问答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-228600" y="-685800"/>
            <a:ext cx="9524880" cy="7543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495680" y="106668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5335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228600"/>
            <a:ext cx="4952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我国第一位女诗人是（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Ａ．许穆夫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Ｂ．杜秋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Ｃ．李清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Ｄ．苏小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0400" y="4952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df9f9"/>
                </a:solidFill>
                <a:latin typeface="Tahoma"/>
              </a:rPr>
              <a:t>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844800"/>
            <a:ext cx="4495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古代常用“沉鱼落雁，闭月羞花”形容女子，“闭月”是指（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Ａ．貂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Ｂ．杨玉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Ｃ．王昭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9f9"/>
                </a:solidFill>
                <a:latin typeface="Tahoma"/>
              </a:rPr>
              <a:t>Ｄ．西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666880" y="685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df9f9"/>
                </a:solidFill>
                <a:latin typeface="Tahoma"/>
              </a:rPr>
              <a:t>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-1295280" y="-1143000"/>
            <a:ext cx="11201400" cy="8610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495680" y="106668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19720" y="380880"/>
            <a:ext cx="419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最早使用“中国”一词的朝代是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(  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唐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北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汗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．西周</a:t>
            </a:r>
            <a:r>
              <a:rPr b="0" lang="zh-CN" sz="3600" spc="-1" strike="noStrike">
                <a:solidFill>
                  <a:srgbClr val="66ff66"/>
                </a:solidFill>
                <a:latin typeface="方正姚体"/>
                <a:ea typeface="方正姚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20120" y="1143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2133720"/>
            <a:ext cx="3809880" cy="3504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＂知识就是力量＂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出自（　）的哲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学名著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Ａ．高尔基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Ｂ．鲁迅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Ｃ．培根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Ｄ．列宁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505320" y="35053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Ｃ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-685800" y="-990720"/>
            <a:ext cx="10210680" cy="83822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495680" y="106668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838080"/>
            <a:ext cx="441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战国之前“百姓”是对什么人的总称？（ 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奴隶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平民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贵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乐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22096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733920" y="2286000"/>
            <a:ext cx="51051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世界上最大的图书馆是（　）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Ａ．中国国家图书馆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Ｂ．美国国家图书馆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Ｃ．英国国家图书馆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Ｄ．日本国家图书馆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29600" y="32004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Ｂ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-914400" y="-228600"/>
            <a:ext cx="10287000" cy="73152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495680" y="106668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304920"/>
            <a:ext cx="4190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我国现存最古老的城是（　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Ａ．北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Ｂ．苏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Ｃ．天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Ｄ．开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600200"/>
            <a:ext cx="213336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6248520"/>
            <a:ext cx="825480" cy="3045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533520" y="3352680"/>
            <a:ext cx="3733560" cy="297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＂出水芙蓉＂的本意是指（　）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Ａ．雨后的荷花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Ｂ．含苞欲放的荷花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Ｃ．雨中的荷花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Ｄ．盛开的荷花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33920" y="4038480"/>
            <a:ext cx="609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013436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124080" y="5638680"/>
            <a:ext cx="2743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2f1311"/>
                  </a:solidFill>
                  <a:miter/>
                </a:ln>
                <a:solidFill>
                  <a:srgbClr val="2f131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风险问答</a:t>
            </a:r>
            <a:endParaRPr b="1" lang="en-US" sz="1800" spc="1" strike="noStrike">
              <a:ln w="12600">
                <a:solidFill>
                  <a:srgbClr val="2f1311"/>
                </a:solidFill>
                <a:miter/>
              </a:ln>
              <a:solidFill>
                <a:srgbClr val="2f131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7621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f9f9"/>
                </a:solidFill>
                <a:latin typeface="Tahoma"/>
              </a:rPr>
              <a:t>猜词        成语       书法          识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3:12:20Z</dcterms:modified>
  <cp:revision>21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