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89C-151E-4E8B-8CE6-F389AB06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4D5-27C9-4362-87C8-1FDDC5DA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530-D829-463E-A36A-7191905A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B0D-FF5D-47D1-9D57-C422BC4D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683-41DB-4B0D-9B87-59E388F4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6FC-F53D-4599-B511-4CD6328E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909-708E-47A1-9DFC-5D835248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149-B90A-4227-8437-D906E8BC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93B-8739-422D-912D-7D701634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9D6-0EC3-47DB-8113-973F156E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F89-A609-4156-89AF-CBE7D72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F22-FF26-4C1B-AE67-2A49088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817D-79A3-4CC4-9288-0E7B0B8667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2290680"/>
            <a:ext cx="3961080" cy="2276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332000" y="836640"/>
            <a:ext cx="6286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如何培养自己的兴趣爱好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4292640"/>
            <a:ext cx="5185080" cy="76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050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班主题班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所以，人的兴趣应该是多方面的：有工作的兴趣，学习的兴趣，还有玩耍的兴趣，业余享受的兴趣，各种各样放松自己和使自己回归生活自然状态的兴趣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2421000"/>
            <a:ext cx="8280360" cy="2397960"/>
          </a:xfrm>
          <a:prstGeom prst="rect">
            <a:avLst/>
          </a:prstGeom>
          <a:blipFill rotWithShape="0">
            <a:blip r:embed="rId2">
              <a:alphaModFix amt="9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我欣赏是培养自己兴趣的一个方法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欣赏他人是培养他人兴趣的一个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你说说你的一个兴趣爱好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84360" y="2565000"/>
            <a:ext cx="4391280" cy="2087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cc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是如何形成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讲讲你的感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广泛的兴趣是一个人魅力的光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</a:rPr>
              <a:t>如果你已经有兴趣了，你现在的任务就是提高兴趣。比如你现在数学很好，对数学很有兴趣，要进一步提高自己的兴趣。你语文很好，对语文有兴趣，再提高自己的兴趣。外语很好，喜欢外语，将来想当外语老师，还是要继续提高自己的兴趣。提高兴趣会使得你更加提高自己的学习效率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不仅要提高已有的兴趣，还要扩大自己的兴趣范围。一个学生只喜欢一门功课太单一，在生活中只喜欢一件事情也太单一。所以，提高兴趣是提高已有的兴趣，扩大兴趣是占领自己兴趣还没有占有的领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332000" y="1197000"/>
            <a:ext cx="73436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兴趣是一个法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兴趣是一个手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兴趣是一个武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兴趣可以攻破很多方方面面的堡垒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指挥自己要用兴趣来指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调动自己要用兴趣来调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62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培养兴趣是使自己成功的一个特别重要的法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2781360"/>
            <a:ext cx="576108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、你的兴趣爱好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、闲暇时间喜欢做点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心而自然地培养自己的兴趣 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280656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兴趣都是和人的个性相关的，但是因为生活所迫，你要干一些离自己兴趣特别远的事情。比如说你喜欢写小说，但是你只能去搞建筑。如果为了干一件事，就去培养这方面的兴趣，我觉得这样说比较牵强。如果一个人对所干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事全是很有兴趣，我觉得这个人可能有点肤浅，甚至可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63640" y="2256480"/>
            <a:ext cx="590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在生活中我有些事情是有兴趣、自然而然想做的，爱好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生活中还有一些事情我不一定有兴趣，可是必须去做的。这两件事不是一件事。如果我有意培养兴趣，就显得不自然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同学们要知道，你对某些事情有兴趣，实际上是环境对你的培养，而不是生下来就有的。人生下来就有的兴趣，只有吃奶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以前发现过狼孩，一个婴儿生下来就被狼叼走，成为狼孩，十四岁时又被捡了回来，他没有属于人类的那些兴趣：他不喜欢看书，不喜欢看电视，也不喜欢游戏机，还不喜欢用筷子、用刀叉，训练了几年以后，他还是要用手直接抓肉吃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说明兴趣是被环境培养的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1810080"/>
            <a:ext cx="64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你自然而然喜欢足球时，你可能不知道，你的爱好是被足球的文化、足球的电视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足球的爱好者、足球的报纸渲染和培养成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是另外一个人从来没有接触过足球文化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足球电视、足球新闻、足球场面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就可能不爱好足球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92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当我们长大了，当我们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已经逐渐形成一个天然的兴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趣范围，一个比较成功的人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应该怎么做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125360"/>
            <a:ext cx="8642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第一，审查自己的兴趣。对有害的兴趣，不应该听之任之，要割除掉。如果你从小生活在一个赌博成风的家庭里，你有赌博的兴趣，抽烟的兴趣，你是不是应该听之任之呢？要去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第二，如果你现在没有学习的兴趣，比如你特别没有学习理科的兴趣，或者特别没有学习文科的兴趣，我就会鼓励你全面发展，培养兴趣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第三，刚才那位同学讲的话里有一个真理：培养兴趣和自己做的事情之间的关系，如何让它取一个自然状态。而不是生硬地让所有的兴趣都是为了学习、为了工作才去培养的。如果一个人没有一点工作、学习之外的、功利主义之外的那种自然而然的爱好，也是很糟糕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55:03Z</dcterms:modified>
  <cp:revision>5</cp:revision>
  <dc:subject>主题班会课件(分28大类): http://shop62905894.taobao.com</dc:subject>
  <dc:title>主题班会课件(分28大类): http://shop62905894.taobao.com</dc:title>
</cp:coreProperties>
</file>