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8DE-5DFB-4353-8DF9-08BDAF3B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2C7-DE08-4560-9A57-34BB638A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B99-3E64-4EEA-99E7-6DBA5543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58D-62A3-49E2-AE1A-D08EC30F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9009-825A-4585-B3AC-A6046338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DCB3-47A4-414D-A741-139F9F9B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E81E-AA2C-4138-95A6-9FF88B07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9777-9283-42E6-9B0B-D8B3A70A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D276-A33F-4444-BA36-DCB819CE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E0CD-8510-49EB-9C61-87AA162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DD2A-9A60-40FA-81F4-F61A5FD9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DB2-4EE2-40E3-9D6E-17515D3D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5A72-659F-44C5-BB73-2D4A5FA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AFAB-4F02-488C-8CC8-ECB28260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3654-5AE5-4938-8B02-DF4954F5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F0C1-672C-4D15-9E1F-7827E9C7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6D54-B58B-4048-8A0C-49F433F2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F726-9103-4CBC-9B28-241A18F7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C0E56-6851-4DCF-8724-0B1125AB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9D43-166B-4B30-AAEA-506A1CB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8A37-07E1-4BEE-B27E-CFDC073E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B0A2-4EC0-4FAE-8244-7A5D4D4F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E69-B60D-4C9F-ABA3-428A525C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6CE6-056D-46E2-8A97-E93DD369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8576-10AF-45A2-978F-1851D016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2C1A-7A9E-455D-B1D4-98AB40A6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2322-2312-44A4-BA49-BC76F4DF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A680-0A44-4187-ABFB-254BDF57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6BF0-C500-44F8-AA2F-71433B89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193BB-35BC-4D74-B59C-4190A59E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0AD64-0724-476F-9417-CC2203AB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893D-C5F3-4F84-B46D-3E246858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92BC-2756-4482-897B-F61703DD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A0C-D24C-43B0-8C25-8E9504BC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DC83C-168D-455F-B656-25AC36F0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D06D2-A25C-4690-8D0E-A7858BBF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3415-906C-4327-8442-560C55EF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96937-7650-4BE9-A07E-401FE64D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6B6EF-37BB-4873-8629-57EB37F2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FCF57-BC4A-46E3-8754-5ACE0BFB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2EE1-76BA-4EBA-9A7F-83A27DA2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B50E-6A0E-442A-90AF-65EE46E6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6EB1-911E-4616-A486-F31BB2F6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9BE-24C0-4063-A194-F6042EF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F2F-4267-40D4-866F-E40FC8B9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07B-1FF8-435F-844F-B8CBBCCA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DEA-3F4C-4986-89EB-C7EB4A7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E5C-3FD6-49CE-9D40-C67BDD95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480"/>
            <a:chOff x="0" y="4206960"/>
            <a:chExt cx="9166320" cy="28504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9EC8-E384-48F0-898F-3981EE797B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3920"/>
            <a:chOff x="0" y="533520"/>
            <a:chExt cx="9177480" cy="65239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8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B11D-FB1F-443A-B892-2679ABE0EF0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47B4-E5DE-4D63-95B8-44C57E8591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2BA3-36D0-447A-AF07-133EB5F38E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673000" y="5300640"/>
            <a:ext cx="43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高二（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15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班主题班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2637000"/>
            <a:ext cx="67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战严寒磨意志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创期末辉煌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苦不苦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,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想想家中的父母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累不累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,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想想自己后半辈</a:t>
            </a:r>
            <a:r>
              <a:rPr b="0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549360"/>
            <a:ext cx="84963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同学们，</a:t>
            </a: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内驱力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是根本，</a:t>
            </a: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意志力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是保证，</a:t>
            </a: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注意力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是关键，有了它们，严寒和其他一切困难也仅仅是与我们做 伴，甚至会更让我们发扬梅花的精神，将严寒和其他一切困难踩于脚下，我们定将昂首向前，与效率同行，共同铸就和收获期末考试的成绩与辉煌，共同欢庆你和我和夏邑一高又一个春天的到来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00000" y="38530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相信自己是最优秀的，相信自己是最努力的。坚信自己成功的人，已经成功了一半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979640" y="1125360"/>
            <a:ext cx="4800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相信自己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5640" y="22050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积极的人，像太阳，照到哪里哪里亮；消极的人，像月亮，初一十五不一样。想法决定我们的生活和学习，有什么样的想法，就有什么样的未来。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59280" y="549360"/>
            <a:ext cx="3352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信心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409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雨后，一只蜘蛛艰难地向墙上已经支离破碎的网爬去，由于墙壁潮湿，它爬到一定的高度，就会掉下来，它一次次地向上爬，一次次地又掉下来……第一个人看到了，他叹了一口气，自言自语：“我的一生不正如这只蜘蛛吗？忙忙碌碌而无所得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于是，他日渐消沉。第二个人看到了，他说：这只蜘蛛真愚蠢，为什么不从旁边干燥的地方绕一下爬上去？我以后可不能像它那样愚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于是，他变得聪明起来。第三个人看到了，他立刻被蜘蛛屡败屡战的精神感动了。于是，他变得坚强起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68360" y="404640"/>
            <a:ext cx="34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态度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27241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2133720"/>
            <a:ext cx="85694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幼圆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大厦巍然屹立，是因为有坚强的支柱；航船破浪前行，是因为有指示方向的罗盘，目标就是人生航船的罗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340000" y="90792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确立目标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597708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Book Antiqua"/>
                <a:ea typeface="华文行楷"/>
              </a:rPr>
              <a:t>故事：我有一个梦想</a:t>
            </a:r>
            <a:endParaRPr b="0" lang="en-US" sz="48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有人说，这个故事其实就是反映了我们的人生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之前，我们活在家人、老师的期望之下，背负着很多的压力、包袱，自己也不够成熟、能力不足，因此步履难免不稳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之后，离开了众人的压力，卸下了包袱，开始全力以赴地追求自己的梦想，就这样愉快地过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年。可是到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，发现青春已逝，不免产生许多的遗憾和追悔，于是开始遗憾这个、惋惜那个、抱怨这个、嫉恨那个……就这样在抱怨中度过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到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，发现人生已所剩不多，于是告诉自己不要在抱怨了，就珍惜剩下的日子吧！于是默默地走完了自己的余年。到了生命的尽头，才想起自己好象有什么事情没有完成……原来，我们所有的梦想都留在了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岁的青春岁月，还没有来得及完成……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4000" y="23972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每个人都希望梦想成真，成功却似乎远在天边遥不可及，倦怠和不自信让我们怀疑自己的能力，放弃努力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实，我们不必想以后的事，一年、一月、十天之后的事，只要想着今天我要作些什么，明天我该作些什么，然后努力去完成，就象钟一样，每秒“滴答”摆一下成功的喜悦就会慢慢浸润我们的生命。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91320" y="2133720"/>
            <a:ext cx="27414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执着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2959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08000" y="1052640"/>
            <a:ext cx="4402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制定计划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7" name=""/>
          <p:cNvSpPr/>
          <p:nvPr/>
        </p:nvSpPr>
        <p:spPr>
          <a:xfrm>
            <a:off x="2711520" y="2421000"/>
            <a:ext cx="400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成功永远属于有准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的人，没有详细的计划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就不会取得成功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252360" y="2492280"/>
            <a:ext cx="9396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68360" y="620640"/>
            <a:ext cx="4800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采取行动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0" name=""/>
          <p:cNvSpPr/>
          <p:nvPr/>
        </p:nvSpPr>
        <p:spPr>
          <a:xfrm>
            <a:off x="2062440" y="2421000"/>
            <a:ext cx="453924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因为我奋斗，所以我快乐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奋斗改变命运，梦想让我们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众不同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268360" y="836640"/>
            <a:ext cx="43974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坚持到底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2" name=""/>
          <p:cNvSpPr/>
          <p:nvPr/>
        </p:nvSpPr>
        <p:spPr>
          <a:xfrm>
            <a:off x="2176560" y="2492280"/>
            <a:ext cx="4479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成功者永不放弃，放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者决不会成功。坚持到底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决不放弃—成功的秘诀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00000" y="692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红岩上红梅开，千里冰霜脚下踩，三九严寒何所惧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昂首怒放花万朵，香飘云天外，唤醒百花齐开放，高歌欢庆新春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2852640"/>
            <a:ext cx="777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传统剧目《红梅赞》中的一段歌词，不畏严寒的梅花正是以江姐为代表的红岩英雄形象的化身，是顽强的意志，是战胜困难的信心铸就了如火的革命事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也是如此，当前，严冬成了我们最大的困难，寒冷正在考验着我们的信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284720" y="5805360"/>
            <a:ext cx="64764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6912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0"/>
            <a:ext cx="835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距离期末考试还有</a:t>
            </a:r>
            <a:r>
              <a:rPr b="0" lang="zh-CN" sz="8800" spc="-1" strike="noStrike">
                <a:solidFill>
                  <a:srgbClr val="d60093"/>
                </a:solidFill>
                <a:latin typeface="Verdana"/>
                <a:ea typeface="MS UI Gothic"/>
              </a:rPr>
              <a:t>10</a:t>
            </a:r>
            <a:r>
              <a:rPr b="0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天，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同学们，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加油吧！！！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22760" y="5227920"/>
            <a:ext cx="560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考出老师满意，自己称心，家长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的成绩，过一个心情愉快的春节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!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62064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人生是一首诗。对人生的眷恋，对生活的热情，对未来的梦想，这是人生的原动力。我们不能缺乏追求。若缺乏这些，视读书为畏途，或觉得前路茫茫，即心如古井，死寂人生，哪还有什么趣味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人生需要有目标，且要始终如一，不能朝令夕改。只有这样，才有努力的方向，才容易出成果。有目标就会有追求，追求中才能展示你人生的光华，展示你人生的全部意义和价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4360" y="20606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我们深知，期末考试是我们当前最大的目标，期末考试是我们展示学习奋斗成果的最重要的机会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4046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Aiming higher , Achieving Mo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87280" y="333360"/>
            <a:ext cx="633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：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对期末考试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对严寒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准备好了吗？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72560" y="1700280"/>
            <a:ext cx="54079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面对期末考试 我们应该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</a:t>
            </a:r>
            <a:r>
              <a:rPr b="1" lang="zh-CN" sz="8800" spc="-1" strike="noStrike">
                <a:solidFill>
                  <a:srgbClr val="333399"/>
                </a:solidFill>
                <a:latin typeface="华文行楷"/>
                <a:ea typeface="华文行楷"/>
              </a:rPr>
              <a:t>直面风雨</a:t>
            </a:r>
            <a:r>
              <a:rPr b="1" lang="zh-CN" sz="7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  </a:t>
            </a:r>
            <a:r>
              <a:rPr b="1" lang="zh-CN" sz="8800" spc="-1" strike="noStrike">
                <a:solidFill>
                  <a:srgbClr val="333399"/>
                </a:solidFill>
                <a:latin typeface="华文行楷"/>
                <a:ea typeface="华文行楷"/>
              </a:rPr>
              <a:t>不懈追求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213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期末考试的目标成为我们战斗的方向，让考试中的每一点成绩贮藏于我们收获知识的梁仓，让知识在考前复习的滚动中成为我们实现跨越的坚实的桥梁。有了这样的追求，有了饱满的内驱力，我们就有了最根本的动力，我们才有成功的渴望，我们就会燃烧拼搏的欲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36880" y="189000"/>
            <a:ext cx="429552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从今天开始，我们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更加饱满自己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内驱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11280" y="1773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让寒冷成为检验我们能否实现十天冲刺的重要衡量，我们要增强抗拒学习中各种挫折、失败等因素的影响的能力。我们不应该因严冬而停止我们奋进的步伐，也不会让寒冷冻僵我们的信念，不会因暂时的摔倒而一落千丈。因为，坚强的意志力是在学习中收获成功的保障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9240" y="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从今天开始，我们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更加坚强自己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意志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4000" y="18288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没有集中的注意力，我们必将渐渐失去方向；没有集中的注意力，我们必将让短暂的复习时间消耗殆尽。是无聊的闲谈，是庸俗的交往，是频繁的打闹，是无边的遐想，在影响着我们的注意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注意力才能全神贯注于书本，才能全身心投入于学习，有集中的注意力才有复习的效率，才能收获复习的最大效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35080" y="11736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从今天开始，我们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更加集中自己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00:53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2:43Z</dcterms:modified>
  <cp:revision>5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