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48-4795-491E-94FC-759A5167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437-60EA-496C-BFB8-3AB3F09F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37F-D250-420E-A91F-4EBC8534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CEF-86CC-4936-924E-3E28DA2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B624-687F-48F8-8D81-DFDDE521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36F5-037D-45FF-A584-245A1A4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A6B5-1207-422A-A000-B73612E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693E-4129-45EC-9EB8-E21E898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7ED6-68B4-4F01-AA61-637CBF5F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EC28-C8D1-475A-A71F-09C9E94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A7F-00B6-488C-893C-98D380B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DC5-F696-41A8-8424-3F8BDB2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6A1-81A6-44E8-AADD-411BD41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0463-DB96-4697-AF1E-7D4CD48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011C-334D-478E-A288-1D0AB66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0D0-133B-454A-BBB8-E7CE1C00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E10D-A113-4E89-9FA8-CDF92223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592-D976-4D64-B5A0-1298981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CEB-5F1F-4992-A00E-ACE22A8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420-1C1E-489A-A3BA-14EBDD63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B93-9C7D-4193-A047-594D309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290-4318-450D-B014-DCC8288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EA9-A454-427B-8142-2805EDF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AD7-2160-4B13-97EB-F866079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0A2-DF47-4A45-8316-71987774A97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43A1-A941-4D19-9B93-C05B2C47710E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  <a:ea typeface="华文行楷"/>
              </a:rPr>
              <a:t>学习方法交流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华文行楷"/>
              </a:rPr>
              <a:t>制作者：刘婧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我的学习步骤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复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预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527640" cy="403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作业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作用：巩固当日知识，帮助我们学会运用所学知识解决问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擅长科目——在短时间内尽量高质量完成；不擅长科目——将主要时间和精力放在上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态调整：有些或许你已经会了，有些你做过了，问问自己——再作一次我能拿满分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复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原因：我的记忆力不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与现在所学有关的知识忘记的先看，以免影响新知识的接受。复习的量和内容视当日情况而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自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原因：北京的教材知识容量大而且分布杂。不预习上课会只是听懂却不知老师讲的哪里该记，哪里不用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精力分配：不做过多习题，也尽量预习。可以课间提前扫一两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日常生活调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饮食：注意营养搭配。不偏食。对于身体好的即使不喜欢也要多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睡眠：尽可能让自己休息好。疲惫地熬夜看书不如睡好了再看。这样反而更省时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娱乐：调节心情，放松大脑。可以利用上下学路上的时间。（注意交通安全！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ahoma"/>
                <a:ea typeface="华文行楷"/>
              </a:rPr>
              <a:t>复课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实都很实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高考考什么，我们暂时学什么。复课可以帮我们扩宽视野，而且有专时。我们没什么要花课余玩的时间去扩宽视野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Tahoma"/>
                <a:ea typeface="华文行楷"/>
              </a:rPr>
              <a:t>希望对大家有所帮助，</a:t>
            </a:r>
            <a:br>
              <a:rPr sz="5400"/>
            </a:br>
            <a:r>
              <a:rPr b="0" lang="zh-CN" sz="5400" spc="-1" strike="noStrike">
                <a:solidFill>
                  <a:srgbClr val="ffffcc"/>
                </a:solidFill>
                <a:latin typeface="Tahoma"/>
                <a:ea typeface="华文行楷"/>
              </a:rPr>
              <a:t>谢谢观赏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1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3:06Z</dcterms:modified>
  <cp:revision>7</cp:revision>
  <dc:subject>主题班会课件(分28大类): http://shop62905894.taobao.com</dc:subject>
  <dc:title>主题班会课件(分28大类): http://shop62905894.taobao.com</dc:title>
</cp:coreProperties>
</file>