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5.jpeg" ContentType="image/jpeg"/>
  <Override PartName="/ppt/media/image53.gif" ContentType="image/gif"/>
  <Override PartName="/ppt/media/image40.jpeg" ContentType="image/jpeg"/>
  <Override PartName="/ppt/media/image52.gif" ContentType="image/gif"/>
  <Override PartName="/ppt/media/image20.jpeg" ContentType="image/jpeg"/>
  <Override PartName="/ppt/media/image50.jpeg" ContentType="image/jpeg"/>
  <Override PartName="/ppt/media/image49.jpeg" ContentType="image/jpeg"/>
  <Override PartName="/ppt/media/image8.gif" ContentType="image/gif"/>
  <Override PartName="/ppt/media/image48.jpeg" ContentType="image/jpeg"/>
  <Override PartName="/ppt/media/image47.gif" ContentType="image/gif"/>
  <Override PartName="/ppt/media/image46.jpeg" ContentType="image/jpeg"/>
  <Override PartName="/ppt/media/image41.jpeg" ContentType="image/jpeg"/>
  <Override PartName="/ppt/media/image45.gif" ContentType="image/gif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7.png" ContentType="image/png"/>
  <Override PartName="/ppt/media/image15.jpeg" ContentType="image/jpeg"/>
  <Override PartName="/ppt/media/image60.jpeg" ContentType="image/jpeg"/>
  <Override PartName="/ppt/media/image64.png" ContentType="image/png"/>
  <Override PartName="/ppt/media/image51.png" ContentType="image/png"/>
  <Override PartName="/ppt/media/image16.gif" ContentType="image/gif"/>
  <Override PartName="/ppt/media/image21.jpeg" ContentType="image/jpeg"/>
  <Override PartName="/ppt/media/image1.png" ContentType="image/png"/>
  <Override PartName="/ppt/media/image68.jpeg" ContentType="image/jpeg"/>
  <Override PartName="/ppt/media/image66.gif" ContentType="image/gif"/>
  <Override PartName="/ppt/media/image19.jpeg" ContentType="image/jpeg"/>
  <Override PartName="/ppt/media/image6.jpeg" ContentType="image/jpeg"/>
  <Override PartName="/ppt/media/type.wav" ContentType="audio/x-wav"/>
  <Override PartName="/ppt/media/image57.jpeg" ContentType="image/jpeg"/>
  <Override PartName="/ppt/media/image25.png" ContentType="image/png"/>
  <Override PartName="/ppt/media/image22.gif" ContentType="image/gif"/>
  <Override PartName="/ppt/media/image62.png" ContentType="image/png"/>
  <Override PartName="/ppt/media/image27.gif" ContentType="image/gif"/>
  <Override PartName="/ppt/media/chimes.wav" ContentType="audio/x-wav"/>
  <Override PartName="/ppt/media/image17.jpeg" ContentType="image/jpeg"/>
  <Override PartName="/ppt/media/image61.jpeg" ContentType="image/jpeg"/>
  <Override PartName="/ppt/media/image63.jpeg" ContentType="image/jpeg"/>
  <Override PartName="/ppt/media/image26.gif" ContentType="image/gif"/>
  <Override PartName="/ppt/media/image65.jpeg" ContentType="image/jpeg"/>
  <Override PartName="/ppt/media/image59.jpeg" ContentType="image/jpeg"/>
  <Override PartName="/ppt/media/image58.jpeg" ContentType="image/jpeg"/>
  <Override PartName="/ppt/media/image18.gif" ContentType="image/gif"/>
  <Override PartName="/ppt/media/image56.jpeg" ContentType="image/jpeg"/>
  <Override PartName="/ppt/media/image2.jpeg" ContentType="image/jpeg"/>
  <Override PartName="/ppt/media/image24.gif" ContentType="image/gif"/>
  <Override PartName="/ppt/media/image13.jpeg" ContentType="image/jpeg"/>
  <Override PartName="/ppt/media/image12.jpeg" ContentType="image/jpeg"/>
  <Override PartName="/ppt/media/image29.jpeg" ContentType="image/jpeg"/>
  <Override PartName="/ppt/media/image32.gif" ContentType="image/gif"/>
  <Override PartName="/ppt/media/image35.png" ContentType="image/png"/>
  <Override PartName="/ppt/media/applause.wav" ContentType="audio/x-wav"/>
  <Override PartName="/ppt/media/image42.gif" ContentType="image/gif"/>
  <Override PartName="/ppt/media/image43.jpeg" ContentType="image/jpeg"/>
  <Override PartName="/ppt/media/image36.jpeg" ContentType="image/jpeg"/>
  <Override PartName="/ppt/media/image10.png" ContentType="image/png"/>
  <Override PartName="/ppt/media/image28.jpeg" ContentType="image/jpeg"/>
  <Override PartName="/ppt/media/image11.jpeg" ContentType="image/jpeg"/>
  <Override PartName="/ppt/media/image31.gif" ContentType="image/gif"/>
  <Override PartName="/ppt/media/image4.png" ContentType="image/png"/>
  <Override PartName="/ppt/media/image7.jpeg" ContentType="image/jpeg"/>
  <Override PartName="/ppt/media/image38.jpeg" ContentType="image/jpeg"/>
  <Override PartName="/ppt/media/image9.gif" ContentType="image/gif"/>
  <Override PartName="/ppt/media/image54.gif" ContentType="image/gif"/>
  <Override PartName="/ppt/media/laser.wav" ContentType="audio/x-wav"/>
  <Override PartName="/ppt/media/image33.jpeg" ContentType="image/jpeg"/>
  <Override PartName="/ppt/media/image34.jpeg" ContentType="image/jpeg"/>
  <Override PartName="/ppt/media/image44.gif" ContentType="image/gif"/>
  <Override PartName="/ppt/media/image39.jpeg" ContentType="image/jpeg"/>
  <Override PartName="/ppt/media/image5.png" ContentType="image/pn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BC1-83B8-476F-B122-651AD87A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7DC-658B-452A-8582-64EB691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C99AB-8553-4057-A8E1-432C6109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FED7E-D7A8-4616-9BD4-6B828203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D942-AB97-43F1-87D3-49A7D002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20D5F-2F23-4040-A266-5CAD9B9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FA60D-0598-472B-A4A4-551A750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EC9CE-283A-444F-A676-DBEC370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88F4-E89A-4180-B289-6F77E4C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84EFB-BBC1-4FAA-9645-90A09956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5205-0AC2-41F0-B399-0AAD1301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FDB4D-2A78-40F6-826A-F84EBA76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FAD-A195-4ECD-B7DE-70296510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F2C63-87F7-4579-BDBD-BD0E15F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CEC73-FB32-469E-93FE-7DF59249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8B1CD-ABDA-4AB7-8083-1C2703F3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1B62A-E07D-419A-9E75-A4B584E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88816-A457-4345-B74D-3E710B91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1A1CD-D79F-44A5-826A-4332C0C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68246-9513-49C4-A1D2-53C3A00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7F016-62E9-497B-B9C1-4939FE7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58E5A-508C-4C28-90EE-2EA6E875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A98BD-EB05-4245-A15E-6DB8876A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FC4-B3C9-4ADB-B341-84EEB518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FBC7-9E9B-4890-AE91-BC253C2B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C5BF4-B95F-4E2C-9BE6-A7773C9B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337BD-99FC-4E2F-B69E-1344FF0E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80A1A-1A2B-4EE6-87BF-2EF7589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7E4E8-4C8C-4FB5-8CB8-EB2577A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40F0-F426-4BBD-9078-E612207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67725-669A-4330-9CC0-C78B3E97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CE89D-5E15-4145-A3A4-F4C2BBA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F1D6A-88BA-43B9-8D2C-B2F6C27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9F2A2-B150-4E83-B6CD-FABB913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475-C44C-4C4E-8903-56741879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45384-C851-4B39-8267-4C76C5D2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EC306-E1F3-4F14-87DB-14AA56F8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34A2F-D0C9-4624-81A6-52C91718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64D43-8A4A-4EF7-AF7D-B8B50D17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39ED6-F174-4624-85AA-486ED24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EED8D-8126-4341-A2F7-C3D87A84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CC6A9-889C-4ABB-ADAE-185ED2B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54DE4-A1F0-4282-BFD9-4F38F2EA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33312-E901-4F73-832B-E95F79B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9CE7D-EE6A-418A-B971-78D0A88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B92E-55B1-49FD-BA5E-08251BF5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E61E9-6917-4C16-8AE0-BBE4A75B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1428E-7CA6-4F12-840E-5CE7F22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D9BBA-FB55-43B0-A90F-81AE6661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151E3-36F2-4639-8A98-1DFC6BB8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1EE29-4DD9-4D43-9ADD-B8C720CD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D6598-2D8F-466C-841D-F59C42BF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43477-8454-4E6D-BE21-8567FB8D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C4BD1-2019-4F20-83B7-B2A17E4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4A6A3-CD50-46A6-B977-70375970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67903-BE6F-4536-B0DA-3263C6E9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3515-57ED-44D2-ADB5-8D18F18F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EC1EE-AAFB-4D67-BCC0-C5BF632A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2062B-5849-4F15-B013-9A01712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0275B-BBAC-40F5-83B4-C9F93D66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1F021-4520-4AC9-AF32-DFAD89B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4F2F2-4DFD-4053-A7C8-B24B43A4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4862F-EA92-4163-A248-CFB2252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63D9A-C6F6-4EB0-98CB-1FAC62AB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333E5-BB5C-4099-B472-FF3578A0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0E198-3AA5-43EA-9021-C4A87824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385A0-EC6A-4A7D-A76B-5A01E5F4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375-C10A-4074-B5B2-472FC28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51FA4-E401-4B1D-A393-3BD052B5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252E0-79C1-49D4-B2AF-DCB373E2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B1EC1-7A58-4D82-9DE9-A392A6E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D0360-5F06-4CF3-A961-307716D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B4C4D-67D8-4EBA-A11B-C51E5E0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572F0-A782-4ACD-B8F1-CE167F6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2C938-9D94-47DC-94C2-15CFF9B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B5716-FFE6-4B8C-B6EA-34436B7B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5D9CA-54B4-40AB-BFDA-F3FEE0AC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7D3-6F8D-4116-8D46-F9251248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5374-0BF9-4DF8-9ABF-86123094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3075-9423-427A-86DD-700D54A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BC6-ADF8-4B67-B4E6-9007AA2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BD1C-B929-4D6C-95F8-1196D35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7430-69F5-4F85-9963-DC91CD4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2B40-26B2-400D-BBC7-7581FA58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7ACD-FD88-40E7-B0A5-80C2C4BC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C144-F1AE-493D-94F7-920BA9E0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6901-B313-4A70-B4F5-65EBC99A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A6E7-17B4-488B-A2CA-2088087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C42F-536D-41F4-9A56-2360E9E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EF75-1E81-4E07-8E21-21747220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594E-F0C3-4189-9695-9FE46CD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D96-C6BC-4C44-9559-FBAC478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7218-1756-4327-BD12-4F7B207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2CCC-A429-4F56-A7D8-B2537A4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FCE3-4827-4151-8233-4B512B0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F903-4271-436E-8D4C-9DD4ECC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1CA8-D5C5-43B4-973D-E3830EDC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B3BC-E48E-4808-9AB5-E53837E8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3A55-A0D0-4219-88C2-8A8946F2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4D7E-5A2C-4C9C-88C9-E3ECF3B4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46658-99CA-4737-BFC7-A57AB52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FF1F-F55E-462F-AFCF-712E5D52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3DF-A34A-40CA-B494-86F0022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94AC-3E74-4795-A379-1D40B86E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7DDC-2FD9-4F37-A0F8-26923CB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216A-E050-4F76-9309-5C771250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0910-1242-43A1-A2AD-CAA57C3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19F1-EB52-4518-82F6-5146265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0568-917A-495A-8EBF-15F77A1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332F-89C7-4056-B0B5-73C96872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13A3-92BC-44B6-B689-4E159D9B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DBF8-07CF-4E5E-9907-0F9E01B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FDF7-0B4F-4D14-86B9-9084D1AB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8EF-1860-42B3-B4F8-CAEC1E2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C72F-27EC-4E35-8A9E-722B828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60F1-7152-4172-BDE6-9CD457D0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2E242-E5C8-4B31-91E9-E997AE3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903CA-34EB-486A-9B97-402CA6F5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6692-9CA5-4949-A09D-C60D3C68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C6F7-664A-41FD-B079-5A12084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9706-6E07-41F6-9A81-2182F9C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5C99-369E-4EBB-90ED-C3269B1E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61B8-36FC-4C1D-A1B8-625F5D9D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45D2-B955-4C2A-9DA3-BDF05F38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621-3F34-478F-B054-AADAA24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83F5-0E0D-443C-8628-BDC5EBAF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C6427-6748-4307-9B73-3D10E4FF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F0198-EF64-4305-A1A7-504C9D1A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A330-2448-45A4-909D-2AB9676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97DF6-62BD-4FDC-937F-872179DA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C1F4-9A9F-4F48-8DD4-21BEB30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D2B2-A301-42CC-A61F-32E950E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68F1-491A-43F0-839E-92676A44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1551-D191-4738-99C7-42492D6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065B-BAE2-45E0-B1CF-BB087A6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A66-754E-4EDE-9301-5FCEC83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5ABD-28E0-47B3-A79C-FC971139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2343-CC02-47CB-B4F3-4B8579FA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15C4E-9029-41B1-90A7-30D51C8B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D9F1-8480-476E-8F35-4CFDF739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10558-43CE-457A-A3E3-5200981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8577-D601-4300-8126-9D830B79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1FBF-C465-455D-8540-90120FE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0D18-E7CA-4063-B887-1A1D9C1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DCF6-9510-4E48-AEEF-B0950855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F840-4AF4-4ABF-8820-091CFF9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70E-D146-460E-B981-9BC918E4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2701D-326A-4B8C-8A5F-4446557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4D52-FA50-4BF2-A4B8-FBA872D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4CC33-885B-46EC-AD4C-B644823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75F9-34E4-416D-94AE-5048976E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C713-078F-4DDA-A363-84306AF4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11FF-659E-4714-85BE-36F835B1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D3393-46D5-4DB8-A0DE-8EB10A73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EBB5-EAB6-4761-9FA1-FAC8E71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CB89-3FF8-49A4-B6F5-27EA7200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79C63-5AF3-463B-B0EB-3112EEA4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6A2-B6B2-44F1-88E0-FE85B1B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EF4E1-C99C-4739-B039-3E70C95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6D42-85A0-4778-9622-D895F33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0343-F7F4-47E1-8B86-D3B3691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89955-CC97-4D3A-9F04-EE8FBFC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AD0F-78BF-4536-8593-B0701F09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C27F-958E-4DED-84BE-77454510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B2EF9-BF46-4F29-81AB-54DADB28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D88F7-E24D-48C2-9631-9ABD2EE7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69518-A8DC-4AE9-9864-89041AF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E8F1-3093-404D-8603-0F93805F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CB3-77D1-4B9E-8FD0-025D24BB3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0"/>
            <a:ext cx="2857680" cy="6867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8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9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30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A76-20F1-4E5D-80FD-A91BE499F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482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D6F-D026-4096-B6AE-1B31169BEF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3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20B5-AE2C-45D9-BE28-18A194FD405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7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22A2-4334-4D25-9950-E96C7F81D0DF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-30240" y="0"/>
            <a:ext cx="9177120" cy="6924600"/>
            <a:chOff x="-30240" y="0"/>
            <a:chExt cx="9177120" cy="6924600"/>
          </a:xfrm>
        </p:grpSpPr>
        <p:sp>
          <p:nvSpPr>
            <p:cNvPr id="622" name=""/>
            <p:cNvSpPr/>
            <p:nvPr/>
          </p:nvSpPr>
          <p:spPr>
            <a:xfrm>
              <a:off x="-2232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40" y="0"/>
              <a:ext cx="117972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0484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144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 rot="5400000">
              <a:off x="5085720" y="-630000"/>
              <a:ext cx="7488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-3024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880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428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406440" y="3357720"/>
              <a:ext cx="10296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54756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40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41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42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91B-9223-4FBC-B754-B537FA406748}" type="slidenum">
              <a:rPr b="0" lang="zh-CN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D82F-89D3-43EE-A331-7E36D1932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F89C-16DF-4122-88BD-89EE3EA6ED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E266-6A47-4316-AAB6-606F236D8AB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2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43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0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9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62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63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65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1F62-75E6-4DFD-B8E1-D0E91B13BDD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6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0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226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30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254-33EB-484D-AD9A-1B11D2482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DA8-8FD6-4882-8CC3-B79DD921F58D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F2B-B5A8-40FD-9CB1-3E603C227356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5173-EE9C-4344-AD3B-759534DF7F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" Target="slide29.xml"/><Relationship Id="rId4" Type="http://schemas.openxmlformats.org/officeDocument/2006/relationships/image" Target="../media/image27.gif"/><Relationship Id="rId5" Type="http://schemas.openxmlformats.org/officeDocument/2006/relationships/slide" Target="slide29.xml"/><Relationship Id="rId6" Type="http://schemas.openxmlformats.org/officeDocument/2006/relationships/image" Target="../media/image27.gif"/><Relationship Id="rId7" Type="http://schemas.openxmlformats.org/officeDocument/2006/relationships/slide" Target="slide29.xml"/><Relationship Id="rId8" Type="http://schemas.openxmlformats.org/officeDocument/2006/relationships/image" Target="../media/image27.gif"/><Relationship Id="rId9" Type="http://schemas.openxmlformats.org/officeDocument/2006/relationships/slide" Target="slide29.xml"/><Relationship Id="rId10" Type="http://schemas.openxmlformats.org/officeDocument/2006/relationships/image" Target="../media/image27.gif"/><Relationship Id="rId11" Type="http://schemas.openxmlformats.org/officeDocument/2006/relationships/slide" Target="slide29.xml"/><Relationship Id="rId12" Type="http://schemas.openxmlformats.org/officeDocument/2006/relationships/image" Target="../media/image27.gif"/><Relationship Id="rId13" Type="http://schemas.openxmlformats.org/officeDocument/2006/relationships/slide" Target="slide29.xml"/><Relationship Id="rId14" Type="http://schemas.openxmlformats.org/officeDocument/2006/relationships/image" Target="../media/image27.gi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2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4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 txBox="1"/>
          <p:nvPr/>
        </p:nvSpPr>
        <p:spPr>
          <a:xfrm>
            <a:off x="684360" y="907920"/>
            <a:ext cx="762624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学习 我快乐 我成长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4221000"/>
            <a:ext cx="50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高二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61680" cy="68580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2637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51640" y="58770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11280" y="4581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27280" y="57340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6720" y="2781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740720" y="46530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1332000" y="476280"/>
            <a:ext cx="662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班级调查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2" name=""/>
          <p:cNvSpPr/>
          <p:nvPr/>
        </p:nvSpPr>
        <p:spPr>
          <a:xfrm>
            <a:off x="755640" y="3357720"/>
            <a:ext cx="78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觉得学习快乐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971640" y="1341360"/>
            <a:ext cx="76197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找“乐”行动开始了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324000" y="404640"/>
            <a:ext cx="83516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0ce3"/>
                </a:solidFill>
                <a:latin typeface="华文彩云"/>
                <a:ea typeface="华文彩云"/>
              </a:rPr>
              <a:t>       </a:t>
            </a:r>
            <a:r>
              <a:rPr b="1" lang="zh-CN" sz="2400" spc="-1" strike="noStrike">
                <a:solidFill>
                  <a:srgbClr val="f40ce3"/>
                </a:solidFill>
                <a:latin typeface="华文彩云"/>
                <a:ea typeface="华文彩云"/>
              </a:rPr>
              <a:t>一年春节前夕，清代书画家、文学家郑板桥去郊外办事，路过一家门前，看见门上贴着一副对联：</a:t>
            </a:r>
            <a:br>
              <a:rPr sz="2400"/>
            </a:br>
            <a:r>
              <a:rPr b="1" lang="zh-CN" sz="2400" spc="-1" strike="noStrike">
                <a:solidFill>
                  <a:srgbClr val="f40ce3"/>
                </a:solidFill>
                <a:latin typeface="华文彩云"/>
                <a:ea typeface="华文彩云"/>
              </a:rPr>
              <a:t>    </a:t>
            </a:r>
            <a:r>
              <a:rPr b="1" lang="zh-CN" sz="3200" spc="-1" strike="noStrike">
                <a:solidFill>
                  <a:srgbClr val="f40ce3"/>
                </a:solidFill>
                <a:latin typeface="黑体"/>
                <a:ea typeface="黑体"/>
              </a:rPr>
              <a:t>上联是：二三四五</a:t>
            </a:r>
            <a:br>
              <a:rPr sz="3200"/>
            </a:br>
            <a:r>
              <a:rPr b="1" lang="zh-CN" sz="3200" spc="-1" strike="noStrike">
                <a:solidFill>
                  <a:srgbClr val="f40ce3"/>
                </a:solidFill>
                <a:latin typeface="黑体"/>
                <a:ea typeface="黑体"/>
              </a:rPr>
              <a:t>   下联是：六七八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24000" y="465300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32000" y="2060640"/>
            <a:ext cx="5616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郑板桥读后，掉头就往自己家里跑。不一会儿，他扛来一袋粮食，还拿着几件衣服和一块肉，急匆匆地走进那户人家。只见屋里的人缺吃少穿，愁眉苦脸，送来的粮食、衣物正好救了他们的急，一家老小十分感激郑板桥。</a:t>
            </a:r>
            <a:br>
              <a:rPr sz="2800"/>
            </a:b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 奇怪的是，郑板桥和这家人素不相识，却从门前的对联里看出了这家人的贫困和急需。聪明的同学们，你知道是怎么回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 rot="5400000">
            <a:off x="-791280" y="3680640"/>
            <a:ext cx="4319640" cy="122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Down">
              <a:avLst>
                <a:gd name="adj" fmla="val 15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cap="rnd" w="0">
                  <a:solidFill>
                    <a:srgbClr val="ffff00"/>
                  </a:solidFill>
                  <a:custDash>
                    <a:ds d="100000" sp="1000"/>
                  </a:custDash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语文篇</a:t>
            </a:r>
            <a:endParaRPr b="0" lang="en-US" sz="1800" spc="-1" strike="noStrike">
              <a:ln cap="rnd" w="0">
                <a:solidFill>
                  <a:srgbClr val="ffff00"/>
                </a:solidFill>
                <a:custDash>
                  <a:ds d="100000" sp="1000"/>
                </a:custDash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0" y="1123920"/>
            <a:ext cx="42498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案：缺衣少食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8204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知道马克思的诞辰是哪一天吗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黑体"/>
                <a:ea typeface="黑体"/>
              </a:rPr>
              <a:t>1818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eaeaea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eaeaea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日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（马克思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巴掌一巴掌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打得资本主义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呜呜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地哭起来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195640" y="1052640"/>
            <a:ext cx="5903640" cy="145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的记忆力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（一）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5"/>
          <a:stretch/>
        </p:blipFill>
        <p:spPr>
          <a:xfrm>
            <a:off x="6516720" y="4743360"/>
            <a:ext cx="2381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古代四书的名称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论语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大学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中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谐音：“猛抡大钟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87280" cy="9540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1258920" y="5661000"/>
            <a:ext cx="1187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755640" y="1268280"/>
            <a:ext cx="705816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文课上，小明想去厕所，对老师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I go to W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坐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说：你不是想去厕所，怎么不去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说：您不是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1749600" cy="22320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 txBox="1"/>
          <p:nvPr/>
        </p:nvSpPr>
        <p:spPr>
          <a:xfrm>
            <a:off x="611280" y="5373720"/>
            <a:ext cx="36003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8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cap="rnd"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宋体"/>
              </a:rPr>
              <a:t>英语篇</a:t>
            </a:r>
            <a:endParaRPr b="0" lang="en-US" sz="1800" spc="-1" strike="noStrike">
              <a:ln cap="rnd"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巧换数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038480" y="5410080"/>
            <a:ext cx="628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537840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666880" y="537840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81080" y="537840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038480" y="4708440"/>
            <a:ext cx="628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352680" y="470844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666880" y="470844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981080" y="470844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4038480"/>
            <a:ext cx="628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52680" y="403848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66880" y="403848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981080" y="4038480"/>
            <a:ext cx="685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3352680"/>
            <a:ext cx="62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352680" y="33526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666880" y="33526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81080" y="33526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981080" y="3352680"/>
            <a:ext cx="26863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81080" y="4038480"/>
            <a:ext cx="268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981080" y="4708440"/>
            <a:ext cx="268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981080" y="5378400"/>
            <a:ext cx="268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981080" y="6048360"/>
            <a:ext cx="26863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981080" y="3352680"/>
            <a:ext cx="0" cy="2695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66880" y="3352680"/>
            <a:ext cx="0" cy="26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3352680"/>
            <a:ext cx="0" cy="26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038480" y="3352680"/>
            <a:ext cx="0" cy="26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67400" y="3352680"/>
            <a:ext cx="0" cy="2695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292720" y="3284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   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十，六，最，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四字各换成什么数时，图中每一横行竖行以及对角斜行里的四数之和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69760" y="5553000"/>
            <a:ext cx="35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答案：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16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10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7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9280" y="549360"/>
            <a:ext cx="302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数学篇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谁说假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A,B,C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：“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假话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：“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C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假话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： “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A,B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人，必有一个说假话的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判断：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A,B,C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人，究竟谁在说假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38280" y="60958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955960" y="5888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答案：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zh-CN" sz="4400" spc="-1" strike="noStrike">
                <a:solidFill>
                  <a:srgbClr val="cc00cc"/>
                </a:solidFill>
                <a:latin typeface="Arial"/>
              </a:rPr>
              <a:t>说假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cc"/>
                                </p:to>
                              </p:animCl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cc"/>
                                </p:to>
                              </p:animCl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cc"/>
                                </p:to>
                              </p:animCl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2340000" y="1125360"/>
            <a:ext cx="5256360" cy="26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的记忆力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（二）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5"/>
          <a:stretch/>
        </p:blipFill>
        <p:spPr>
          <a:xfrm>
            <a:off x="1476360" y="333360"/>
            <a:ext cx="1187640" cy="9540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6"/>
          <a:stretch/>
        </p:blipFill>
        <p:spPr>
          <a:xfrm>
            <a:off x="6762600" y="4743360"/>
            <a:ext cx="2381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187280" y="0"/>
            <a:ext cx="7956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你从公共汽车总站上车，车上除了司机和你自己外，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。下面是每一站下车和上车的乘客人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没下人，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没上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没上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没下人；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站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1187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4645080" y="117360"/>
            <a:ext cx="4464000" cy="36943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9760" cy="10666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0" y="616572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844560" y="3016080"/>
            <a:ext cx="66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在学习中获得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308240" y="44704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52760" y="4621320"/>
            <a:ext cx="212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28960" y="4832280"/>
            <a:ext cx="275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869000"/>
            <a:ext cx="229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503360" y="47721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71640" y="4724280"/>
            <a:ext cx="48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47640" y="51768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8720" y="4149720"/>
            <a:ext cx="57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在快乐中不断成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6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/>
                </p:stCondLst>
                <p:childTnLst>
                  <p:par>
                    <p:cTn id="42" fill="hold">
                      <p:stCondLst>
                        <p:cond evt="onClick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5214" fill="hold"/>
                                        <p:tgtEl>
                                          <p:spTgt spid="6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9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116000" y="1628640"/>
            <a:ext cx="802800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请问公共汽车停了几站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7740720" y="5904000"/>
            <a:ext cx="1187280" cy="9540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865080" cy="6652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403280" y="1628640"/>
            <a:ext cx="27720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问题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419640" y="4292640"/>
            <a:ext cx="3313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答案：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8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站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684000" y="4149720"/>
            <a:ext cx="845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圆周率∏的前三十位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∏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=3.141592653589793238462643383279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547640" y="47628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你能记住多少位呢？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257480" y="1844640"/>
            <a:ext cx="788652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好想记住</a:t>
            </a: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0</a:t>
            </a: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位哦！！！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8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协助记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想一个酒徒在山寺狂饮，醉死山沟的情景：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山巅一寺一壶酒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1415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儿乐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我三壶不够吃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358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酒杀尔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！杀不死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8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乐而乐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死了算罢了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338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儿弃沟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7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0" y="-384120"/>
            <a:ext cx="9144000" cy="72421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826920" y="549360"/>
            <a:ext cx="734544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中其实有很多乐趣，大家要有善于发现乐趣的眼睛。但不可否认的是“学海无涯苦作舟”，学习又是一件艰苦的事情，有的同学讨厌学习，终日痛苦不堪。我们又应该怎么找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“乐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听一段故事，相信你会有所启发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547640" y="1341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一位老太太有两个儿子，大儿子卖伞，小儿子晒盐。每逢晴天，老太太便发愁：唉！大儿子咋办啊？伞不好卖啊。每逢雨天，老太太也发愁：唉！小儿子咋办啊？盐可咋晒啊？因此，她日渐憔悴，痛苦不堪。这一天，有个道士经过，说了一番话，老太太恍然大悟，不再终日忧心忡忡。           你知道道士说的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755640" y="765000"/>
            <a:ext cx="7775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05fb"/>
                </a:solidFill>
                <a:latin typeface="Arial"/>
              </a:rPr>
              <a:t>     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乐观 </a:t>
            </a:r>
            <a:r>
              <a:rPr b="1" lang="zh-CN" sz="3600" spc="-1" strike="noStrike">
                <a:solidFill>
                  <a:srgbClr val="d205fb"/>
                </a:solidFill>
                <a:latin typeface="Arial"/>
              </a:rPr>
              <a:t>的人总能看到事物积极的方面，以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乐观 </a:t>
            </a:r>
            <a:r>
              <a:rPr b="1" lang="zh-CN" sz="3600" spc="-1" strike="noStrike">
                <a:solidFill>
                  <a:srgbClr val="d205fb"/>
                </a:solidFill>
                <a:latin typeface="Arial"/>
              </a:rPr>
              <a:t>的态度面对学习，对于我们的身心有着莫大的好处。一个能微笑面对学习中的艰苦的人，总能对学习乐此不疲，全神贯注，从而取得良好的成绩。因此，我们要时刻用一种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乐观</a:t>
            </a:r>
            <a:r>
              <a:rPr b="1" i="1" lang="zh-CN" sz="3600" spc="-1" strike="noStrike">
                <a:solidFill>
                  <a:srgbClr val="d205fb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205fb"/>
                </a:solidFill>
                <a:latin typeface="Arial"/>
              </a:rPr>
              <a:t>的心态来对待学习中的艰苦，争取做到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乐学</a:t>
            </a:r>
            <a:r>
              <a:rPr b="1" lang="zh-CN" sz="4000" spc="-1" strike="noStrike">
                <a:solidFill>
                  <a:srgbClr val="d205fb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835280" y="234936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99"/>
                </a:solidFill>
                <a:latin typeface="Arial"/>
              </a:rPr>
              <a:t>以乐观的心态找找艰苦学习中的乐趣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2971800" cy="381024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395280" y="476280"/>
            <a:ext cx="597708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保持对学习的兴趣，时刻乐于学习就像一副盔甲，帮助我们抵挡学习中困难的进攻和侵蚀，消除我们内心的困惑与忧郁，优秀成绩的取得，离不开乐观与上进的心理，因此，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乐于学习</a:t>
            </a: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是我们不可缺少的武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40ce3"/>
                </a:solidFill>
                <a:latin typeface="Arial"/>
              </a:rPr>
              <a:t>乐于学习是能够取得优秀成绩的关键心态，但学习中还有一种品质也是不能忽略的，大家知道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8360" y="5661000"/>
            <a:ext cx="552600" cy="781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250920" y="1268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英国著名物理学家卢瑟福有一天晚上走进实验室，当时已经很晚了，见他的一个学生仍俯在工作台上，便问他：“这么晚了，你还在做什么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学生回答：“做实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       “</a:t>
            </a: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那你早上做什么呢？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       “</a:t>
            </a: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做实验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       “</a:t>
            </a: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那么整个白天你也在做实验吗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       “</a:t>
            </a: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是的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华文行楷"/>
                <a:ea typeface="华文行楷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187280" y="306864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258920" y="393372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5280" y="486900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5208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85208"/>
                </a:solidFill>
                <a:latin typeface="Arial"/>
                <a:ea typeface="华文行楷"/>
              </a:rPr>
              <a:t>卢瑟福说：“那么这样一来，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你什么时候思考呢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68360" y="189000"/>
            <a:ext cx="35272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S Reference Sans Serif"/>
              </a:rPr>
              <a:t>听故事喽</a:t>
            </a:r>
            <a:endParaRPr b="1" lang="en-US" sz="1800" spc="-1" strike="noStrike">
              <a:ln w="0">
                <a:noFill/>
              </a:ln>
              <a:solidFill>
                <a:srgbClr val="ff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S Reference Sans Serif"/>
              <a:ea typeface="MS Reference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8820000" cy="801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 txBox="1"/>
          <p:nvPr/>
        </p:nvSpPr>
        <p:spPr>
          <a:xfrm rot="5400000">
            <a:off x="4714920" y="2493000"/>
            <a:ext cx="597708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Bottom">
              <a:avLst>
                <a:gd name="adj" fmla="val 69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你有什么感想吗？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177840" y="0"/>
            <a:ext cx="975060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 rot="5400000">
            <a:off x="-2283120" y="2722320"/>
            <a:ext cx="614376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隶书"/>
              </a:rPr>
              <a:t>成长的足迹</a:t>
            </a:r>
            <a:endParaRPr b="1" lang="en-US" sz="96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420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395280" y="404640"/>
            <a:ext cx="8569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da51"/>
                </a:solidFill>
                <a:latin typeface="华文行楷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26da51"/>
                </a:solidFill>
                <a:latin typeface="华文行楷"/>
                <a:ea typeface="华文行楷"/>
              </a:rPr>
              <a:t>卢瑟福的学生很勤奋，很用功，但是，如果只是机械的学，也只能是</a:t>
            </a:r>
            <a:r>
              <a:rPr b="1" lang="zh-CN" sz="3200" spc="-1" strike="noStrike">
                <a:solidFill>
                  <a:srgbClr val="f60a31"/>
                </a:solidFill>
                <a:latin typeface="华文行楷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f60a31"/>
                </a:solidFill>
                <a:latin typeface="隶书"/>
                <a:ea typeface="隶书"/>
              </a:rPr>
              <a:t>学而不思则罔</a:t>
            </a:r>
            <a:r>
              <a:rPr b="1" lang="zh-CN" sz="4800" spc="-1" strike="noStrike">
                <a:solidFill>
                  <a:srgbClr val="f60a31"/>
                </a:solidFill>
                <a:latin typeface="隶书"/>
                <a:ea typeface="隶书"/>
              </a:rPr>
              <a:t>”，</a:t>
            </a:r>
            <a:r>
              <a:rPr b="1" lang="zh-CN" sz="3600" spc="-1" strike="noStrike">
                <a:solidFill>
                  <a:srgbClr val="26da51"/>
                </a:solidFill>
                <a:latin typeface="华文行楷"/>
                <a:ea typeface="华文行楷"/>
              </a:rPr>
              <a:t>那又有什么用呢？如果我们只是一味的死读书，读死书，花费的时间不少，却是事倍功半的。 </a:t>
            </a:r>
            <a:r>
              <a:rPr b="1" lang="zh-CN" sz="4400" spc="-1" strike="noStrike">
                <a:solidFill>
                  <a:srgbClr val="f60a31"/>
                </a:solidFill>
                <a:latin typeface="华文行楷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f60a31"/>
                </a:solidFill>
                <a:latin typeface="隶书"/>
                <a:ea typeface="隶书"/>
              </a:rPr>
              <a:t>业精于勤荒于嬉，行成于思毁于随”，</a:t>
            </a:r>
            <a:r>
              <a:rPr b="1" lang="zh-CN" sz="3600" spc="-1" strike="noStrike">
                <a:solidFill>
                  <a:srgbClr val="26da51"/>
                </a:solidFill>
                <a:latin typeface="华文行楷"/>
                <a:ea typeface="华文行楷"/>
              </a:rPr>
              <a:t>思考是何等的重要，我们要</a:t>
            </a:r>
            <a:r>
              <a:rPr b="1" lang="zh-CN" sz="5400" spc="-1" strike="noStrike">
                <a:solidFill>
                  <a:srgbClr val="f60a31"/>
                </a:solidFill>
                <a:latin typeface="隶书"/>
                <a:ea typeface="隶书"/>
              </a:rPr>
              <a:t>善于思考</a:t>
            </a:r>
            <a:r>
              <a:rPr b="1" lang="zh-CN" sz="3600" spc="-1" strike="noStrike">
                <a:solidFill>
                  <a:srgbClr val="26da51"/>
                </a:solidFill>
                <a:latin typeface="华文行楷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 txBox="1"/>
          <p:nvPr/>
        </p:nvSpPr>
        <p:spPr>
          <a:xfrm>
            <a:off x="468360" y="0"/>
            <a:ext cx="324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ff99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很想告诉你</a:t>
            </a:r>
            <a:endParaRPr b="1" lang="en-US" sz="1800" spc="1" strike="noStrike">
              <a:ln w="6480">
                <a:solidFill>
                  <a:srgbClr val="ffff99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857" name=""/>
          <p:cNvSpPr/>
          <p:nvPr/>
        </p:nvSpPr>
        <p:spPr>
          <a:xfrm>
            <a:off x="324000" y="1341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拉开历史的帷幕，你会发现，古今中外有重大成就的人，在其攀登科学高峰的征途中，都是善于思考的。爱因斯坦狭义相对论的建立，经过了“十年的沉思”，他说：“学习知识要善于思考、思考、再思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牛顿说：“思索，继续不断地思索，以待天曙，渐渐的见得光明，如果说我对世界有些微小贡献的话，那不是由于别的，却只是思索所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这些至理名言都道出一个深刻道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95280" y="4869000"/>
            <a:ext cx="81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240">
                  <a:solidFill>
                    <a:srgbClr val="bbe0e3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成功应归功于善于思考，精心的思索。</a:t>
            </a:r>
            <a:endParaRPr b="1" lang="en-US" sz="1800" spc="1" strike="noStrike">
              <a:ln w="3240">
                <a:solidFill>
                  <a:srgbClr val="bbe0e3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 txBox="1"/>
          <p:nvPr/>
        </p:nvSpPr>
        <p:spPr>
          <a:xfrm>
            <a:off x="684360" y="476280"/>
            <a:ext cx="3671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会怎么做呢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3" name=""/>
          <p:cNvSpPr/>
          <p:nvPr/>
        </p:nvSpPr>
        <p:spPr>
          <a:xfrm>
            <a:off x="250920" y="1844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隶书"/>
              </a:rPr>
              <a:t>当老师讲完一道数学题的做法时，你会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  <a:ea typeface="隶书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26920" y="3068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思考用自己的方法解决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8360" y="414972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当你还没有分析出自己的答案</a:t>
            </a:r>
            <a:r>
              <a:rPr b="1" lang="en-US" sz="4000" spc="-1" strike="noStrike">
                <a:solidFill>
                  <a:srgbClr val="99cc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同学却已把答案说出来了时</a:t>
            </a:r>
            <a:r>
              <a:rPr b="1" lang="en-US" sz="4000" spc="-1" strike="noStrike">
                <a:solidFill>
                  <a:srgbClr val="99cc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你会</a:t>
            </a:r>
            <a:r>
              <a:rPr b="1" lang="en-US" sz="4000" spc="-1" strike="noStrike">
                <a:solidFill>
                  <a:srgbClr val="99cc00"/>
                </a:solidFill>
                <a:latin typeface="隶书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11280" y="530064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不要人云亦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独立思考是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2754360" cy="31240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 txBox="1"/>
          <p:nvPr/>
        </p:nvSpPr>
        <p:spPr>
          <a:xfrm>
            <a:off x="990720" y="1447920"/>
            <a:ext cx="5181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隶书"/>
              </a:rPr>
              <a:t>畅所欲言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7467480" y="5181480"/>
            <a:ext cx="1173240" cy="117324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12189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539640" y="0"/>
            <a:ext cx="230976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地名谜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2" name=""/>
          <p:cNvSpPr/>
          <p:nvPr/>
        </p:nvSpPr>
        <p:spPr>
          <a:xfrm>
            <a:off x="152280" y="2590920"/>
            <a:ext cx="6782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50920" y="1773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季花开    （猜中国一城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67280" y="2421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长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27813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海上绿舟    （猜中国一城市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419640" y="3500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4000" y="393372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老太太梳头不用油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中国一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28472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甘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24000" y="5229360"/>
            <a:ext cx="761976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冷不热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（猜中国一城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温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50920" y="33336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约在清晨   （猜外国一城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28600" y="144792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昏                  （猜中国一城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2280" y="2666880"/>
            <a:ext cx="78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是第一                （猜中国一城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28600" y="3962520"/>
            <a:ext cx="777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想多挣钱        （ 猜一国名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91120" y="9144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约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11480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洛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038480" y="3352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包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038480" y="4724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意大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52280" y="304920"/>
            <a:ext cx="754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都笑你        （猜中国一城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" y="1523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造丘陵           （猜一国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28600" y="2895480"/>
            <a:ext cx="7467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官进羊圈       （猜中国一城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" y="4343400"/>
            <a:ext cx="723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言不惭         （猜中国一城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齐齐哈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86200" y="2209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新加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86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沈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3434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335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东方有战事     （猜中国一城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33520" y="1676520"/>
            <a:ext cx="70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路平安        （猜中国一城市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7200" y="297180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万事太平           （猜中国一城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476080" y="4292640"/>
            <a:ext cx="29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没有女人的地方 （猜外国一城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7283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西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80428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旅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956920" y="3505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永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9032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汉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468360" y="26233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同学们</a:t>
            </a:r>
            <a:r>
              <a:rPr b="1" lang="en-US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我思故我在</a:t>
            </a:r>
            <a:r>
              <a:rPr b="1" lang="en-US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只要努力做到独立思考</a:t>
            </a:r>
            <a:r>
              <a:rPr b="1" lang="en-US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f40ce3"/>
                </a:solidFill>
                <a:latin typeface="华文行楷"/>
                <a:ea typeface="华文行楷"/>
              </a:rPr>
              <a:t>用自己的方法解决问题，主动培养自己思维的灵活性，那么你就会成为真正懂得思考的人，真正会思考的人，到那时，思考就会成为一座桥，是一架通向新知识的桥，是一架通往成功之路的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1620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619280" y="549360"/>
            <a:ext cx="604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的漫漫长路始于脚下，希望就在你们自己的手中，我们衷心的希望大家能够</a:t>
            </a:r>
            <a:r>
              <a:rPr b="1" i="1" lang="zh-CN" sz="4800" spc="-1" strike="noStrike">
                <a:solidFill>
                  <a:srgbClr val="f40ce3"/>
                </a:solidFill>
                <a:latin typeface="Times New Roman"/>
                <a:ea typeface="黑体"/>
              </a:rPr>
              <a:t>乐于学习，善于思考，积极上进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在你的学习之路上不再有荆棘和苦恼，而是布满了鲜花与掌声！让我们在学习中不断获得快乐，在快乐中不断成长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2124000" cy="18716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395280" y="148428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  <a:ea typeface="隶书"/>
              </a:rPr>
              <a:t>当初，我们就是这样来到人世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 txBox="1"/>
          <p:nvPr/>
        </p:nvSpPr>
        <p:spPr>
          <a:xfrm>
            <a:off x="990720" y="304920"/>
            <a:ext cx="7619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今天，我们还是一株幼苗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 txBox="1"/>
          <p:nvPr/>
        </p:nvSpPr>
        <p:spPr>
          <a:xfrm>
            <a:off x="826920" y="981000"/>
            <a:ext cx="754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明天，我们是国家栋梁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070480" y="151920"/>
            <a:ext cx="78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324000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66"/>
                </a:solidFill>
                <a:latin typeface="Comic Sans MS"/>
                <a:ea typeface="隶书"/>
              </a:rPr>
              <a:t>乘风破浪会有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66"/>
                </a:solidFill>
                <a:latin typeface="Comic Sans MS"/>
                <a:ea typeface="隶书"/>
              </a:rPr>
              <a:t>直挂云帆济沧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5148360" y="1981080"/>
            <a:ext cx="388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是不是像我在太阳下低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流着汗水默默辛苦的工作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是不是像我就算受了冷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不放弃自己想要的生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是不是像我整天忙着追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追求一种意想不到的温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是不是像我曾经茫然失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次一次徘徊在十字街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因为我不在乎别人怎么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从来没有忘记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自己的承诺对爱的执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1332000" y="333360"/>
            <a:ext cx="39337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我的未来不是梦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876240" cy="131472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4346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在太阳下低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流着汗水默默辛苦的工作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就算受了冷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也不放弃自己想要的生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整天忙着追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追求一种意想不到的温柔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你是不是像我曾经茫然失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一次一次徘徊在十字街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因为我不在乎别人怎么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我从来没有忘记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对自己的承诺对爱的执著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3952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313246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2057400" y="304920"/>
            <a:ext cx="5493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84360" y="1052640"/>
            <a:ext cx="779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70fca5"/>
                </a:solidFill>
                <a:latin typeface="Arial"/>
              </a:rPr>
              <a:t> </a:t>
            </a:r>
            <a:r>
              <a:rPr b="0" i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祝愿大家期中考试考出好成绩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2808360" cy="249264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971640" y="3789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  <a:ea typeface="隶书"/>
              </a:rPr>
              <a:t>开始的日子很幸福，除了吃和睡，什么都不用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2663640" cy="23050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684360" y="39337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  <a:ea typeface="隶书"/>
              </a:rPr>
              <a:t>慢慢的，开始对周围的一切感兴趣。那时的眼睛，是纯净的、明亮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-320760" y="1052640"/>
            <a:ext cx="9788760" cy="60483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r>
              <a:rPr b="1" lang="zh-CN" sz="4400" spc="-1" strike="noStrike">
                <a:solidFill>
                  <a:srgbClr val="3366cc"/>
                </a:solidFill>
                <a:latin typeface="Arial"/>
                <a:ea typeface="隶书"/>
              </a:rPr>
              <a:t>姗姗学步时，我们便开始挑战自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-249120" y="-239760"/>
            <a:ext cx="9717120" cy="734076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0" y="5734080"/>
            <a:ext cx="1022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  <a:ea typeface="隶书"/>
              </a:rPr>
              <a:t>刚入幼儿园的我，一脸的调皮与可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2484360" y="2060640"/>
            <a:ext cx="3994200" cy="28083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-106200" y="-25560"/>
            <a:ext cx="88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如今，我们已是高中生，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隶书"/>
              </a:rPr>
              <a:t>在老师的心中，每一位同学都是如此的可爱，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  <a:ea typeface="隶书"/>
              </a:rPr>
              <a:t>51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隶书"/>
              </a:rPr>
              <a:t>位同学组成一个大家庭。家庭里的每一位成员都宽容而谦让，于是这个大家庭变得团结、和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3994200" cy="2565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4"/>
          <a:stretch/>
        </p:blipFill>
        <p:spPr>
          <a:xfrm>
            <a:off x="5149800" y="4016520"/>
            <a:ext cx="3994200" cy="28414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5"/>
          <a:stretch/>
        </p:blipFill>
        <p:spPr>
          <a:xfrm>
            <a:off x="5149800" y="2060640"/>
            <a:ext cx="3994200" cy="28414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6"/>
          <a:stretch/>
        </p:blipFill>
        <p:spPr>
          <a:xfrm>
            <a:off x="-393840" y="1989000"/>
            <a:ext cx="3990960" cy="28418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7"/>
          <a:stretch/>
        </p:blipFill>
        <p:spPr>
          <a:xfrm>
            <a:off x="0" y="3860640"/>
            <a:ext cx="39942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0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22:48:11Z</dcterms:modified>
  <cp:revision>51</cp:revision>
  <dc:subject>主题班会课件(分28大类): http://shop62905894.taobao.com</dc:subject>
  <dc:title>主题班会课件(分28大类): http://shop62905894.taobao.com</dc:title>
</cp:coreProperties>
</file>