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5E9E-26D4-4AEC-80E2-DE819AFD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50D-598E-4130-94B4-1D476970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F483-20C5-494A-BCEB-1E142DED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8B80-D13A-4E74-8DFB-8D33FCC0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E75-0A0F-4002-B5F0-D4661F0C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0E74-6CD1-4139-8A3E-80D3FF62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9396-75B3-47B2-ACA0-D67EE7FA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E1A1-ADA0-4C90-9502-F421A168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0C6-E54E-4432-9FB7-C7F13F10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D41-7801-4634-9B18-BDCF2999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99D7-5F5F-44F9-8133-CACDD281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A128-4004-4FA4-8A6B-9E252E2C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21E3-ED02-49DB-B55F-4CD25BEEB3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理科要想学好我觉得应该从以下几个方面入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是要通过认真的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学习、思考、总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不断提高自己对理科的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兴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有了兴趣你就容易走进理科这个殿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是要重视老师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上课讲课的内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做到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专心听讲、思维活跃、勤于动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也就是对老师讲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基本概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集中注意力去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理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每个概念的含义要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深刻领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对老师讲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例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要迅速理出自己的思路，对照老师的解法看看有何不同，若是不同就要迅速判断是对还是错，要是错了一定要找到错误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原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若是相同，更好能找出其它的方法，近而能总结出解决这一类问题的其它方法，不断提高自己解决理科问题的能力，为学好理科打下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基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三是要重视老师留得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课外作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做作业时一定要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勤于思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认真对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从中挖掘自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解题的方法和能力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是重视作业以外的一定量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习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练习，题目要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精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选择一些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典型的题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在做的过程中，注意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题多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不要只追求数量，题见多了解题的能力也就提高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五条一定要重视理科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章节的总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将分散的知识连贯起来，相溶于混淆的知识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理解透彻，融汇贯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六，想学好理科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提高兴趣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必须准备好要吃大苦，因为理科它是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着重理解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科目，不下功夫就不可能提高学好理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但是也希望你对理科不要有一种惧怕的情感，要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敢于摸索、敢于探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总结出自己学好理科的一套方法和规律。最后祝愿你早日把理科学好，为学好其他学科打下基础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28:01Z</dcterms:modified>
  <cp:revision>1</cp:revision>
  <dc:subject>主题班会课件(分28大类): http://shop62905894.taobao.com</dc:subject>
  <dc:title>主题班会课件(分28大类): http://shop62905894.taobao.com</dc:title>
</cp:coreProperties>
</file>